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C48C-2977-41E8-A85F-D0978CE6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1F14-A6A7-4BF5-864F-A951EB696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6F07F-9013-4D4C-A86F-30346C59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0E5D-13CC-47ED-98D8-4FE46398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0DB61-C8A8-49DA-B4F8-5CDB5C855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536A5-8845-4242-918C-B6279D7B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DBEB-1D57-4A81-873A-06D542994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47C6-01EE-420E-8B79-CEC63159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5A6-19B1-410F-8106-8C457843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A445-24E3-4277-85F9-1F7B199C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D810D-C5AC-4157-A886-2C6DFD04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0F00E-6376-4C22-B877-19BEA1E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B9C83-8077-4546-B7FE-083906CB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8E7B-75F3-4F0F-98BF-EE32D32F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2183-17EA-4C12-B6A2-CCA5AF1F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D8BF9-5DAB-4866-8B3C-2C550242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FBB2-7D3D-4BAF-BA82-558ED7E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ADA6-F8C5-4B41-B5D7-5EC9C0282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F8D4-3E32-44BB-BD4B-3188DF619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7DC5-6156-4DB0-81F4-4BECE3DB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BB8B9-8E27-4FB0-9951-5EE6F51B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CAFE3-707A-4F3C-A1BA-B7B660B6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AC55F-67F8-44BD-9E6E-2B0F27FA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35955-AF07-4AD4-8534-C7986181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FF3CE-7949-4E01-8CA5-CE5C210D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5E076-BD21-4C67-A114-46B054D6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0787-6238-4C4C-8887-3C0C25D48F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Text Box 17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0E69-7D26-4CD3-96EB-DCD327384C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pter 12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ison and Evaluation of Alternative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F5C-1AAC-4D21-883F-9FC319729A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ampling with Equal Varianc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it is reasonable to assume that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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approximately) or i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a two-sample-t confidence-interval approach can be used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estimate of the mean performance differenc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ple variance for system i i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oled estimate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I. is given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4"/>
              <p:cNvSpPr txBox="1"/>
              <p:nvPr/>
            </p:nvSpPr>
            <p:spPr>
              <a:xfrm>
                <a:off x="3124080" y="2681280"/>
                <a:ext cx="83844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3276720" y="5181480"/>
                <a:ext cx="266688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υ</m:t>
                        </m:r>
                      </m:sub>
                    </m:sSub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6"/>
              <p:cNvSpPr txBox="1"/>
              <p:nvPr/>
            </p:nvSpPr>
            <p:spPr>
              <a:xfrm>
                <a:off x="2077920" y="3305160"/>
                <a:ext cx="43135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acc>
                              <m:accPr>
                                <m:chr m:val="¯"/>
                              </m:accPr>
                              <m:e/>
                            </m:acc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7"/>
              <p:cNvSpPr txBox="1"/>
              <p:nvPr/>
            </p:nvSpPr>
            <p:spPr>
              <a:xfrm>
                <a:off x="1774800" y="4381560"/>
                <a:ext cx="7140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,       where </m:t>
                    </m:r>
                    <m:r>
                      <m:t xml:space="preserve">υ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 degrees of freedo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8"/>
              <p:cNvSpPr txBox="1"/>
              <p:nvPr/>
            </p:nvSpPr>
            <p:spPr>
              <a:xfrm>
                <a:off x="3276720" y="5715000"/>
                <a:ext cx="24336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F448-0DC8-4F38-A8A0-C98AFB0B2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ampling with Unequal Var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ssumption of equal variances cannot safely be made, an approxima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0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i. for can be computed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degrees of freedo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number of replic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gt;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gt;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commen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7"/>
              <p:cNvSpPr txBox="1"/>
              <p:nvPr/>
            </p:nvSpPr>
            <p:spPr>
              <a:xfrm>
                <a:off x="1600200" y="3809880"/>
                <a:ext cx="6400800" cy="100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sSubSup>
                                              <m:e>
                                                <m:r>
                                                  <m:t xml:space="preserve">S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1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fPr>
                                <m:type m:val="lin"/>
                              </m:fPr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sSubSup>
                                              <m:e>
                                                <m:r>
                                                  <m:t xml:space="preserve">S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  <m:sup>
                                                <m:r>
                                                  <m:t xml:space="preserve">2</m:t>
                                                </m:r>
                                              </m:sup>
                                            </m:sSubSup>
                                          </m:num>
                                          <m:den>
                                            <m:sSub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2</m:t>
                                                </m:r>
                                              </m:sub>
                                            </m:sSub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den>
                            </m:f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,    round to an interge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3152880" y="2444760"/>
                <a:ext cx="27144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5F5B-FAF3-4315-AFAC-6C0D1D74B5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ndom Numbers (C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each replication, the same random numbers are used to simulate both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re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two estimate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ndependent streams of random numbers are used on different replications, so the pair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) are mutually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rpose: induce positive correlation between           (for eac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to reduce variance in the point estimator of         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 of           arising from CRN is less than that of independent sampling (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6"/>
          <p:cNvGraphicFramePr/>
          <p:nvPr/>
        </p:nvGraphicFramePr>
        <p:xfrm>
          <a:off x="6539040" y="3863880"/>
          <a:ext cx="63648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39040" y="3863880"/>
                    <a:ext cx="63648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1828800" y="4572000"/>
                <a:ext cx="40384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6" name="AutoShape 9"/>
          <p:cNvSpPr/>
          <p:nvPr/>
        </p:nvSpPr>
        <p:spPr>
          <a:xfrm rot="16200000">
            <a:off x="6477120" y="4800600"/>
            <a:ext cx="761760" cy="914400"/>
          </a:xfrm>
          <a:prstGeom prst="wedgeRoundRectCallout">
            <a:avLst>
              <a:gd name="adj1" fmla="val -5416"/>
              <a:gd name="adj2" fmla="val -235763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posi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2666880" y="5773680"/>
                <a:ext cx="60984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6477120" y="4168800"/>
                <a:ext cx="761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04AB-B427-4741-87B8-CCE9F6A114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ndom Numbers (CRN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stimator based on CRN is more precise, leading to a shorter confidence interval for the differ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variance of the differences              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4"/>
              <p:cNvSpPr txBox="1"/>
              <p:nvPr/>
            </p:nvSpPr>
            <p:spPr>
              <a:xfrm>
                <a:off x="5715000" y="2289240"/>
                <a:ext cx="121932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=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5"/>
              <p:cNvSpPr txBox="1"/>
              <p:nvPr/>
            </p:nvSpPr>
            <p:spPr>
              <a:xfrm>
                <a:off x="1752480" y="2860560"/>
                <a:ext cx="6782040" cy="15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D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r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R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  <m:sSup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D</m:t>
                                        </m:r>
                                      </m:e>
                                    </m:acc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where  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-Y</m:t>
                            </m:r>
                          </m:e>
                          <m:sub>
                            <m:r>
                              <m:t xml:space="preserve">r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and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D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,  with degress of freedom </m:t>
                    </m:r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8"/>
              <p:cNvSpPr txBox="1"/>
              <p:nvPr/>
            </p:nvSpPr>
            <p:spPr>
              <a:xfrm>
                <a:off x="2878200" y="5065560"/>
                <a:ext cx="276048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D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0358-DF2B-49C8-AD26-911E86D28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ndom Numbers (C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never enough to simply use the same seed for the random-number generator(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dom numbers must be synchronized: each random number used in one model for some purpose should be used for the same purpose in the other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i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dom number is used to generate a service time at work st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rival in model 1,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ndom number should be used for the very same purpose in model 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6015-BEA6-4F10-A2C2-3E09F8CC04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ndom Numbers (C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nspection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input random variab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terarrival time between vehicl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inspection time for task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vehicl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odel 1 (i=1,2,3; refers to brake, headlight and steering task, respective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using CR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e values should be generated for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in both mod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service time for model 2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ss.  2 possible approaches to obtain the service tim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be the service times generated for model 1, use: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- 0.1E[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Z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 as the standard normal variate,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0.5 minut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use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[S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] +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(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synchronized runs: the service times for a vehicle were generated at the instant of arrival and stored as its attribute and used as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E110-F5CB-496F-B61E-1ECBC48D5A2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andom Numbers (CR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 inspection example (cont.)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the two systems using independent sampling and CRN wher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=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see Table 12.2 for result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ampl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N without synchron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N with synchroniz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upper bound indicates that system 2 is at almost 1.30 minutes faster in expectation.  Is such a difference practically significa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Object 14"/>
              <p:cNvSpPr txBox="1"/>
              <p:nvPr/>
            </p:nvSpPr>
            <p:spPr>
              <a:xfrm>
                <a:off x="4719600" y="3657600"/>
                <a:ext cx="23670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minut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1219320" y="5141880"/>
                <a:ext cx="57150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,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,  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,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-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7"/>
              <p:cNvSpPr txBox="1"/>
              <p:nvPr/>
            </p:nvSpPr>
            <p:spPr>
              <a:xfrm>
                <a:off x="4343400" y="2576520"/>
                <a:ext cx="22096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minut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9"/>
              <p:cNvSpPr txBox="1"/>
              <p:nvPr/>
            </p:nvSpPr>
            <p:spPr>
              <a:xfrm>
                <a:off x="1219320" y="4114800"/>
                <a:ext cx="60958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r>
                      <m:t xml:space="preserve">υ</m:t>
                    </m:r>
                    <m:r>
                      <m:t xml:space="preserve">=</m:t>
                    </m:r>
                    <m:r>
                      <m:t xml:space="preserve">9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,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,  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,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 -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20"/>
              <p:cNvSpPr txBox="1"/>
              <p:nvPr/>
            </p:nvSpPr>
            <p:spPr>
              <a:xfrm>
                <a:off x="4572000" y="4724280"/>
                <a:ext cx="2362320" cy="41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 minut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ct 21"/>
              <p:cNvSpPr txBox="1"/>
              <p:nvPr/>
            </p:nvSpPr>
            <p:spPr>
              <a:xfrm>
                <a:off x="1233360" y="3048120"/>
                <a:ext cx="751392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ith </m:t>
                    </m:r>
                    <m:r>
                      <m:t xml:space="preserve">υ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  t</m:t>
                        </m:r>
                      </m:e>
                      <m:sub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,1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,  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  and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,   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:   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-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E451-C873-4873-BD05-92C9BAC89D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N with Specified Prec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The error in our estimate of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be less than   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ach: determine the number of replication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 the half-width of c.i.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 inspection example (cont.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omplete synchronization of random numbers yield 95% c.i.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 for practical significance, we know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mallest integer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                           , a conservation estimat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35 replications are needed (25 addition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ct 6"/>
              <p:cNvSpPr txBox="1"/>
              <p:nvPr/>
            </p:nvSpPr>
            <p:spPr>
              <a:xfrm>
                <a:off x="3505320" y="2232000"/>
                <a:ext cx="243828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υ</m:t>
                        </m:r>
                      </m:sub>
                    </m:sSub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≤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94" name="Object 10"/>
          <p:cNvGraphicFramePr/>
          <p:nvPr/>
        </p:nvGraphicFramePr>
        <p:xfrm>
          <a:off x="7848720" y="1535040"/>
          <a:ext cx="253800" cy="28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535040"/>
                    <a:ext cx="253800" cy="2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6" name="Object 12"/>
              <p:cNvSpPr txBox="1"/>
              <p:nvPr/>
            </p:nvSpPr>
            <p:spPr>
              <a:xfrm>
                <a:off x="1981080" y="3352680"/>
                <a:ext cx="175284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4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  minute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15"/>
              <p:cNvSpPr txBox="1"/>
              <p:nvPr/>
            </p:nvSpPr>
            <p:spPr>
              <a:xfrm>
                <a:off x="6172200" y="3962520"/>
                <a:ext cx="182880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16"/>
              <p:cNvSpPr txBox="1"/>
              <p:nvPr/>
            </p:nvSpPr>
            <p:spPr>
              <a:xfrm>
                <a:off x="3206880" y="5022720"/>
                <a:ext cx="189864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Object 17"/>
              <p:cNvSpPr txBox="1"/>
              <p:nvPr/>
            </p:nvSpPr>
            <p:spPr>
              <a:xfrm>
                <a:off x="2057400" y="4724280"/>
                <a:ext cx="17812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561A-2D75-4803-9BFA-8360BF20CE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Several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compare K alternative system desig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d on some specific performance measure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f sys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,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 = 1, 2, …, 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dures are classified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ed-sample-size procedures: predetermined sample size is used to draw inferences via hypothesis tests of confidence inter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tial sampling (multistage): more and more data are collected until an estimator with a prespecified precision is achieved or until one of several alternative hypotheses is selec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me goals/approaches of system compariso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on of each paramet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of each performance measu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o control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irwise comparisons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or all i not equal to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ion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202D-A6BA-4585-897D-DE698818C9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make statements about several parameters simultaneously, (where all statements are true simultaneously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onferroni inequal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mall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, the wider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fidence interval will 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advantage: inequality holds whether models are run with independent sampling or CR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jor disadvantage: width of each individual interval increases as the number of comparisons increas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4"/>
              <p:cNvSpPr txBox="1"/>
              <p:nvPr/>
            </p:nvSpPr>
            <p:spPr>
              <a:xfrm>
                <a:off x="1371600" y="2590920"/>
                <a:ext cx="5791320" cy="85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ll statements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are true, </m:t>
                    </m:r>
                    <m:r>
                      <m:rPr>
                        <m:lit/>
                        <m:nor/>
                      </m:rPr>
                      <m:t xml:space="preserve">i 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,C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C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AutoShape 11"/>
          <p:cNvSpPr/>
          <p:nvPr/>
        </p:nvSpPr>
        <p:spPr>
          <a:xfrm rot="16200000">
            <a:off x="5181480" y="1615320"/>
            <a:ext cx="609480" cy="4267440"/>
          </a:xfrm>
          <a:prstGeom prst="wedgeRoundRectCallout">
            <a:avLst>
              <a:gd name="adj1" fmla="val 105726"/>
              <a:gd name="adj2" fmla="val 32138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verall error probabilit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provides an upper bound on the probability of a false concl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9464-E6F8-4127-9AE3-6530AF3FD0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: comparison of alternative system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: discuss a few of many statistical methods that can be used to compare two or more system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analysis is needed to discover whether observed differences are du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design or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andom fluctuation inherent in the 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312B-B86A-4E1D-AA38-BE09D140F6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be used only when a small number of comparisons are ma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upper limit: about 20 comparis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 possible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c.i.’s:  Construc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(1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i. for paramet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# of comparis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 to an existing system:   Construc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(1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i. for paramet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 = 2,3, …K), where # of comparis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 –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irwise:  For any 2 different system designs, construct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(1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i. for paramete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Hence, total # of comparis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(K – 1)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E4A8-BC2D-4C5F-A084-C9BB3B1F21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 to Selecting the B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ong K system designs, to find the best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” - the maximum expected performance, wher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sign has expected perform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cus on parameter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ystem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best, it is the difference in performance between the best and the second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ystem desig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the best, it is the difference between sys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the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the probability of selecting the best system is at least 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whenever                        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both the probability of correct sele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the practically significant differe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under our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wo-stag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4"/>
              <p:cNvSpPr txBox="1"/>
              <p:nvPr/>
            </p:nvSpPr>
            <p:spPr>
              <a:xfrm>
                <a:off x="3733920" y="2556000"/>
                <a:ext cx="327636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2967120" y="4700520"/>
                <a:ext cx="18334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4389-398D-4570-8765-AFD4E59F99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 to Selecting the B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 inspection example (cont.):  Consider K = 4 different designs for the inspection st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95% confidence of selecting the best (with smallest expected response time) 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inimization problem: focus on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2, 1-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0.95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=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.0167,9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2.5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12.5, we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rgest sample variance                                         , henc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5 - 10 = 3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eplications of each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4"/>
              <p:cNvSpPr txBox="1"/>
              <p:nvPr/>
            </p:nvSpPr>
            <p:spPr>
              <a:xfrm>
                <a:off x="5126040" y="2895480"/>
                <a:ext cx="32353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1295280" y="3903840"/>
                <a:ext cx="75438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57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19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4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2494080" y="4648320"/>
                <a:ext cx="47671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508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∗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498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,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4572000" y="4343400"/>
                <a:ext cx="2666880" cy="41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≠</m:t>
                        </m:r>
                        <m:r>
                          <m:t xml:space="preserve">j</m:t>
                        </m:r>
                      </m:sub>
                    </m:sSub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98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53BC-997C-4F8B-974C-6D910A6DFB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 to Selecting the Bes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hicle inspection example (cont.):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overall sample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the system with small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is the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 the confidence interva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, for maximization probl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ce for comparison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.i. 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Object 4"/>
              <p:cNvSpPr txBox="1"/>
              <p:nvPr/>
            </p:nvSpPr>
            <p:spPr>
              <a:xfrm>
                <a:off x="3505320" y="2286000"/>
                <a:ext cx="137160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Object 9"/>
              <p:cNvSpPr txBox="1"/>
              <p:nvPr/>
            </p:nvSpPr>
            <p:spPr>
              <a:xfrm>
                <a:off x="4873680" y="3124080"/>
                <a:ext cx="384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bar>
                          <m:barPr>
                            <m:pos m:val="top"/>
                          </m:bar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</m:e>
                        </m:ba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Object 11"/>
              <p:cNvSpPr txBox="1"/>
              <p:nvPr/>
            </p:nvSpPr>
            <p:spPr>
              <a:xfrm>
                <a:off x="1085760" y="4267080"/>
                <a:ext cx="73724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12"/>
              <p:cNvSpPr txBox="1"/>
              <p:nvPr/>
            </p:nvSpPr>
            <p:spPr>
              <a:xfrm>
                <a:off x="5105520" y="5522760"/>
                <a:ext cx="123336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13"/>
              <p:cNvSpPr txBox="1"/>
              <p:nvPr/>
            </p:nvSpPr>
            <p:spPr>
              <a:xfrm>
                <a:off x="2819520" y="5729400"/>
                <a:ext cx="5867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Y</m:t>
                                    </m:r>
                                  </m:e>
                                </m:bar>
                              </m:e>
                            </m:ba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294E-D7B1-457F-9633-AAB42BA160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nferroni Approach for Screen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ultiple Comparis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screening (subset selection) procedure is useful when a two-stage procedure isn’t possible or when too many syst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reening procedure: The retained subset contains the true best system with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robability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1-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when the data are normally distributed (independent sampling or CRN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common sample size from each system and R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eplications of sys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obta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 &lt; 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sys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 = 1,2, …, 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the sample means for all systems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sample variance of the difference for every system pair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igger is better, then retain sys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elected subset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maller is better, then retain syste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selected subset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Object 10"/>
          <p:cNvGraphicFramePr/>
          <p:nvPr/>
        </p:nvGraphicFramePr>
        <p:xfrm>
          <a:off x="7893000" y="4495680"/>
          <a:ext cx="336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93000" y="4495680"/>
                    <a:ext cx="336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36" name="Object 12"/>
              <p:cNvSpPr txBox="1"/>
              <p:nvPr/>
            </p:nvSpPr>
            <p:spPr>
              <a:xfrm>
                <a:off x="5759280" y="4114800"/>
                <a:ext cx="355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37" name="Object 14"/>
          <p:cNvGraphicFramePr/>
          <p:nvPr/>
        </p:nvGraphicFramePr>
        <p:xfrm>
          <a:off x="3124080" y="5235480"/>
          <a:ext cx="2743200" cy="55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5235480"/>
                    <a:ext cx="2743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16"/>
          <p:cNvGraphicFramePr/>
          <p:nvPr/>
        </p:nvGraphicFramePr>
        <p:xfrm>
          <a:off x="3205080" y="6121440"/>
          <a:ext cx="2509920" cy="50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0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5080" y="6121440"/>
                    <a:ext cx="250992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B586-80CC-4B37-8023-3FDAB7E54D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mo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al: describe the relationship between variables and the output respons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simulation output response variable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is related to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ndependent variable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the design variable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true relationship between variable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represented by a (complex) simulation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the relationship by a simpler mathematical function called a metamodel, some metamodel for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ar reg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linear regres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BDEAE-6833-40B8-A14D-1978FC4F91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se the true relationship betwe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suspected to be linear, the expected value o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a given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: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(Y|x)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intercept on the Y axis,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lo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observation of Y can be described by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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random error with mean zero and constant varia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1BA3-C1ED-4974-9BBF-469D58D7A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re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irs observations, the method of least squares is commonly used to estimat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um of squares of the deviation between the observations and the regression line is minim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7" descr="12-3"/>
          <p:cNvPicPr/>
          <p:nvPr/>
        </p:nvPicPr>
        <p:blipFill>
          <a:blip r:embed="rId1"/>
          <a:stretch/>
        </p:blipFill>
        <p:spPr>
          <a:xfrm>
            <a:off x="1905120" y="3218040"/>
            <a:ext cx="4800600" cy="272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538E-9DDC-4F1D-8B78-08DBE4EC06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Linear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dividual observation can be written a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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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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 assumed to be uncorrelated r.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ast-square function (the sum of squares of the deviation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inim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ind                               , set each to zero, and solve for: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4"/>
              <p:cNvSpPr txBox="1"/>
              <p:nvPr/>
            </p:nvSpPr>
            <p:spPr>
              <a:xfrm>
                <a:off x="2286000" y="2666880"/>
                <a:ext cx="243828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Object 6"/>
              <p:cNvSpPr txBox="1"/>
              <p:nvPr/>
            </p:nvSpPr>
            <p:spPr>
              <a:xfrm>
                <a:off x="1523880" y="3048120"/>
                <a:ext cx="4038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here 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   and 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Object 8"/>
              <p:cNvSpPr txBox="1"/>
              <p:nvPr/>
            </p:nvSpPr>
            <p:spPr>
              <a:xfrm>
                <a:off x="1082520" y="4114800"/>
                <a:ext cx="66135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Sup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Sup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β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Object 11"/>
              <p:cNvSpPr txBox="1"/>
              <p:nvPr/>
            </p:nvSpPr>
            <p:spPr>
              <a:xfrm>
                <a:off x="3124080" y="4724280"/>
                <a:ext cx="205740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∂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</m:den>
                    </m:f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∂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</m:den>
                    </m:f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Object 12"/>
              <p:cNvSpPr txBox="1"/>
              <p:nvPr/>
            </p:nvSpPr>
            <p:spPr>
              <a:xfrm>
                <a:off x="1650960" y="5052960"/>
                <a:ext cx="5162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sSubSu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and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β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9" name="AutoShape 13"/>
          <p:cNvSpPr/>
          <p:nvPr/>
        </p:nvSpPr>
        <p:spPr>
          <a:xfrm rot="16200000">
            <a:off x="2361960" y="5181480"/>
            <a:ext cx="457200" cy="2438280"/>
          </a:xfrm>
          <a:prstGeom prst="wedgeRoundRectCallout">
            <a:avLst>
              <a:gd name="adj1" fmla="val 184023"/>
              <a:gd name="adj2" fmla="val 8508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x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corrected sum of cross product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4"/>
          <p:cNvSpPr/>
          <p:nvPr/>
        </p:nvSpPr>
        <p:spPr>
          <a:xfrm rot="16200000">
            <a:off x="6134040" y="4762440"/>
            <a:ext cx="380880" cy="3352680"/>
          </a:xfrm>
          <a:prstGeom prst="wedgeRoundRectCallout">
            <a:avLst>
              <a:gd name="adj1" fmla="val 168328"/>
              <a:gd name="adj2" fmla="val -43564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x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corrected sum of squares of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5899-BF6E-4756-B922-497D28DE0F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ignificance of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adequacy of a simple linear relationship should be tested prior to using the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whether the order of the model tentatively assumed is correct, commonly called the “lack-of-fit”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dequacy of the assumptions that errors a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ID(0,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and should be checked by residual analy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3580-B33C-4942-B6EF-DE886550A2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wo-system compariso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ependent samp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lated sampling (common random numb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ultiple system compari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ferroni approach: confidence-interval estimation, screening, and selecting the b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E9D2-998B-4A1C-B1AF-C6AC6D84D4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1" descr="12-6"/>
          <p:cNvPicPr/>
          <p:nvPr/>
        </p:nvPicPr>
        <p:blipFill>
          <a:blip r:embed="rId1"/>
          <a:stretch/>
        </p:blipFill>
        <p:spPr>
          <a:xfrm>
            <a:off x="2743200" y="4759200"/>
            <a:ext cx="3201840" cy="16416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ignificance of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othesis test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rej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icates no linear relationship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rejected, implies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explain the variabilit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ut there may be in higher-order te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4"/>
              <p:cNvSpPr txBox="1"/>
              <p:nvPr/>
            </p:nvSpPr>
            <p:spPr>
              <a:xfrm>
                <a:off x="3733920" y="1511280"/>
                <a:ext cx="320040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and  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" name="AutoShape 7"/>
          <p:cNvSpPr/>
          <p:nvPr/>
        </p:nvSpPr>
        <p:spPr>
          <a:xfrm rot="16200000">
            <a:off x="1904760" y="5104800"/>
            <a:ext cx="304920" cy="2743200"/>
          </a:xfrm>
          <a:prstGeom prst="wedgeRoundRectCallout">
            <a:avLst>
              <a:gd name="adj1" fmla="val 117703"/>
              <a:gd name="adj2" fmla="val 35703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ght-line model is adequ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8"/>
          <p:cNvSpPr/>
          <p:nvPr/>
        </p:nvSpPr>
        <p:spPr>
          <a:xfrm rot="16200000">
            <a:off x="6629040" y="5104800"/>
            <a:ext cx="304920" cy="2743200"/>
          </a:xfrm>
          <a:prstGeom prst="wedgeRoundRectCallout">
            <a:avLst>
              <a:gd name="adj1" fmla="val 128643"/>
              <a:gd name="adj2" fmla="val -39180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igher-order term is necess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9" descr="12-5"/>
          <p:cNvPicPr/>
          <p:nvPr/>
        </p:nvPicPr>
        <p:blipFill>
          <a:blip r:embed="rId2"/>
          <a:stretch/>
        </p:blipFill>
        <p:spPr>
          <a:xfrm>
            <a:off x="2666880" y="2362320"/>
            <a:ext cx="3200400" cy="166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CDA2-06AF-423F-BF90-D624F7AA6A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for Significance of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ppropriate test statistic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ean squared error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ch is an unbiased estimator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V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istribution with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grees of freed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&gt;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/2, n-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3657600" y="1828800"/>
                <a:ext cx="17064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xx</m:t>
                                    </m:r>
                                  </m:sub>
                                </m:sSub>
                              </m:den>
                            </m:f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Object 10"/>
              <p:cNvSpPr txBox="1"/>
              <p:nvPr/>
            </p:nvSpPr>
            <p:spPr>
              <a:xfrm>
                <a:off x="2971800" y="2895480"/>
                <a:ext cx="3276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yy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B0D-78D7-4F9E-8D0F-F943030C50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Linear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ose simulation outp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as several independent variables (decision variables).  The possible relationship forms ar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…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B604-CE78-4895-A23A-E2946B7340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-Number Assignment for Regres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Metamodeling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dependent sampl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a different seed or stream to different design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that the responses Y from different design points will be significantly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same random number seeds or streams for all of the design poi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airer comparison among design points (subjected to the same experimental condi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reduces variance of estimators of slope parameters, but increases variance of intercept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794EE-19DB-4B06-9414-716943FDC4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via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ation usually deals with problems with certainty, but in stochastic discrete-event simulation, the result of any simulation run is a random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trollable design variables &amp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observed simulation output performance on one ru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o optimize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Y(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with respect to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is to maximize or minimize the mathematical expectation (long-run average) of performance, 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E[Y(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ff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ff0000"/>
                </a:solidFill>
                <a:latin typeface="Arial"/>
              </a:rPr>
              <a:t>)]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select the material handling system that has the best chance of costing less th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$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urchase and ope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: maximiz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(Y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 a new performance measu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ximize E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’(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) inst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5"/>
              <p:cNvSpPr txBox="1"/>
              <p:nvPr/>
            </p:nvSpPr>
            <p:spPr>
              <a:xfrm>
                <a:off x="4191120" y="5216400"/>
                <a:ext cx="350496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if </m:t>
                              </m:r>
                              <m:r>
                                <m:t xml:space="preserve">Y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,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m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  <m:r>
                                <m:t xml:space="preserve">≤</m:t>
                              </m:r>
                              <m:r>
                                <m:t xml:space="preserve">D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,  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11AA-113C-41B3-A085-E6B1BC7B9F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ust Heuristic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Optimization via Simula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most common algorithms found in commercial optimization via simulation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ffective on difficult, practical problem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wever, do not guarantee finding the optimal s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genetic algorithms and tabu searc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o control the sampling variabilit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40DB-DC79-4206-9F0E-E60BC9302C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sampling variabil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Optimization via Simulation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termine how much sampling (replications or run length) to undertaken at each potential solu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ly, sampling should increase as heuristic closes in on the better sol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pecific and fixed number of replications per solution is required, analyst shou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 preliminary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te several designs (some at extremes of the solution space and some nearer the cente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e the apparent best and apparent worst of these desig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the minimum for the number of replications required to declare these designs to be statistically significantly differ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completion of optimization run, perform a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t of experiments on the top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signs identified by the heuristic, rigorously evaluate which are the best or near-best of these desig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8132-0A36-4A7B-BDA0-D762C1162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ntroduction to comparative evaluation of alternative system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d comparisons based on confidence inter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ussed the differences and implementation of independent sampling and common random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concept of metamod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BA92-295C-4CA5-B208-AFD72FE60F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compare two possible configurations of a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two possible ordering policies in a supply-chain system, two possible scheduling rules in a job sh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: the method of replications is used to analyze the output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an performance measure for syste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noted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 = 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obtain point and interval estimates for the difference in mean performance, namel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C82E-708D-42BE-BCA2-DF78AF6A85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hicle-safety inspection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tion perform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jobs: (1) brake check, (2) headlight check, and (3) steering check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hicles arrival: Possion with r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9.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hou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system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ee stalls in parallel (one attendant makes all 3 inspections at each stal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times for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obs: normally distributed with mea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6.5, 6.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, respectiv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syste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attendant specializes in a single task, each vehicle will pass through three work stations in se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 service times for each job decreases b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.85, 5.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4.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easure: mean response time per vehicle (total time from vehicle arrival to its departu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3F59-32CC-4897-BB9B-48BB605DF3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replica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syste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simulation analyst obtains an estimat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ean performance measur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ing that the estimator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(at least approximately) unbiased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(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,  r = 1, … 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      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E(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r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),  r = 1, … ,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: compute a confidence interval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compare the two system des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.i.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.i. is totally to the lef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trong evidence for the hypothesis that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lt; 0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.i. is totally to the right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trong evidence for the hypothesis that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&gt; 0 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c.i. is totally contai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o strong statistical evidence that one system is better than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enough additional data were collected (i.e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creased), the c.i. would most likely shift, and definitely shrink in length, until conclusion of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lt;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&gt; </a:t>
            </a:r>
            <a:r>
              <a:rPr b="0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ould be dra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B3D7-AABA-4B0B-A1C7-5E246F3438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hap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wo-sided 100(1-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% c.i.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ways takes the form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techniques discussed assume that the basic dat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approximately normally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2895480" y="2347920"/>
                <a:ext cx="29718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υ</m:t>
                        </m:r>
                      </m:sub>
                    </m:sSub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9"/>
              <p:cNvSpPr txBox="1"/>
              <p:nvPr/>
            </p:nvSpPr>
            <p:spPr>
              <a:xfrm>
                <a:off x="1295280" y="2892600"/>
                <a:ext cx="76582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where  {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is the sample mean performance measure for system 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 over all replications, 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and </m:t>
                    </m:r>
                    <m:r>
                      <m:t xml:space="preserve">υ</m:t>
                    </m:r>
                    <m:r>
                      <m:rPr>
                        <m:lit/>
                        <m:nor/>
                      </m:rPr>
                      <m:t xml:space="preserve"> is the degress of freedom,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006C-CAEC-405B-B600-F38B9DBD7F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Two System De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ly significant versus practically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significance: is the observed difference           larger than the variability in          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actical significance: is the true differenc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rge enough to matter for the decision we need to mak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dence intervals do not answer the question of practical significance directly, instead, they bound the true difference within a r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5"/>
              <p:cNvSpPr txBox="1"/>
              <p:nvPr/>
            </p:nvSpPr>
            <p:spPr>
              <a:xfrm>
                <a:off x="6858000" y="1884240"/>
                <a:ext cx="76212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6"/>
              <p:cNvSpPr txBox="1"/>
              <p:nvPr/>
            </p:nvSpPr>
            <p:spPr>
              <a:xfrm>
                <a:off x="3657600" y="2209680"/>
                <a:ext cx="6858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6AA8-1B56-4389-BABF-4612338DF5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Sampling with Equal Variance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Comparison of 2 system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erent and independent random number streams are used to simulate the two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observations of simulated syste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statistically independent of all the observations of simulated system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ariance of the sample mean,   , i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independent sampl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7"/>
              <p:cNvSpPr txBox="1"/>
              <p:nvPr/>
            </p:nvSpPr>
            <p:spPr>
              <a:xfrm>
                <a:off x="5935680" y="3124080"/>
                <a:ext cx="312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18"/>
              <p:cNvSpPr txBox="1"/>
              <p:nvPr/>
            </p:nvSpPr>
            <p:spPr>
              <a:xfrm>
                <a:off x="2666880" y="3429000"/>
                <a:ext cx="426744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V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,           </m:t>
                    </m:r>
                    <m:r>
                      <m:rPr>
                        <m:lit/>
                        <m:nor/>
                      </m:rPr>
                      <m:t xml:space="preserve">  i</m:t>
                    </m:r>
                    <m:r>
                      <m:t xml:space="preserve">=</m:t>
                    </m:r>
                    <m:r>
                      <m:t xml:space="preserve">1,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20"/>
              <p:cNvSpPr txBox="1"/>
              <p:nvPr/>
            </p:nvSpPr>
            <p:spPr>
              <a:xfrm>
                <a:off x="2143080" y="4952880"/>
                <a:ext cx="471492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r>
                      <m:t xml:space="preserve">V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Bakare</cp:lastModifiedBy>
  <dcterms:modified xsi:type="dcterms:W3CDTF">2016-04-06T08:01:45Z</dcterms:modified>
  <cp:revision>2504</cp:revision>
  <dc:subject/>
  <dc:title>Chapter 8: Random-Variant Generation</dc:title>
</cp:coreProperties>
</file>