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9D65B-A646-4F89-9D71-BE5F0866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D33B6-E96C-4B35-B2B8-2DCE1B25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15BDF-F95D-4E3C-BBB3-1924A63ED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8546F-44A8-4172-8060-8F6F1A428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A0A2-A876-4F90-83BF-367BF5534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01D7-711F-4E73-BD14-8DCB45DCC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AF704-E05F-4501-BE94-C1ADF8E0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6E163-DAF7-4C8A-B074-E0A14E4D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D681-D548-4774-B57B-7EC2A0B89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F816-1FE5-4856-A963-49313601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AD66-EACC-4A6D-9673-392A99F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31222-32A6-47BB-84AA-9D004536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52F5-C656-4854-BF21-51040237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6235-95F1-4D3C-8E8E-7347F74F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AACA-7409-4A8A-8872-9E8232DD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5858-3745-4E97-94EC-9A5F54D0C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44792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56240"/>
            <a:ext cx="264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4F769-3318-4C87-B139-1CF2F7A4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C3817-D875-4FD1-A7E7-CDE2997D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F218-71D4-46DF-B21F-B870C9F0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FD7DD-8603-413F-AE57-4A11598D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4A09B-65E5-4F0B-AC7A-DC15E062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59021-C73D-4951-8992-EB8E004C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75624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091DC-BDB3-4921-9AEF-66466BD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920"/>
            <a:ext cx="4015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56240"/>
            <a:ext cx="822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80BB6-0D74-4B4A-913D-1DBF8AEE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18A0-29B2-4F9E-99C7-E05426D2E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1066680"/>
            <a:ext cx="9144000" cy="546120"/>
            <a:chOff x="0" y="106668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106668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20168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20168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106668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20168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134136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20312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133812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147636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6781680" y="45720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1786-43C2-4E88-BAB9-0C85A0B8BB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hapter 11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utput Analysis for a Single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ks, Carson, Nelson &amp; Ni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screte-Event System Si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Estim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Performance Measur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 that does not fit: quantile or percenti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ing quantiles: the inverse of the problem of estimating a proportion or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a histogram of the observed valu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     such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% of the histogram is to the left of (smaller than)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3581280"/>
                <a:ext cx="1792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743200" y="1905120"/>
                <a:ext cx="1392120" cy="3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Y</m:t>
                        </m:r>
                        <m:r>
                          <m:t xml:space="preserve">≤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=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209680" y="3276720"/>
                <a:ext cx="179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C2143-2B06-4592-82AD-BAF6B15206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-Interval Estim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Performance Measur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confidence intervals fully, it is important to distinguish between measures of error, and measures of risk, e.g., confidence interval versus prediction inter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model is the normal distribution with mea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arianc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th unknow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average cycle time for parts produced o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 of the simulation (its mathematical expectation is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cycle time will vary from day to day, but over the long-run the average of the averages will be close to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variance acros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5867280" y="5105520"/>
                <a:ext cx="2286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2C8A8-F770-498F-8389-461B3C35FD9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-Interval Estim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Performance Measur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fidence Interval (C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-10000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normally distribu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cannot know for certain how far     is fro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but CI attempts to bound that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I, such as 95%, tells us how much we can trust the interval to actually bound the error between    a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replications we make, the less error there is in      (converging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es to infinit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124080" y="2666880"/>
                <a:ext cx="175284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334120" y="3352680"/>
                <a:ext cx="228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620120" y="4724280"/>
                <a:ext cx="2286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5029200" y="4362480"/>
                <a:ext cx="2286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A983D-F708-4513-8C7F-158EE2FB490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ce-Interval Estim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Performance Measur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Interval (PI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measure of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ood guess for the average cycle time on a particular day is our estimator but it is unlikely to be exactly r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 is designed to be wide enough to conta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verage cycle time on any particular day with high prob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-theory prediction inter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ength of PI will not go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because we can never simulate away ri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’s limit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3200400" y="4024440"/>
                <a:ext cx="19810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71800" y="5791320"/>
                <a:ext cx="9525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49FF-8D37-436F-8302-2ACD0616652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nalysis for Terminating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rminating simulation: runs over a simulated time interval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0,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mon goal is to estim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independent replications are used, each run using a different random number stream and independently chosen initial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2209680" y="2743200"/>
                <a:ext cx="5562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            for discrete output</m:t>
                        </m:r>
                      </m:e>
                      <m:e>
                        <m:r>
                          <m:t xml:space="preserve">φ</m:t>
                        </m:r>
                        <m:r>
                          <m:t xml:space="preserve">=</m:t>
                        </m:r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Y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,   for continuous output </m:t>
                        </m:r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0</m:t>
                        </m:r>
                        <m:r>
                          <m:t xml:space="preserve">≤</m:t>
                        </m:r>
                        <m:r>
                          <m:t xml:space="preserve">t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D4FE0-B7BE-48AD-8B04-3A9D9A5BFBE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Backgrou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distinguish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-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 from </a:t>
            </a: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cross-re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simulation of a manufactur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performance measures of that system: cycle time for parts and work in process (WIP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the cycle time for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 produced in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ross-replication data are formed by summarizing within-replication data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048120" y="4281480"/>
                <a:ext cx="30312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DB1A1-F8D3-4EE7-8DB9-263EA3AD7EB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Backgrou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the daily cycle time averages (discrete tim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var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fidence-interval half-widt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 the WIP (a continuous time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ver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ple varia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352680" y="2174760"/>
                <a:ext cx="1295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114800" y="2887560"/>
                <a:ext cx="228600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5410080" y="3513240"/>
                <a:ext cx="160020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438360" y="4613400"/>
                <a:ext cx="19717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078440" y="5357880"/>
                <a:ext cx="2779560" cy="73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4AA5A-46E3-4546-885A-AA867727634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al Backgrou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sample average,    , and the interval replication sample averages,    ,  are always unbiased estimators of the expected daily average cycle time or daily average W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-replication data are independent (different random numbers) and identically distributed (same model), but within-replication data do not have these proper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99040" y="1523880"/>
                <a:ext cx="288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3352680" y="1828800"/>
                <a:ext cx="3128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26BDF-0262-4E94-B690-894A11B09FC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 with Specified Prec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lf-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0(1 –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idence interval for a mean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based o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ion, is given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at an error criterio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pecified with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 -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sufficiently large sample size should satis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3048120" y="2276640"/>
                <a:ext cx="18223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2133720" y="3048120"/>
            <a:ext cx="1904760" cy="457200"/>
          </a:xfrm>
          <a:prstGeom prst="wedgeRoundRectCallout">
            <a:avLst>
              <a:gd name="adj1" fmla="val 51416"/>
              <a:gd name="adj2" fmla="val -9409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# of re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724280" y="3048120"/>
            <a:ext cx="1905120" cy="457200"/>
          </a:xfrm>
          <a:prstGeom prst="wedgeRoundRectCallout">
            <a:avLst>
              <a:gd name="adj1" fmla="val -53000"/>
              <a:gd name="adj2" fmla="val -163888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the sample var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819520" y="4876920"/>
                <a:ext cx="281916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θ</m:t>
                            </m:r>
                          </m:e>
                        </m:d>
                        <m:r>
                          <m:t xml:space="preserve">&lt;</m:t>
                        </m:r>
                        <m:r>
                          <m:t xml:space="preserve">ε</m:t>
                        </m:r>
                      </m:e>
                    </m:d>
                    <m:r>
                      <m:t xml:space="preserve">≥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BCB933-DA10-4E96-B5AA-2F4D23D72E8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 with Specified Prec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ume that an initial sample of siz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independent) replications has been observ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tain an initial estimat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200" spc="-1" strike="noStrike" baseline="-3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 baseline="4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population variance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, choose sample siz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, R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 initial estimate of 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he smallest integer satisfy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 - R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dditional observ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00(1-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)%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.I. for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492280" y="3276720"/>
                <a:ext cx="57373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,   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 is the standard normal distribution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6629400" y="3886200"/>
                <a:ext cx="1682640" cy="8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α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22920" y="5029200"/>
                <a:ext cx="19350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±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9775F-D4ED-44E0-B57B-20270D92064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: Estimate system performance via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ystem performance, the precision of the estimator    can be measur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andard error of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idth of a confidence interval (CI) fo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of statistical analys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the standard error or CI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figure out the number of observations required to achieve desired error/C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issues to overcom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correlation, e.g. inventory cost for subsequent weeks lack statistical indepen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nditions, e.g. inventory on hand and # of backorders at time 0 would most likely influence the performance of week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133720" y="2209680"/>
                <a:ext cx="2235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733920" y="2514600"/>
                <a:ext cx="223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2317-BB09-4A6C-A549-B7E0D942B85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I. with Specified Precis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Center Example: estimate the agent’s utiliz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ver the first 2 hours of the work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 sample of size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 is taken and an initial estimate of the population variance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3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 baseline="4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(0.072)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0.0051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rror criterion i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0.0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confidence coefficient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0.9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hence, the final sample size must be at leas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inal sample s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= 1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smallest integer satisfying the error criterion, s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- 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dditional replications are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btaining additional outputs, half-width should be check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590920" y="3124080"/>
                <a:ext cx="312408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25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6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518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6" name=""/>
          <p:cNvGraphicFramePr/>
          <p:nvPr/>
        </p:nvGraphicFramePr>
        <p:xfrm>
          <a:off x="2311560" y="4037040"/>
          <a:ext cx="4076640" cy="77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1560" y="4037040"/>
                    <a:ext cx="40766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1F2B7-6B08-4180-82B4-09FC0D78BFC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book, a proportion or probability is treated as a special case of a mea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the number of independent replication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large enough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/2,n-1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= z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the confidence interval for a probabilit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often written a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quantile is the inverse of the probability to the probability estimation problem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124080" y="3276720"/>
                <a:ext cx="2438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±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α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438280" y="5410080"/>
            <a:ext cx="3581640" cy="703800"/>
          </a:xfrm>
          <a:prstGeom prst="rect">
            <a:avLst/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(Y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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48520" y="5029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giv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5213520"/>
            <a:ext cx="888840" cy="38088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480" y="0"/>
                </a:moveTo>
                <a:cubicBezTo>
                  <a:pt x="520" y="52"/>
                  <a:pt x="560" y="104"/>
                  <a:pt x="480" y="144"/>
                </a:cubicBezTo>
                <a:cubicBezTo>
                  <a:pt x="400" y="184"/>
                  <a:pt x="200" y="212"/>
                  <a:pt x="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2400120" y="3085920"/>
            <a:ext cx="304560" cy="2514600"/>
          </a:xfrm>
          <a:prstGeom prst="wedgeRoundRectCallout">
            <a:avLst>
              <a:gd name="adj1" fmla="val 122912"/>
              <a:gd name="adj2" fmla="val 28847"/>
              <a:gd name="adj3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sample propor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0B996-FC0D-4D71-BAE7-932D8C284C9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best way is to sort the outputs and use the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)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mallest value, i.e., find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uch tha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00p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the data in a histogram of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s to the left of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If we hav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=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s and we want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 =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 quantile, first sort, then estimate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10)(0.8) = 8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st value (round if necessar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29320" y="3124080"/>
            <a:ext cx="4033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5.6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sort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7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8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8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9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9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2.2 </a:t>
            </a:r>
            <a:r>
              <a:rPr b="0" lang="en-US" sz="1800" spc="-1" strike="noStrike">
                <a:solidFill>
                  <a:srgbClr val="00007d"/>
                </a:solidFill>
                <a:latin typeface="Wingdings"/>
                <a:ea typeface="Wingdings"/>
              </a:rPr>
              <a:t>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this is our point estim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53000" y="3048120"/>
            <a:ext cx="68580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BFF8-0AF0-4C4D-B8C2-2B2D91B8540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295800" y="3801960"/>
                <a:ext cx="3105000" cy="14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here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p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fidence Interval of Quantiles:  An approximate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100% confidence interval for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an be obtained by finding two value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ts o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histogram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st value of the sorted d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ts o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00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histogram (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st value of the sorted dat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714C8-02F3-406F-9179-A41069205EE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l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Terminating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295280" y="3746520"/>
                <a:ext cx="4114800" cy="17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ℓ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8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00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8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2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h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smallest value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457200" y="1447920"/>
            <a:ext cx="830592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ample: Suppos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R = 10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eps, to estimate th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 = 0.8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quantile with a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nfidence interv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, sort the data from smallest to larg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stimate of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1000)(0.8) = 800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llest value, and the point estimate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12.0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ind the confidence interv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estimate is The 95% c.i. is [188.96, 256.79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306396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rtion of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sorted valu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81800" y="3579840"/>
          <a:ext cx="178272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1800" y="3579840"/>
                    <a:ext cx="178272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6172200" y="41148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rot="10435200">
            <a:off x="8152560" y="4800240"/>
            <a:ext cx="381240" cy="152280"/>
          </a:xfrm>
          <a:prstGeom prst="rightArrow">
            <a:avLst>
              <a:gd name="adj1" fmla="val 50000"/>
              <a:gd name="adj2" fmla="val 62589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54864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5AE7-CE5D-4F2D-8103-28362CD6FC4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nalysis for Steady-State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 single run of a simulation model to estimate a steady-state or long-run characteristics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ngle run produces observatio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generally the samples of an autocorrelated time ser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meas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pendent of the initial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2057400" y="3179880"/>
                <a:ext cx="419112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,                for discrete measur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057400" y="3867120"/>
                <a:ext cx="441972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,      for continuous measur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6400800" y="3352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ith probability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629400" y="3962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with probability 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2E3FA-4FE2-4180-A591-566E7455F88E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nalysis for Steady-State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ple size is a design choice, with several considerations in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bias in the point estimator that is due to artificial or arbitrary initial conditions (bias can be severe if run length is too shor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precision of the point estim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dget constraints on computer resour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ation: the estimation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discrete-time output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lication (or run), the output data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veral replications, the output data for replication r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D8488-E93E-4EDC-B25C-4123BE86345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s to reduce the point-estimator bias caused by using artificial and unrealistic initial condi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ligent initializ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simulation into an initialization phase and data-collection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the simulation in a state that is more representative of long-run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ystem exists, collect data on it and use these data to specify more nearly typical initial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system can be simplified enough to make it mathematically solvable, e.g. queueing models, solve the simplified model to find long-run expected or most likely conditions, use that to initialize the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04FF-11BD-4601-8547-6F590298D14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ide each simulation into two phas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itialization phase, from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ata-collection phase,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the stopping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oice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importan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ystem should be more nearly representative of steady-state behav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has reached steady state: the probability distribution of the system state is close to the steady-state probability distribution (bias of response variable is negligi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533DF-A27B-4208-83BF-90A08CEA5FE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/G/1 queueing 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tal of 10 independent replications were m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plication beginning in the empty and idle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run length on each replication w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,000 minu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e variable: queue lengt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,r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t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 replica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ing intervals of 1,000 minutes, batch me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emble aver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dentify trend in the data due to initialization 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corresponding batch mea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ferred method to determine deletion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3124080" y="4994280"/>
                <a:ext cx="152424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 rot="16200000">
            <a:off x="6134040" y="4609800"/>
            <a:ext cx="304920" cy="1600200"/>
          </a:xfrm>
          <a:prstGeom prst="wedgeRoundRectCallout">
            <a:avLst>
              <a:gd name="adj1" fmla="val 95310"/>
              <a:gd name="adj2" fmla="val -126986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re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ED9B5-624B-4159-86DA-34E648D4A6D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guish the two types of simulation: transient vs. steady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inherent variability in a stochastic discrete-event sim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the statistical estimation of performance meas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s the analysis of transient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es the analysis of steady-state simul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5D05-D961-46E1-93D9-E4DD3D3D0BA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lot of the ensemble averages,            , versus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1000j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for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j = 1,2, …,1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es the downward bias of the initial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514600" y="1981080"/>
            <a:ext cx="4572000" cy="338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029200" y="1447920"/>
                <a:ext cx="91440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4389-9D4F-4CA8-9C31-B2A4657C0594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590920" y="2835360"/>
            <a:ext cx="3504960" cy="28796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mulative average sample mean (after deleting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bservation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recommended to determine the initialization ph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apparent that downward bias is present and this bias can be reduced by deletion of one or more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3581280" y="1730520"/>
                <a:ext cx="2438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0968E-E27F-4441-913C-05FCB3A229A0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Bi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widely accepted, objective and proven technique to guide how much data to delete to reduce initialization bias to a negligible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s can, at times, be misleading but they are still recommend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e averages reveal a smoother and more precise trend as the # of replications, R, increa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emble averages can be smoothed further by plotting a moving aver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mulative average becomes less variable as more data are averag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ore correlation present, the longer it takes for      to approach steady st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performance measures could approach steady state at differen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155000" y="5033880"/>
                <a:ext cx="3124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A2D08-6F6F-48D6-91F0-D7B4DEE511F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Est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{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are not statistically independent, 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iased estimator of the true var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ways the case when {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 a sequence of output observations from within a single replication (autocorrelated sequence, time-ser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point estima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ample m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nce of    is almost impossible to esti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system with steady state, produce an output process that is approximately 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covariance stationa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fter passing the transient pha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variance between two random variables in the time series depends only on the lag (the # of observations between them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575080" y="4267080"/>
                <a:ext cx="2444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3352680" y="3639960"/>
                <a:ext cx="14479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AED22-A0DC-4D1B-9FB9-5981B884BAB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Est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covariance stationary time series, {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-k autocovarianc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g-k autocorrelation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time series is covariance stationary, then the variance of     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cted value of the variance estimato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219320" y="3733920"/>
                <a:ext cx="3063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267080" y="1981080"/>
                <a:ext cx="335304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270320" y="2514600"/>
                <a:ext cx="9874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γ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2666880" y="3886200"/>
                <a:ext cx="32004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k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  <m:sSub>
                              <m:e>
                                <m:r>
                                  <m:t xml:space="preserve">ρ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2066760" y="5513400"/>
                <a:ext cx="410544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    where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 rot="16200000">
            <a:off x="4647960" y="3809520"/>
            <a:ext cx="381240" cy="1752480"/>
          </a:xfrm>
          <a:custGeom>
            <a:avLst/>
            <a:gdLst>
              <a:gd name="textAreaLeft" fmla="*/ 243720 w 381240"/>
              <a:gd name="textAreaRight" fmla="*/ 381600 w 3812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48150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5003640"/>
            <a:ext cx="762120" cy="635040"/>
          </a:xfrm>
          <a:custGeom>
            <a:avLst/>
            <a:gdLst/>
            <a:ahLst/>
            <a:rect l="l" t="t" r="r" b="b"/>
            <a:pathLst>
              <a:path w="480" h="400">
                <a:moveTo>
                  <a:pt x="0" y="16"/>
                </a:moveTo>
                <a:cubicBezTo>
                  <a:pt x="152" y="8"/>
                  <a:pt x="304" y="0"/>
                  <a:pt x="384" y="64"/>
                </a:cubicBezTo>
                <a:cubicBezTo>
                  <a:pt x="464" y="128"/>
                  <a:pt x="464" y="344"/>
                  <a:pt x="480" y="4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EAFC-FD19-4E21-9F02-01125B4CA3E9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Est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ary time ser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hibiting positive auto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onary time seri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ibiting negative autocorre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stationary time series with an upward tr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rcRect l="32858" t="31076" r="13826" b="17812"/>
          <a:stretch/>
        </p:blipFill>
        <p:spPr>
          <a:xfrm>
            <a:off x="4800600" y="1752480"/>
            <a:ext cx="346536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55D17-6720-4621-958F-C009784544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ror Estim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ected value of the variance  estimator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dependent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n unbiased estimato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utocorrel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imarily positive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iased low as an estimator of 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utocorrelatio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primarily negative, th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biased high as an estimator of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8001000" y="3276720"/>
                <a:ext cx="533520" cy="33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219320" y="2008080"/>
                <a:ext cx="719928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,      where 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</m:t>
                    </m:r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is the variance of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886200" y="3886200"/>
                <a:ext cx="609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962520" y="4573440"/>
                <a:ext cx="60948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A5FF1-0CAD-4E5B-AEC6-7301B8458FBF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o estimate point-estimator variability and to construct a confidence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 make R replications, initializing and deleting from each one the same 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to do a thorough job of investigating the initial-condition b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as is not affected by the number of replications, instead, it is affected only by deleting more data (i.e., increasing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or extending the length of each run (i.e. increasing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raw output data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rj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r = 1, ..., R; j = 1, …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is derived b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observation from within re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mean from within replic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ome number of discrete-time observ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tch mean of a continuous-time process over time interv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E5D5-F225-4EF4-9739-2216BD400572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replication is regarded as a single sample for estimating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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replicat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point estima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osen sufficiently lar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Arial"/>
              </a:rPr>
              <a:t>n,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~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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an approximately unbiased estimator of </a:t>
            </a:r>
            <a:r>
              <a:rPr b="0" i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imate standard error of     , the sample variance and standard err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334120" y="1752480"/>
                <a:ext cx="2286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523880" y="2652840"/>
                <a:ext cx="53341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and     E</m:t>
                    </m:r>
                    <m:r>
                      <m:t xml:space="preserve">[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19320" y="4267080"/>
                <a:ext cx="99036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1371600" y="5410080"/>
                <a:ext cx="6705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r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t xml:space="preserve">r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d>
                    <m:r>
                      <m:rPr>
                        <m:lit/>
                        <m:nor/>
                      </m:rPr>
                      <m:t xml:space="preserve">     and    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R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4898880" y="4681440"/>
                <a:ext cx="268560" cy="4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E4C7C-D521-4F41-BB73-880AD8EF2AB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each replication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beyond deletion point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 - d) &gt; 10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replications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hould be as many as time permits, up to abo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ixed total sample siz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s fewer data are deleted (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I. shifts: greater b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 of               decreases: decrease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3276720" y="4300560"/>
                <a:ext cx="89352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66680" y="365760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4876920"/>
            <a:ext cx="137160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Redu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24280" y="4876920"/>
            <a:ext cx="144792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Increa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7d"/>
                </a:solidFill>
                <a:latin typeface="Arial"/>
              </a:rPr>
              <a:t>var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5105520"/>
            <a:ext cx="1066680" cy="761760"/>
          </a:xfrm>
          <a:prstGeom prst="leftRightArrow">
            <a:avLst>
              <a:gd name="adj1" fmla="val 50000"/>
              <a:gd name="adj2" fmla="val 2787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de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02B6-AA2D-4705-A9AA-147CA85280A0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 verses non-terminating sim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inating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for some duration of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E is a specified event that stops the simul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s at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nder well-specified initial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s at the stopping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example: Opens at 8:30 am (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with no customers present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ller working (initial conditions), and closes at 4:30 p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48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imulation analyst chooses to consider it a terminating system because the object of interest is one day’s op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5428D-DD72-4ADA-AD6A-D159C172A2C4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lication Meth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G/1 queueing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= 1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ach of leng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5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, starting at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he empty and idle state, initialized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nutes before data collection beg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atch means is the average number of customers in queue for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,0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minute interv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wo batch means are delet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estimator and standard error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5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.I. for long-run mean queue length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igh degree of confidence that the long-run mean queue length is betwe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4.8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2.0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if d and n are “large” enough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2222640" y="3968640"/>
                <a:ext cx="448308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         and       </m:t>
                    </m:r>
                    <m:r>
                      <m:t xml:space="preserve">s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e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2482920" y="4695840"/>
                <a:ext cx="40240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R</m:t>
                                </m:r>
                              </m:e>
                            </m:rad>
                          </m:den>
                        </m:f>
                        <m:r>
                          <m:t xml:space="preserve">≤</m:t>
                        </m:r>
                        <m:r>
                          <m:t xml:space="preserve">θ</m:t>
                        </m:r>
                        <m:r>
                          <m:t xml:space="preserve">≤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α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R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S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R</m:t>
                                </m:r>
                              </m:e>
                            </m:rad>
                          </m:den>
                        </m:f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)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6FFF5-446F-4EDA-9271-24BD72D8B9E8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S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estimate a long-run performance measure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in    with confid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100(1-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G/1 queueing example (cont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know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0, d = 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5.3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stimate the long-run mean queue lengt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in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ustomer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9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nfidence 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0%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estim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, at least 18 replications are needed, next tr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= 18,19, 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                             .  We found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replications needed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 –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19-10 = 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3124080" y="3603600"/>
                <a:ext cx="365760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5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645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8381880" y="1523880"/>
                <a:ext cx="457200" cy="31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165400" y="5276880"/>
                <a:ext cx="497520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4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109960" y="4724280"/>
                <a:ext cx="185256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≥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5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ε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B1C5-47EC-42E5-992C-5673EB8C2ACD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ample Siz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lternative to increas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 increase total run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in each re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 run length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/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 additional amount of data, from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R/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T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antage: any residual bias in the point estimator should be further re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it is necessary to have saved the state of the model at tim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to be able to restart th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114800" cy="19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6E584-4417-460F-A6DE-172D51A0C275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Means for Interval Esti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single, long repli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: data are dependent so the usual estimator is bias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atch me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ch mean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ide the output data from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plication (after appropriate deletion) into a few large batches and then treat the means of these batches as if they were independ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ous-time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(t),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tche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= 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tch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crete-time proc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i = d+1,d+2, …, 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atches of siz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= (n – d)/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atch mea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6477120" y="5638680"/>
                <a:ext cx="175248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jm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2514600" y="4572000"/>
                <a:ext cx="245916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3C2A2-02E4-4A9B-91AC-E72F961197FE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ch Means for Interval Esti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Steady-State Simulation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ing either with continuous-time or discrete-time data, the variance of the sample mean is estimated b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 batch size is sufficiently large, successive batch means will be approximately independent, and the variance estimator will be approximately unbias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widely accepted and relatively simple method for choosing an acceptable batch size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see text for a suggested approach). Some simulation software does it automatical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990720" y="1623960"/>
                <a:ext cx="73152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d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k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635200" y="3294000"/>
                <a:ext cx="361332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</m:acc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</m:acc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f>
                          <m:num>
                            <m:sSub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Y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 rot="5400000">
            <a:off x="1409400" y="16380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rot="5400000">
            <a:off x="2666880" y="1447560"/>
            <a:ext cx="304920" cy="1371600"/>
          </a:xfrm>
          <a:custGeom>
            <a:avLst/>
            <a:gdLst>
              <a:gd name="textAreaLeft" fmla="*/ 0 w 304920"/>
              <a:gd name="textAreaRight" fmla="*/ 11016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rot="5400000">
            <a:off x="4419360" y="129528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7124400" y="1104480"/>
            <a:ext cx="228600" cy="2133720"/>
          </a:xfrm>
          <a:custGeom>
            <a:avLst/>
            <a:gdLst>
              <a:gd name="textAreaLeft" fmla="*/ 0 w 228600"/>
              <a:gd name="textAreaRight" fmla="*/ 8244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43000" y="2286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679840" y="2286000"/>
                <a:ext cx="20304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4411800" y="2286000"/>
                <a:ext cx="220680" cy="3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7155000" y="2278080"/>
                <a:ext cx="220680" cy="3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2DE00-4179-47E0-BA4F-F710D1C6928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hastic discrete-event simulation is a statistical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statistical experiment: obtain estimates of the performance measures of the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pose of statistical analysis: acquire some assurance that these estimates are sufficiently preci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inguish: terminating simulations and steady-state simul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-state output data are more difficult to 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s: initial conditions and ru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solutions to bias: deletion of data and increasing run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istical precision of point estimators are estimated by standard-error or confidence inter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of independent replications was emphasiz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AA906-840D-4209-BE4D-F5FD048018A8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of Sim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terminating sim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continuously, or at least over a very long period of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 assembly lines that shut down infrequently, telephone systems, hospital emergency roo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conditions defined by the analy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for some analyst-specified period of tim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y the steady-state (long-run) properties of the system, properties that are not influenced by the initial conditions of the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a simulation is considered to be terminating or non-terminating depends on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bjectives of the simulation stud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ature of the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14F0-DC15-4079-92A1-BAA395B8CB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Nature of Out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output consist of one or more random variables (r. v.) because the model is an input-output transformation and the input variables are r.v.’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G/1 queueing exam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isson arrival rate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er minute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 time ~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9.5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1.7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performance: long-run mean queue length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we run a single simulation for a total of 5,000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the time interval [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, 5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qual subintervals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number of customers in queue from ti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j-1)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(1000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j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B8412-58DA-4123-B0AD-ED6BF947B05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hastic Nature of Outpu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/G/1 queueing example (cont.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tched average queue length for 3 independent repl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erent variability in stochastic simulation both within a single replication and across different re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verage across 3 replications,               can be regarded as independent observations, but averages within a replica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re no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981080" y="2362320"/>
          <a:ext cx="5486400" cy="159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5486400" cy="15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5181480" y="4816440"/>
                <a:ext cx="11430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1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sub>
                        </m:sSub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CBE3B-BA16-4620-9714-C9E9F1A9FAA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s of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estimation of a performance parameter,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of a simulat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rete time data: [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], with ordinary mean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-time data: {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(t), 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with time-weighted mean: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estimation for discrete tim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estim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unbiased if its expected value is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at is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biased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6400800" y="4816440"/>
                <a:ext cx="106668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7772400" y="47242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noFill/>
          <a:ln w="936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048120" y="5105520"/>
                <a:ext cx="990360" cy="40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3962520" y="3886200"/>
                <a:ext cx="12952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θ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362C8-665B-46BD-85DE-CAA8C5AD00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 Estima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7d"/>
                </a:solidFill>
                <a:latin typeface="Arial"/>
              </a:rPr>
              <a:t>[Performance Measures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 estimation for continuous-tim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oint estimat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biased in general where:        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unbiased or low-bias estimator is desi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, system performance measures can be put into the common framework of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the proportion of days on which sales are lost through an out-of-stock situation, l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495680" y="2943360"/>
                <a:ext cx="9144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645000" y="2133720"/>
                <a:ext cx="193176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φ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962520" y="4800600"/>
                <a:ext cx="36576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if out of stock on day </m:t>
                              </m:r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    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EC2A-2E00-4FD1-89B2-27CFC8258B6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17:06Z</dcterms:created>
  <dc:creator>Gigi Yuen</dc:creator>
  <dc:description/>
  <dc:language>en-US</dc:language>
  <cp:lastModifiedBy>Gigi Yuen</cp:lastModifiedBy>
  <dcterms:modified xsi:type="dcterms:W3CDTF">2005-01-13T18:18:40Z</dcterms:modified>
  <cp:revision>1904</cp:revision>
  <dc:subject/>
  <dc:title>Chapter 8: Random-Variant Generation</dc:title>
</cp:coreProperties>
</file>