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8.wmf" ContentType="image/x-wmf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3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CA33-3AB6-4690-819F-B7CDFDADF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CD3A-A42C-4886-B989-41554B42E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EF8-1964-442C-9091-C3E1F9A13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921A-6B4E-4DC0-B578-758857854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able shows the procedure NO CALC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F(X) (Cumulative Distribu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      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0.5 + 0.3 = 0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   0.8 + 0.2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R1 = 0.73, trace it until it reaches vertical line to give X1 =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R ~ U[0,1] ie generate Random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4654-0B72-4848-881A-9C0C88FD4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behind thinning is to generate a stationary Poisson arrival process at the fastest rate (1/5 customer per minute i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), but "accept" or admit only a portion of the arrivals, thinning out just enough to get the desired time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ate. Next we give the generic algorithm, which generates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as the time of the ith arrival. Rememb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, in a stationary Poisson arrival process, the times between arrivals are exponentially distrib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0610-3863-4FA2-AC4A-E896970E6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F8D9-386F-4E1E-B414-2F712269A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you have generated your Random Numbers as discussed in Chapter 7, Inverse-transform technique can be used to generate sample from distribution like Exponential distribution, Uniform distribution, Weibull distribution and Triangular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3098-B365-44D5-B9BD-675D8CE99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473B-8628-45A6-BA06-DB058371A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r is a variate generated from Uniform (0,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r) is the solution to the equation r = 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F544-6E7C-4ECC-88A5-AE32590F8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r is a variate generated from Uniform (0,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r) is the solution to the equation r = F(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76A5-4CAC-4F55-82CE-2DF62F4AB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CEF44-EDDD-4D44-8E41-61A01EB27B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09CD-0D1E-4007-915B-0544CA0E1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6ED74-4F20-4423-90DF-008CAEA6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1 = 0.5-0.25/0.31 = 0.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= 1.0-0.5 /0.41-0.31 =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ing R1 = 0.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ection from pdf file X(4-1) = 1.45 not 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C7CA8-08A1-43C3-ADAC-86D43772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229A8-1D3C-4001-9887-5F889C64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D09AC-A401-459B-921C-D3A7651DD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AF425-E985-45B2-8E01-10CA776DB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A098-0341-4B0A-8270-DA3DB902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5751-CC3D-4973-A285-89705504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2BAF-7018-437A-BAE4-A3506F7E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7B45-12E9-4601-B70D-6957BD8A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D937-C7BB-445A-AF35-EC3AC1E4B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B0AA-B0EE-4792-B6C7-A0CF37E9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76A5-8E6F-42C0-8D41-5C53104E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9BD8D-9D25-4497-9B4D-65D1302F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BBF55-85C5-4A7B-9308-D08EC9161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6B4A1-0173-4297-9D5F-BA1B9B2F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4FE9-65AB-4B26-8B0A-DEA62C2E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A0DF-C746-4D2D-B970-C9542428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9DF56-BF51-4470-9755-3EF62BFA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FF614-7F1D-4F9F-9293-98F20544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6751-00FC-4130-9980-FC08901E4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6783D-C857-41CA-A7E6-7AC1E0BC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9C2A4-0B0C-4275-B375-45AC21E3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0EA55-FFDD-40B1-A906-69A826D7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A79D9-A631-4E80-8E95-FD175C03B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E559D-309A-42AE-AF39-446B54AF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2DE-1841-4DEE-A138-718DC24FCF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6280-F618-4765-B078-74AC3E6D8E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pter 8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-Variate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EE47-AC5F-47EA-94B6-BF7ACBD90E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verse-transform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iscrete distributions can be generated via inverse-transform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: numerically, table-lookup procedure, algebraically, or a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appli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rete 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1AB-D2DE-4EF4-A023-D0F5CC5D0A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18" descr="08-6"/>
          <p:cNvPicPr/>
          <p:nvPr/>
        </p:nvPicPr>
        <p:blipFill>
          <a:blip r:embed="rId1"/>
          <a:stretch/>
        </p:blipFill>
        <p:spPr>
          <a:xfrm>
            <a:off x="4876920" y="2822400"/>
            <a:ext cx="3733560" cy="2054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rete Distribu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Example 8.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ppose the number of shipments, x, on the loading dock of IHW company is eith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- Probability distribu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n R, the gener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eme beco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2"/>
              <p:cNvSpPr txBox="1"/>
              <p:nvPr/>
            </p:nvSpPr>
            <p:spPr>
              <a:xfrm>
                <a:off x="1371600" y="4800600"/>
                <a:ext cx="2438280" cy="119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x</m:t>
                          </m:r>
                        </m:e>
                        <m:e/>
                      </m:mr>
                    </m:m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,</m:t>
                              </m:r>
                            </m:e>
                          </m:mr>
                        </m:m>
                      </m:e>
                    </m:d>
                    <m:m>
                      <m:mr>
                        <m:e/>
                      </m:mr>
                      <m:mr>
                        <m:e/>
                      </m:mr>
                      <m:mr>
                        <m:e>
                          <m:m>
                            <m:m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  <m:r>
                                  <m:t xml:space="preserve">≺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≺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≤</m:t>
                                </m:r>
                                <m:r>
                                  <m:t xml:space="preserve">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179" name="AutoShape 5"/>
          <p:cNvSpPr/>
          <p:nvPr/>
        </p:nvSpPr>
        <p:spPr>
          <a:xfrm rot="16200000">
            <a:off x="6286320" y="4457520"/>
            <a:ext cx="1295280" cy="3048120"/>
          </a:xfrm>
          <a:prstGeom prst="wedgeRoundRectCallout">
            <a:avLst>
              <a:gd name="adj1" fmla="val 169361"/>
              <a:gd name="adj2" fmla="val -35523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sider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73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lt;   R  &lt;=  F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&lt; 0.73 &lt;= F(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, x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Object 115"/>
          <p:cNvGraphicFramePr/>
          <p:nvPr/>
        </p:nvGraphicFramePr>
        <p:xfrm>
          <a:off x="1600200" y="2666880"/>
          <a:ext cx="2590920" cy="1154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Object 1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666880"/>
                    <a:ext cx="2590920" cy="11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DE745-EBED-4EEE-8642-22629DCB1E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ance-Rejec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ful particularly when inverse cdf does not exist in closed form, a.k.a. th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llustration: To generate random variate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~ U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/4,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oes not have the desired distribution,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ditioned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’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n the event {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} do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iciency: Depends heavily on the ability to minimize the number of reje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914400" y="2895480"/>
            <a:ext cx="396252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1.   Generate R ~ U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a. If R &gt;= ¼, accept X=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p 2b. If R &lt; ¼, reject R, return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o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7"/>
          <p:cNvGrpSpPr/>
          <p:nvPr/>
        </p:nvGrpSpPr>
        <p:grpSpPr>
          <a:xfrm>
            <a:off x="5410080" y="2743200"/>
            <a:ext cx="2210040" cy="1981080"/>
            <a:chOff x="5410080" y="2743200"/>
            <a:chExt cx="2210040" cy="1981080"/>
          </a:xfrm>
        </p:grpSpPr>
        <p:sp>
          <p:nvSpPr>
            <p:cNvPr id="187" name="AutoShape 5"/>
            <p:cNvSpPr/>
            <p:nvPr/>
          </p:nvSpPr>
          <p:spPr>
            <a:xfrm>
              <a:off x="6095880" y="2743200"/>
              <a:ext cx="1295640" cy="380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enerate 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6"/>
            <p:cNvSpPr/>
            <p:nvPr/>
          </p:nvSpPr>
          <p:spPr>
            <a:xfrm>
              <a:off x="5867280" y="3429000"/>
              <a:ext cx="1752840" cy="60948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di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7"/>
            <p:cNvSpPr/>
            <p:nvPr/>
          </p:nvSpPr>
          <p:spPr>
            <a:xfrm>
              <a:off x="6095880" y="4343400"/>
              <a:ext cx="1295640" cy="38088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put R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AutoShape 8"/>
            <p:cNvCxnSpPr>
              <a:stCxn id="187" idx="2"/>
              <a:endCxn id="188" idx="0"/>
            </p:cNvCxnSpPr>
            <p:nvPr/>
          </p:nvCxnSpPr>
          <p:spPr>
            <a:xfrm>
              <a:off x="6743520" y="312372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1" name="Text Box 13"/>
            <p:cNvSpPr/>
            <p:nvPr/>
          </p:nvSpPr>
          <p:spPr>
            <a:xfrm>
              <a:off x="6858000" y="39304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 Box 14"/>
            <p:cNvSpPr/>
            <p:nvPr/>
          </p:nvSpPr>
          <p:spPr>
            <a:xfrm>
              <a:off x="5410080" y="312408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3" name="AutoShape 15"/>
            <p:cNvCxnSpPr>
              <a:stCxn id="188" idx="1"/>
              <a:endCxn id="187" idx="1"/>
            </p:cNvCxnSpPr>
            <p:nvPr/>
          </p:nvCxnSpPr>
          <p:spPr>
            <a:xfrm flipH="1" rot="10800000">
              <a:off x="5866200" y="2932920"/>
              <a:ext cx="229320" cy="800640"/>
            </a:xfrm>
            <a:prstGeom prst="bentConnector3">
              <a:avLst>
                <a:gd name="adj1" fmla="val -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4" name="AutoShape 16"/>
            <p:cNvCxnSpPr>
              <a:stCxn id="188" idx="2"/>
              <a:endCxn id="189" idx="0"/>
            </p:cNvCxnSpPr>
            <p:nvPr/>
          </p:nvCxnSpPr>
          <p:spPr>
            <a:xfrm flipH="1">
              <a:off x="6743160" y="4038120"/>
              <a:ext cx="108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34C4-5048-4117-B5FC-ACE026901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P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Acceptance-Rejec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-stationary Poisson Process (NSPP): a Poisson arrival process with an arrival rate that varies wit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a behind thinning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a stationary Poisson arrival process at the fastest rat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max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“accept” only a portion of arrivals, thinning out just enough to get the desired time-varying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6"/>
          <p:cNvSpPr/>
          <p:nvPr/>
        </p:nvSpPr>
        <p:spPr>
          <a:xfrm>
            <a:off x="3352680" y="4114800"/>
            <a:ext cx="2743200" cy="5335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E ~ Exp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 = t +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3733920" y="4952880"/>
            <a:ext cx="1981080" cy="838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di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 &lt;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3429000" y="6095880"/>
            <a:ext cx="2590920" cy="304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E ’~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AutoShape 9"/>
          <p:cNvCxnSpPr>
            <a:stCxn id="198" idx="2"/>
            <a:endCxn id="199" idx="0"/>
          </p:cNvCxnSpPr>
          <p:nvPr/>
        </p:nvCxnSpPr>
        <p:spPr>
          <a:xfrm>
            <a:off x="4723920" y="4648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Text Box 10"/>
          <p:cNvSpPr/>
          <p:nvPr/>
        </p:nvSpPr>
        <p:spPr>
          <a:xfrm>
            <a:off x="4800600" y="568332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2895480" y="4572000"/>
            <a:ext cx="53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AutoShape 12"/>
          <p:cNvCxnSpPr>
            <a:stCxn id="199" idx="1"/>
            <a:endCxn id="198" idx="1"/>
          </p:cNvCxnSpPr>
          <p:nvPr/>
        </p:nvCxnSpPr>
        <p:spPr>
          <a:xfrm rot="10800000">
            <a:off x="3351960" y="4380840"/>
            <a:ext cx="381960" cy="991440"/>
          </a:xfrm>
          <a:prstGeom prst="bentConnector3">
            <a:avLst>
              <a:gd name="adj1" fmla="val 16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16"/>
          <p:cNvCxnSpPr>
            <a:stCxn id="199" idx="2"/>
            <a:endCxn id="200" idx="0"/>
          </p:cNvCxnSpPr>
          <p:nvPr/>
        </p:nvCxnSpPr>
        <p:spPr>
          <a:xfrm flipH="1">
            <a:off x="4723560" y="5791320"/>
            <a:ext cx="10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151F8-B9E5-43A5-9EC0-0641A8872A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P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Acceptance-Rejec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enerate a random variate for a NSP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4419720" y="1969920"/>
            <a:ext cx="4495680" cy="45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ep 1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* = max 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t) = 1/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 = 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 = 1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ep 2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For random number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 = 0.21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 = -5ln(0.213) = 13.1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 = 13.1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ep 3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enerat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 = 0.88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13.13)/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*=(1/15)/(1/5)=1/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&gt;1/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do not generate the arriv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ep 2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For random number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 = 0.553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E = -5ln(0.553) = 2.9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 = 13.13 + 2.96 = 16.0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tep 3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Generat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 = 0.02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(16.09)/</a:t>
            </a:r>
            <a:r>
              <a:rPr b="0" i="1" lang="en-US" sz="15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*=(1/15)/(1/5)=1/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R&lt;1/3, T</a:t>
            </a:r>
            <a:r>
              <a:rPr b="0" i="1" lang="en-US" sz="15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= t = 16.09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i = i + 1 = 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113"/>
          <p:cNvGraphicFramePr/>
          <p:nvPr/>
        </p:nvGraphicFramePr>
        <p:xfrm>
          <a:off x="838080" y="2368440"/>
          <a:ext cx="26258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Object 1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68440"/>
                    <a:ext cx="26258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115"/>
          <p:cNvSpPr/>
          <p:nvPr/>
        </p:nvSpPr>
        <p:spPr>
          <a:xfrm>
            <a:off x="762120" y="198756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: Arriva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4414-C54B-4DC9-89D6-1BE8A5FEEA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features of particular family of probabilit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Transformation for normal and lognormal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a distribution (from gamma distribu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2733-CA77-41E1-B0E9-148E4B444A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8" descr="08-7"/>
          <p:cNvPicPr/>
          <p:nvPr/>
        </p:nvPicPr>
        <p:blipFill>
          <a:blip r:embed="rId1"/>
          <a:stretch/>
        </p:blipFill>
        <p:spPr>
          <a:xfrm>
            <a:off x="4856040" y="2403360"/>
            <a:ext cx="2535480" cy="239724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rans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pecial Properti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f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0,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wo standard normal random variable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lotted as a point in the pla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Z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chi-square distributi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grees of freed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Exp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H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di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gl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re mutually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8"/>
              <p:cNvSpPr txBox="1"/>
              <p:nvPr/>
            </p:nvSpPr>
            <p:spPr>
              <a:xfrm>
                <a:off x="3733920" y="4971960"/>
                <a:ext cx="167616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" name="Text Box 4"/>
          <p:cNvSpPr/>
          <p:nvPr/>
        </p:nvSpPr>
        <p:spPr>
          <a:xfrm>
            <a:off x="1489320" y="3124080"/>
            <a:ext cx="22471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olar coordina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B co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B si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15"/>
              <p:cNvSpPr txBox="1"/>
              <p:nvPr/>
            </p:nvSpPr>
            <p:spPr>
              <a:xfrm>
                <a:off x="3276720" y="5791320"/>
                <a:ext cx="25146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R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AF63-06C0-499C-A590-9D683C5E3B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Transfor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pecial Properti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for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(0,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for lognorm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~ N(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379320" y="4879800"/>
            <a:ext cx="136620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10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2971800" y="2590920"/>
            <a:ext cx="1905120" cy="51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45A66-E23F-40E8-83B2-4AF267C40D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ciples of random-variate generate 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-transform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-rejection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generating continuous and discret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01A96-8F3F-4370-815A-A47FE7611E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&amp;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nderstanding of generating samples from a specified distribution as input to a simulation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 some widely-used techniques for generating random vari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-transform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ance-rejection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rope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8ED7-435D-4D6C-B127-6756CA3EB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924680" cy="32004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200480" y="4800600"/>
            <a:ext cx="1971720" cy="866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33520" y="5791320"/>
            <a:ext cx="784836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5"/>
          <p:cNvSpPr/>
          <p:nvPr/>
        </p:nvSpPr>
        <p:spPr>
          <a:xfrm>
            <a:off x="1066680" y="4800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any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8FCD-4DC0-4561-A34C-200896037A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rse-transform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df function: r = F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r from uniform (0,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19520" y="3124080"/>
            <a:ext cx="20574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= F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066680" y="6156360"/>
            <a:ext cx="6705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8"/>
          <p:cNvGrpSpPr/>
          <p:nvPr/>
        </p:nvGrpSpPr>
        <p:grpSpPr>
          <a:xfrm>
            <a:off x="5257800" y="2971800"/>
            <a:ext cx="3048120" cy="2120400"/>
            <a:chOff x="5257800" y="2971800"/>
            <a:chExt cx="3048120" cy="2120400"/>
          </a:xfrm>
        </p:grpSpPr>
        <p:sp>
          <p:nvSpPr>
            <p:cNvPr id="131" name="Line 6"/>
            <p:cNvSpPr/>
            <p:nvPr/>
          </p:nvSpPr>
          <p:spPr>
            <a:xfrm>
              <a:off x="5638680" y="3003480"/>
              <a:ext cx="0" cy="17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5638680" y="4755960"/>
              <a:ext cx="2210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1"/>
            <p:cNvSpPr/>
            <p:nvPr/>
          </p:nvSpPr>
          <p:spPr>
            <a:xfrm>
              <a:off x="5638680" y="34606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2"/>
            <p:cNvSpPr/>
            <p:nvPr/>
          </p:nvSpPr>
          <p:spPr>
            <a:xfrm>
              <a:off x="6553080" y="34606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3"/>
            <p:cNvSpPr/>
            <p:nvPr/>
          </p:nvSpPr>
          <p:spPr>
            <a:xfrm>
              <a:off x="5257800" y="3308400"/>
              <a:ext cx="380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4"/>
            <p:cNvSpPr/>
            <p:nvPr/>
          </p:nvSpPr>
          <p:spPr>
            <a:xfrm>
              <a:off x="6400800" y="4755960"/>
              <a:ext cx="457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5"/>
            <p:cNvSpPr/>
            <p:nvPr/>
          </p:nvSpPr>
          <p:spPr>
            <a:xfrm>
              <a:off x="7315200" y="2971800"/>
              <a:ext cx="99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 = F(x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7"/>
            <p:cNvSpPr/>
            <p:nvPr/>
          </p:nvSpPr>
          <p:spPr>
            <a:xfrm>
              <a:off x="5638680" y="2977920"/>
              <a:ext cx="2133720" cy="1778040"/>
            </a:xfrm>
            <a:custGeom>
              <a:avLst/>
              <a:gdLst/>
              <a:ahLst/>
              <a:rect l="l" t="t" r="r" b="b"/>
              <a:pathLst>
                <a:path w="1344" h="1120">
                  <a:moveTo>
                    <a:pt x="0" y="1120"/>
                  </a:moveTo>
                  <a:cubicBezTo>
                    <a:pt x="148" y="1060"/>
                    <a:pt x="296" y="1000"/>
                    <a:pt x="384" y="880"/>
                  </a:cubicBezTo>
                  <a:cubicBezTo>
                    <a:pt x="472" y="760"/>
                    <a:pt x="472" y="528"/>
                    <a:pt x="528" y="400"/>
                  </a:cubicBezTo>
                  <a:cubicBezTo>
                    <a:pt x="584" y="272"/>
                    <a:pt x="600" y="176"/>
                    <a:pt x="720" y="112"/>
                  </a:cubicBezTo>
                  <a:cubicBezTo>
                    <a:pt x="840" y="48"/>
                    <a:pt x="1152" y="32"/>
                    <a:pt x="1248" y="16"/>
                  </a:cubicBezTo>
                  <a:cubicBezTo>
                    <a:pt x="1344" y="0"/>
                    <a:pt x="1320" y="8"/>
                    <a:pt x="1296" y="1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EAEF-96D0-4D93-AEA6-70477CE5FB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5" descr="08-2"/>
          <p:cNvPicPr/>
          <p:nvPr/>
        </p:nvPicPr>
        <p:blipFill>
          <a:blip r:embed="rId1"/>
          <a:stretch/>
        </p:blipFill>
        <p:spPr>
          <a:xfrm>
            <a:off x="5181480" y="2190600"/>
            <a:ext cx="3505320" cy="299088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verse-transform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Distrib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nential cd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gener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219320" y="2209680"/>
            <a:ext cx="39621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– e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1066680" y="55627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(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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ln(1-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Eq’n 8.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9"/>
          <p:cNvSpPr/>
          <p:nvPr/>
        </p:nvSpPr>
        <p:spPr>
          <a:xfrm>
            <a:off x="6095880" y="528624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: Inverse-transform technique for e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xp(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9" descr=""/>
          <p:cNvPicPr/>
          <p:nvPr/>
        </p:nvPicPr>
        <p:blipFill>
          <a:blip r:embed="rId2"/>
          <a:stretch/>
        </p:blipFill>
        <p:spPr>
          <a:xfrm>
            <a:off x="1224000" y="3352680"/>
            <a:ext cx="2433600" cy="22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6C6C-63E7-4BF3-A65C-23B81BC28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8" descr="08-1b"/>
          <p:cNvPicPr/>
          <p:nvPr/>
        </p:nvPicPr>
        <p:blipFill>
          <a:blip r:embed="rId1"/>
          <a:stretch/>
        </p:blipFill>
        <p:spPr>
          <a:xfrm>
            <a:off x="3276720" y="2556000"/>
            <a:ext cx="3886200" cy="2549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nential Distribu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Gener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es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distribu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p(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U(0,1) (from list of Random variable) and utilize eq’n 8.3, the histogram of Xs beco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: Does the random variab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the desired distrib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4"/>
              <p:cNvSpPr txBox="1"/>
              <p:nvPr/>
            </p:nvSpPr>
            <p:spPr>
              <a:xfrm>
                <a:off x="2895480" y="5699160"/>
                <a:ext cx="3886200" cy="3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48F0-B170-41EF-88A0-F2F29875F4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verse-transform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tribu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other distributions for which inverse cdf work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bul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angula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5B46-13FB-4C6C-8BD3-5313234D3F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nverse-transform f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Continuous Dist’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oretical distribution is not ap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llect empirical da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ample the observ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polate between observed data points to fill in the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mall sample set (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ange the data from smallest to lar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gn the probability 1/n to each interv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2666880" y="3657600"/>
                <a:ext cx="198144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…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5486400" y="4114800"/>
                <a:ext cx="156852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-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x</m:t>
                    </m:r>
                    <m:r>
                      <m:t xml:space="preserve">≤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10"/>
              <p:cNvSpPr txBox="1"/>
              <p:nvPr/>
            </p:nvSpPr>
            <p:spPr>
              <a:xfrm>
                <a:off x="2057400" y="4648320"/>
                <a:ext cx="373392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11"/>
              <p:cNvSpPr txBox="1"/>
              <p:nvPr/>
            </p:nvSpPr>
            <p:spPr>
              <a:xfrm>
                <a:off x="2362320" y="5486400"/>
                <a:ext cx="25905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6B645-4700-4D9D-957C-34E779B02D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4" descr="08-5"/>
          <p:cNvPicPr/>
          <p:nvPr/>
        </p:nvPicPr>
        <p:blipFill>
          <a:blip r:embed="rId1"/>
          <a:stretch/>
        </p:blipFill>
        <p:spPr>
          <a:xfrm>
            <a:off x="4343400" y="3859200"/>
            <a:ext cx="3473280" cy="284652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irical Continuous Dist’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Inverse-transfor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Example 8.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uppose the data collected for100 broken-widget repair tim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10"/>
          <p:cNvGraphicFramePr/>
          <p:nvPr/>
        </p:nvGraphicFramePr>
        <p:xfrm>
          <a:off x="1523880" y="2286000"/>
          <a:ext cx="6248520" cy="1498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67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2286000"/>
                    <a:ext cx="624852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AutoShape 6"/>
          <p:cNvSpPr/>
          <p:nvPr/>
        </p:nvSpPr>
        <p:spPr>
          <a:xfrm rot="16200000">
            <a:off x="1636560" y="4038480"/>
            <a:ext cx="1905120" cy="2362320"/>
          </a:xfrm>
          <a:prstGeom prst="wedgeRoundRectCallout">
            <a:avLst>
              <a:gd name="adj1" fmla="val 43250"/>
              <a:gd name="adj2" fmla="val 79500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ider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.8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.66 &lt;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(4-1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c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(4-1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1.5 + 1.47(0.83-0.6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 1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"/>
          <p:cNvPicPr/>
          <p:nvPr/>
        </p:nvPicPr>
        <p:blipFill>
          <a:blip r:embed="rId4"/>
          <a:stretch/>
        </p:blipFill>
        <p:spPr>
          <a:xfrm>
            <a:off x="9360" y="3352680"/>
            <a:ext cx="1514520" cy="82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"/>
          <p:cNvPicPr/>
          <p:nvPr/>
        </p:nvPicPr>
        <p:blipFill>
          <a:blip r:embed="rId5"/>
          <a:stretch/>
        </p:blipFill>
        <p:spPr>
          <a:xfrm>
            <a:off x="811080" y="6248520"/>
            <a:ext cx="2981520" cy="64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Bakare</cp:lastModifiedBy>
  <dcterms:modified xsi:type="dcterms:W3CDTF">2016-05-12T14:00:09Z</dcterms:modified>
  <cp:revision>302</cp:revision>
  <dc:subject/>
  <dc:title>Chapter 8: Random-Variant Generation</dc:title>
</cp:coreProperties>
</file>