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comments/comment3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Brian" initials="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<Relationship Id="rId49" Type="http://schemas.openxmlformats.org/officeDocument/2006/relationships/commentAuthors" Target="commentAuthors.xml"/>
</Relationships>
</file>

<file path=ppt/comments/comment38.xml><?xml version="1.0" encoding="utf-8"?>
<p:cmLst xmlns:p="http://schemas.openxmlformats.org/presentationml/2006/main">
  <p:cm authorId="0" dt="2005-01-09T08:25:14.653000000" idx="1">
    <p:pos x="4488" y="3255"/>
    <p:text>typo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2F10-A402-485D-AE4A-09FA818A6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03F5-3314-483B-83D3-5AC6CF02F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   STEADY-STATE BEHAVIOR OF INFINITE-POPULATION MARKOVIAN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.1 Single-Server Queues With Poisson Arrivals and Unlimited Capacity: M/G/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6.4.2 Multiserver Queue: M/M/c/∞/∞ (may be ommi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.3 Multiserver Queues with Poisson Arrivals and limited Capacity: M/M/c/N/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STEADY-STATE BEHAVIOR OF FINITE-POPULATION MODELS (M/M/C/K/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NETWORKS OF QUE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 6.2 for notations interpre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Conservation equation (a.k.a. Little’s la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hort note on NETWORKS OF QUEU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full meaning of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/G/1/N/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c st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706B-9841-4989-B96C-567E3606D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A8B76-5957-4E17-9921-45AF8061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F1C7-B737-493B-9A88-FECE8302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58100-C3B4-4A1B-B4E8-C19D30B9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4098-3966-4BBD-9DC7-BC99802E3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1CECA-A61E-41A7-AB61-7ABF8CC2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E6E5-24F2-4EBC-A337-54D2E76E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2D3D-9125-4E7E-96BD-68EE9250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BF3E-272E-4C6A-822A-551613B8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F25A9-A54A-401B-8006-E6902B7B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4136-DCB1-41ED-BEC2-C669C9CA5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81F7-79BD-49DD-AB53-14F82DA51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3362D-1C56-4389-B32C-E704C525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58AC-82FA-432C-BE39-565830E9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D902-6BDF-40B5-9403-1D1BE789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1B3F-A3E2-42BA-BFA3-0805EB46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FE59-8F9A-4B6A-A5D4-339A1861E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2557A-2FB0-4E16-BCC6-384BF593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DD86C-66AD-4A29-B69E-6F2BCFC0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56C4-DAC1-4638-AF75-F63FB333C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5DD04-3EFA-4111-9383-6679CFA3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AB13-F575-4678-B44A-80000BFA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23D32-151A-4962-BA52-FD0FE420F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A33F-23E7-4075-A285-97EB75BA4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3ACAB-64B9-43BA-862D-3C1732A4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F2CA5-510D-4A81-BA3F-FB5C367F5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066680"/>
            <a:ext cx="9144000" cy="546120"/>
            <a:chOff x="0" y="106668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106668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20168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20168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106668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20168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134136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20312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133812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147636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781680" y="4572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F2AA-92F3-489B-BF09-78A0080596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pter 6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Queueing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, Carson, Nelson &amp; Ni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-Event Syste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F79F-3A3C-4E36-9728-E12197BFD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Times and Service Mechanis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times of successive arrivals are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constant or ran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} is usually characterized as a sequence of independent and identically distributed random variables, e.g., exponential, Weibull, gamma, lognormal, and truncated normal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ueing system consists of a number of service centers and interconnected que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service center consists of some number of server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orking in parallel, upon getting to the head of the line, a customer take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ailable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5913-9EB4-470D-8299-02B2585D3E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Times and Service Mechanis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consider a discount warehouse where customers m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 themselves before paying at the cashi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06-3"/>
          <p:cNvPicPr/>
          <p:nvPr/>
        </p:nvPicPr>
        <p:blipFill>
          <a:blip r:embed="rId1"/>
          <a:stretch/>
        </p:blipFill>
        <p:spPr>
          <a:xfrm>
            <a:off x="1828800" y="3159000"/>
            <a:ext cx="5334120" cy="22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0BA1-8557-4B95-9D6D-919A57CC7A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Times and Service Mechanis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 for one of the three cler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 service (a server serving several customers simultaneously), or customer requires several servers simultaneous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06-4"/>
          <p:cNvPicPr/>
          <p:nvPr/>
        </p:nvPicPr>
        <p:blipFill>
          <a:blip r:embed="rId1"/>
          <a:stretch/>
        </p:blipFill>
        <p:spPr>
          <a:xfrm>
            <a:off x="2895480" y="1981080"/>
            <a:ext cx="26766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3FB0-6DA9-4271-82CA-58A3D64BFB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ing No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tation system for parallel server queues: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/B/c/N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s the interarrival-time distribu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s the service-time distribu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s the number of parallel serve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s the system capacit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resents the size of the calling pop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EAE1-8F83-4378-96EB-5EBD918189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ing No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performance measures of queueing 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ady-state probability of having n customers in syst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ability of n customers in system at time 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r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ffective arrival ra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rate of one serv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utiliz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arrival time between customers n-1 and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time of the nth arriving custom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time spent in system by the nth arriving custom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time spent in the waiting line by customer 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(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customers in system at time 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number of customers in queue at time 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run time-average number of customers in syste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run time-average number of customers in que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run average time spent in system per custom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-run average time spent in queue per custo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84D4-021E-4C8F-8158-1F646F558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-Average Number in Syst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queueing system over a period of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note the total time during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,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 in which the system contained exactl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stomers, the time-weighted-average number in a system is defin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total area under the function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-run time-average # in system, with probabilit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7"/>
              <p:cNvSpPr txBox="1"/>
              <p:nvPr/>
            </p:nvSpPr>
            <p:spPr>
              <a:xfrm>
                <a:off x="3200400" y="2762280"/>
                <a:ext cx="23623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r>
                          <m:t xml:space="preserve">i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9"/>
              <p:cNvSpPr txBox="1"/>
              <p:nvPr/>
            </p:nvSpPr>
            <p:spPr>
              <a:xfrm>
                <a:off x="3130560" y="3983040"/>
                <a:ext cx="27432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1"/>
              <p:cNvSpPr txBox="1"/>
              <p:nvPr/>
            </p:nvSpPr>
            <p:spPr>
              <a:xfrm>
                <a:off x="3130560" y="5334120"/>
                <a:ext cx="349884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→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   as    </m:t>
                    </m:r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35C5-824E-4E6F-96B3-89BB1AF517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-Average Number in Syst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me-weighted-average number in queu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/G/1/N/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ample: consider the results from the queueing system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&gt; 4, K &gt;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4"/>
              <p:cNvSpPr txBox="1"/>
              <p:nvPr/>
            </p:nvSpPr>
            <p:spPr>
              <a:xfrm>
                <a:off x="4876920" y="4479840"/>
                <a:ext cx="293364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           if </m:t>
                              </m:r>
                              <m:r>
                                <m:t xml:space="preserve">L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L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if </m:t>
                              </m:r>
                              <m:r>
                                <m:t xml:space="preserve">L</m:t>
                              </m:r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  <m:r>
                                <m:t xml:space="preserve">≥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6"/>
              <p:cNvSpPr txBox="1"/>
              <p:nvPr/>
            </p:nvSpPr>
            <p:spPr>
              <a:xfrm>
                <a:off x="4876920" y="5475240"/>
                <a:ext cx="35812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 custome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7"/>
              <p:cNvSpPr txBox="1"/>
              <p:nvPr/>
            </p:nvSpPr>
            <p:spPr>
              <a:xfrm>
                <a:off x="1685880" y="1765440"/>
                <a:ext cx="52484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Q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as    </m:t>
                    </m:r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8"/>
              <p:cNvSpPr txBox="1"/>
              <p:nvPr/>
            </p:nvSpPr>
            <p:spPr>
              <a:xfrm>
                <a:off x="4876920" y="3648240"/>
                <a:ext cx="3047760" cy="69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]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rPr>
                            <m:lit/>
                            <m:nor/>
                          </m:rPr>
                          <m:t xml:space="preserve"> cusomte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72" name="Picture 9" descr="06-6"/>
          <p:cNvPicPr/>
          <p:nvPr/>
        </p:nvPicPr>
        <p:blipFill>
          <a:blip r:embed="rId1"/>
          <a:stretch/>
        </p:blipFill>
        <p:spPr>
          <a:xfrm>
            <a:off x="685800" y="3871800"/>
            <a:ext cx="380988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18D6-2164-4562-9B15-6FDE942761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erage Time Spent in System Per Custom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verage time spent in system per customer, called the average system time,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,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the individual times that each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stomers spend in the system during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,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table syste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ystem under consideration is the queue al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/G/1/N/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ample (cont.): the average system time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5"/>
              <p:cNvSpPr txBox="1"/>
              <p:nvPr/>
            </p:nvSpPr>
            <p:spPr>
              <a:xfrm>
                <a:off x="3733920" y="3657600"/>
                <a:ext cx="22860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w</m:t>
                    </m:r>
                    <m:r>
                      <m:rPr>
                        <m:lit/>
                        <m:nor/>
                      </m:rPr>
                      <m:t xml:space="preserve">  as  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8"/>
              <p:cNvSpPr txBox="1"/>
              <p:nvPr/>
            </p:nvSpPr>
            <p:spPr>
              <a:xfrm>
                <a:off x="5105520" y="1905120"/>
                <a:ext cx="1523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graphicFrame>
        <p:nvGraphicFramePr>
          <p:cNvPr id="178" name="Object 17"/>
          <p:cNvGraphicFramePr/>
          <p:nvPr/>
        </p:nvGraphicFramePr>
        <p:xfrm>
          <a:off x="2438280" y="4357800"/>
          <a:ext cx="4038840" cy="73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357800"/>
                    <a:ext cx="4038840" cy="73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0" name="Object 19"/>
              <p:cNvSpPr txBox="1"/>
              <p:nvPr/>
            </p:nvSpPr>
            <p:spPr>
              <a:xfrm>
                <a:off x="1625760" y="5656320"/>
                <a:ext cx="645156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time unit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D16F-00D8-4F88-B489-179DC3B9F0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servation Equation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on equation (a.k.a. Little’s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lds for almost all queueing systems or subsystems (regardless of the number of servers, the queue discipline, or other special circumstanc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/G/1/N/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ample (cont.): On average, one arrival eve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 units and each arrival spen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.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 units in the system.  Hence, at an arbitrary point in time, ther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1/4)(4.6) = 1.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stomers present on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5"/>
              <p:cNvSpPr txBox="1"/>
              <p:nvPr/>
            </p:nvSpPr>
            <p:spPr>
              <a:xfrm>
                <a:off x="3457440" y="1905120"/>
                <a:ext cx="11145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L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2133720" y="3182760"/>
                <a:ext cx="4876560" cy="45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λw</m:t>
                    </m:r>
                    <m:r>
                      <m:rPr>
                        <m:lit/>
                        <m:nor/>
                      </m:rPr>
                      <m:t xml:space="preserve">    as    </m:t>
                    </m:r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  <m:r>
                      <m:rPr>
                        <m:lit/>
                        <m:nor/>
                      </m:rPr>
                      <m:t xml:space="preserve">  and  </m:t>
                    </m:r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AutoShape 8"/>
          <p:cNvSpPr/>
          <p:nvPr/>
        </p:nvSpPr>
        <p:spPr>
          <a:xfrm rot="16200000">
            <a:off x="4114800" y="2057040"/>
            <a:ext cx="381240" cy="1600200"/>
          </a:xfrm>
          <a:prstGeom prst="wedgeRoundRectCallout">
            <a:avLst>
              <a:gd name="adj1" fmla="val 135828"/>
              <a:gd name="adj2" fmla="val -5754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ival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 rot="16200000">
            <a:off x="5715000" y="1676160"/>
            <a:ext cx="457200" cy="1524240"/>
          </a:xfrm>
          <a:prstGeom prst="wedgeRoundRectCallout">
            <a:avLst>
              <a:gd name="adj1" fmla="val 52777"/>
              <a:gd name="adj2" fmla="val -8687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System 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 rot="16200000">
            <a:off x="2095560" y="1790640"/>
            <a:ext cx="457200" cy="1447920"/>
          </a:xfrm>
          <a:prstGeom prst="wedgeRoundRectCallout">
            <a:avLst>
              <a:gd name="adj1" fmla="val 60759"/>
              <a:gd name="adj2" fmla="val 7762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erage # in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2C28A-D7E6-4AFC-A128-B7FCB3B777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Utilization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: the proportion of time that a server is bu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d server utilization,   , is defined over a specified time interval [0,T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run server utilization i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ystems with long-run sta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5"/>
              <p:cNvSpPr txBox="1"/>
              <p:nvPr/>
            </p:nvSpPr>
            <p:spPr>
              <a:xfrm>
                <a:off x="5562720" y="2895480"/>
                <a:ext cx="25146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   as    </m:t>
                    </m:r>
                    <m:r>
                      <m:t xml:space="preserve">T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9"/>
              <p:cNvSpPr txBox="1"/>
              <p:nvPr/>
            </p:nvSpPr>
            <p:spPr>
              <a:xfrm>
                <a:off x="4348080" y="1981080"/>
                <a:ext cx="22392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8DC2-779C-4DAC-BC89-86D3932DD4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is often used in the analysis of queueing mod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imple but typical queueing model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ueing models provide the analyst with a powerful tool for designing and evaluating the performance of queueing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ypical measures of system performance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utilization, length of waiting lines, and delays of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latively simple systems, compute mathema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listic models of complex systems, simulation is usually requi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06-1"/>
          <p:cNvPicPr/>
          <p:nvPr/>
        </p:nvPicPr>
        <p:blipFill>
          <a:blip r:embed="rId1"/>
          <a:stretch/>
        </p:blipFill>
        <p:spPr>
          <a:xfrm>
            <a:off x="2362320" y="2306520"/>
            <a:ext cx="3352680" cy="108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0B12-A94D-4B6F-84E5-21EAC7821B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Utilization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/G/1/∞/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y single-server queueing system with average arrival rate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ustomers per time unit, where average service tim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(S) = 1/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ime units, infinite queue capacity and calling popul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ervation equation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can be appli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 stable system, the average arrival rate to the server,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must be identical to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verage number of customers in the server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2819520" y="4952880"/>
                <a:ext cx="38862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L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06E56-2BD2-436F-9CBD-974FA2F305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Utilization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general, for a single-server que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ingle-server stable que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n unstable queue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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 long-run server utilization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2819520" y="1892160"/>
                <a:ext cx="304776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L</m:t>
                                </m:r>
                              </m:e>
                            </m:acc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ρ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   as  </m:t>
                        </m:r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λE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5943600" y="2895480"/>
                <a:ext cx="988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43C8-074A-47D6-99F2-807B0BD67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Utilization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/G/c/∞/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ystem with c identical servers in parall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 arriving customer finds more than one server idle, the customer chooses a server without favoring any particular serv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systems in statistical equilibrium, the average number of busy servers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s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(s)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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long-run average server utilization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7"/>
              <p:cNvSpPr txBox="1"/>
              <p:nvPr/>
            </p:nvSpPr>
            <p:spPr>
              <a:xfrm>
                <a:off x="2057400" y="4484520"/>
                <a:ext cx="5867280" cy="84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c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,    where  </m:t>
                    </m:r>
                    <m:r>
                      <m:t xml:space="preserve">λ</m:t>
                    </m:r>
                    <m:r>
                      <m:t xml:space="preserve">&lt;</m:t>
                    </m:r>
                    <m:r>
                      <m:t xml:space="preserve">cμ</m:t>
                    </m:r>
                    <m:r>
                      <m:rPr>
                        <m:lit/>
                        <m:nor/>
                      </m:rPr>
                      <m:t xml:space="preserve">  for stable system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3848-945A-461D-A781-125E0D4C84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Utilization and System Performance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performance varies widely for a given utilizatio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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xample,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/D/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ueue whe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(A) = 1/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(S) = 1/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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  w = E(S) = 1/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  L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= W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Q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=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varying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 utilization can assume any value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t there is never any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variability of interarrival and service times causes lines to fluctuate in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3A2C-1BEE-4FE8-95BD-74A1627EE5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9" descr="06-11"/>
          <p:cNvPicPr/>
          <p:nvPr/>
        </p:nvPicPr>
        <p:blipFill>
          <a:blip r:embed="rId1"/>
          <a:stretch/>
        </p:blipFill>
        <p:spPr>
          <a:xfrm>
            <a:off x="2514600" y="4267080"/>
            <a:ext cx="3352680" cy="15242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r Utilization and System Performance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A physician who schedules patients eve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utes and spend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utes with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tie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ivals are deterministic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…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s are stochastic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(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9.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V(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0.8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average, the physician's utiliz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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0.93 &lt;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system is simulated with service time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9,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12,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9,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9,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9, …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The system beco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ccurrence of a relatively long service tim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auses a waiting line to form temporar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5029200" y="1790640"/>
                <a:ext cx="35053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9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minutes with probability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9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2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minutes with probability </m:t>
                              </m:r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4C40-1380-4318-82C7-532CB5CBA1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s in Queueing Problems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can be associated with various aspects of the waiting line or serv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ncurs a cost for each customer in the queue, say at a rat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hour per custom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cost per customer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customers per hour arrive (on average), the average cost per hour i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 may also impose costs on the system, if a group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 server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∞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ve utilization r, each server imposes a cost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hour while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otal server cost is: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5*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7"/>
              <p:cNvSpPr txBox="1"/>
              <p:nvPr/>
            </p:nvSpPr>
            <p:spPr>
              <a:xfrm>
                <a:off x="3276720" y="3048120"/>
                <a:ext cx="243828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∗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9" name="AutoShape 9"/>
          <p:cNvSpPr/>
          <p:nvPr/>
        </p:nvSpPr>
        <p:spPr>
          <a:xfrm rot="16200000">
            <a:off x="6591240" y="2476080"/>
            <a:ext cx="762120" cy="1752840"/>
          </a:xfrm>
          <a:prstGeom prst="wedgeRoundRectCallout">
            <a:avLst>
              <a:gd name="adj1" fmla="val 8328"/>
              <a:gd name="adj2" fmla="val -141037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the time customer j spends in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10"/>
              <p:cNvSpPr txBox="1"/>
              <p:nvPr/>
            </p:nvSpPr>
            <p:spPr>
              <a:xfrm>
                <a:off x="1828800" y="3733920"/>
                <a:ext cx="237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12"/>
              <p:cNvSpPr txBox="1"/>
              <p:nvPr/>
            </p:nvSpPr>
            <p:spPr>
              <a:xfrm>
                <a:off x="3276720" y="4230720"/>
                <a:ext cx="49924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our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∗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∗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/ hou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7E0D3-69F6-420D-A68B-0A39D44062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dy-State Behavior of Infinite-Population Markovia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rkovian models: exponential-distribution arrival process (mean arrival rate =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rvice times may be exponentially distributed as well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or arbitrary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queueing system is in statistical equilibrium if the probability that the system is in a given state is not time dependent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( L(t) = n ) = 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(t) = 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hematical models in this chapter can be used to obtain approximate results even when the model assumptions do not strictly hold (as a rough guid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ulation can be used for more refined analysis (more faithful representation for complex system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8456-162F-4FA6-96CA-79099E9E61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dy-State Behavior of Infinite-Population Markovia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the simple model studied in this chapter, the steady-state parameter, L, the time-average number of customers in the system i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Little’s equation to the whole system and to the queue al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/G/c/∞/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mpl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to have a statistical equilibrium, a necessary and sufficient condition is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/(c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 &lt; 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3581280" y="2133720"/>
                <a:ext cx="1295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∗</m:t>
                            </m:r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Q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∗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6"/>
              <p:cNvSpPr txBox="1"/>
              <p:nvPr/>
            </p:nvSpPr>
            <p:spPr>
              <a:xfrm>
                <a:off x="3200400" y="3809880"/>
                <a:ext cx="251460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λ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F6289-417C-43BF-A7E5-AA362300A6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G/1 Que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of Markovian Mod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server queues with Poisson arrivals &amp; unlimited capac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service times have me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and vari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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 1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eady-state parameter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/G/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7"/>
              <p:cNvSpPr txBox="1"/>
              <p:nvPr/>
            </p:nvSpPr>
            <p:spPr>
              <a:xfrm>
                <a:off x="2209680" y="2819520"/>
                <a:ext cx="4496040" cy="187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λ</m:t>
                            </m:r>
                          </m:e>
                        </m:acc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hour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$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∗</m:t>
                            </m:r>
                            <m:sSub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w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custome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∗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λ</m:t>
                        </m:r>
                      </m:e>
                    </m:acc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$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∗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/ hou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1BB6E-E7B7-4531-8628-9E51AB29CE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G/1 Que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of Markovian Mod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imple expression for the steady-state probabilit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 – 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time-average number of customers being 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length of queue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rewritten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re held constant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pends on the variability,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of the service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Object 5"/>
              <p:cNvSpPr txBox="1"/>
              <p:nvPr/>
            </p:nvSpPr>
            <p:spPr>
              <a:xfrm>
                <a:off x="3276720" y="2895480"/>
                <a:ext cx="251460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FD1D3-34A7-43AA-8BDB-8171D3B3C6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scuss some well-known models (not development of queueing theories)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neral characteristics of queu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nings and relationships of important performance measure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stimation of mean measures of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 of varying input parameters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hematical solution of some basic queueing mod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2E58-31C8-4D7A-873F-AC59738BC4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G/1 Que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of Markovian Mod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wo workers competing for a job, Able claims to be faster than Baker on average, but Baker claims to be more consiste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sson arrivals at rate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hour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/3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minut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2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utes and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4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ut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ortion of arrivals who find Able idle and thus experience no delay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= 1-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= 1/5 = 2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ker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25 minut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utes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roportion of arrivals who find Baker idle and thus experience no delay is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= 1-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= 1/6 = 16.7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though working faster on average, Able’s greater service variability results in an average queue length abou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reater than Baker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6"/>
              <p:cNvSpPr txBox="1"/>
              <p:nvPr/>
            </p:nvSpPr>
            <p:spPr>
              <a:xfrm>
                <a:off x="2362320" y="2666880"/>
                <a:ext cx="3809880" cy="6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400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1</m:t>
                    </m:r>
                    <m:r>
                      <m:rPr>
                        <m:lit/>
                        <m:nor/>
                      </m:rPr>
                      <m:t xml:space="preserve"> customer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13"/>
              <p:cNvSpPr txBox="1"/>
              <p:nvPr/>
            </p:nvSpPr>
            <p:spPr>
              <a:xfrm>
                <a:off x="2438280" y="4419720"/>
                <a:ext cx="361800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7</m:t>
                    </m:r>
                    <m:r>
                      <m:rPr>
                        <m:lit/>
                        <m:nor/>
                      </m:rPr>
                      <m:t xml:space="preserve"> customer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AC06-E1CC-4BA6-9CAA-B8F78F5CEC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M/1 Que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of Markovian Mod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ervice times in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/G/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ue are exponentially distributed with me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e variance i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/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/M/1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ue is a useful approximate model when service times have standard deviation approximately equal to their mea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teady-state paramet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Object 8"/>
              <p:cNvSpPr txBox="1"/>
              <p:nvPr/>
            </p:nvSpPr>
            <p:spPr>
              <a:xfrm>
                <a:off x="2133720" y="4181400"/>
                <a:ext cx="4724280" cy="17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e>
                        </m:d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λ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λ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den>
                        </m:f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μ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λ</m:t>
                                </m:r>
                              </m:e>
                            </m:d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ρ</m:t>
                            </m:r>
                          </m:num>
                          <m:den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C79E-7431-43AB-AC81-5CC0AA4110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/M/1 Queu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of Markovian Mod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/M/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eue with service rat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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stomers per hou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ho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 as arrival rate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creases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.6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increments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%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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aiting lines tend to continually grow in leng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in average system time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average number in system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is highly nonlinear as a function o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" name="Object 6"/>
          <p:cNvGraphicFramePr/>
          <p:nvPr/>
        </p:nvGraphicFramePr>
        <p:xfrm>
          <a:off x="1905120" y="3117960"/>
          <a:ext cx="5824440" cy="122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117960"/>
                    <a:ext cx="5824440" cy="12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8361-9F47-44C0-A9A7-7EA158997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Utilization and Service Vari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of Markovian Mod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almost all queues, if lines are too long, they can be reduced by decreasing server utilization (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or by decreasing the service time variability (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measure of the variability of a distribution, coefficient of variation (cv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r cv is, the more variable is the distribution relative to its expected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7"/>
              <p:cNvSpPr txBox="1"/>
              <p:nvPr/>
            </p:nvSpPr>
            <p:spPr>
              <a:xfrm>
                <a:off x="3797280" y="3048120"/>
                <a:ext cx="18525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v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E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D01E-766B-4A18-9547-9DC94083AA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Utilization and Service Vari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of Markovian Mod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/G/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ueu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5"/>
              <p:cNvSpPr txBox="1"/>
              <p:nvPr/>
            </p:nvSpPr>
            <p:spPr>
              <a:xfrm>
                <a:off x="1295280" y="2209680"/>
                <a:ext cx="24386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ρ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μ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v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60" name="AutoShape 6"/>
          <p:cNvSpPr/>
          <p:nvPr/>
        </p:nvSpPr>
        <p:spPr>
          <a:xfrm rot="16200000">
            <a:off x="1180800" y="3695040"/>
            <a:ext cx="762120" cy="1447920"/>
          </a:xfrm>
          <a:prstGeom prst="wedgeRoundRectCallout">
            <a:avLst>
              <a:gd name="adj1" fmla="val 95828"/>
              <a:gd name="adj2" fmla="val 41333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/M/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 rot="16200000">
            <a:off x="3352680" y="3580920"/>
            <a:ext cx="1143000" cy="1905120"/>
          </a:xfrm>
          <a:prstGeom prst="wedgeRoundRectCallout">
            <a:avLst>
              <a:gd name="adj1" fmla="val 77638"/>
              <a:gd name="adj2" fmla="val -40083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rects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/M/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mula to account for a non-exponential service time dist’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5" descr="06-12"/>
          <p:cNvPicPr/>
          <p:nvPr/>
        </p:nvPicPr>
        <p:blipFill>
          <a:blip r:embed="rId1"/>
          <a:stretch/>
        </p:blipFill>
        <p:spPr>
          <a:xfrm>
            <a:off x="5105520" y="2063880"/>
            <a:ext cx="3581280" cy="296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8401-F15E-4263-BE16-69176062A4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server Que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of Markovian Mod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/M/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∞/∞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ueue: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hannels operating in parall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hannel has an independent and identical exponential service-time distribution, with me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hieve statistical equilibrium, the offered load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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must satisf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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(c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erver uti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steady-state 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9"/>
              <p:cNvSpPr txBox="1"/>
              <p:nvPr/>
            </p:nvSpPr>
            <p:spPr>
              <a:xfrm>
                <a:off x="2514600" y="3581280"/>
                <a:ext cx="4952880" cy="298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cμ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0</m:t>
                                        </m:r>
                                      </m:sub>
                                      <m:sup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p>
                                      <m:e>
                                        <m:f>
                                          <m:num>
                                            <m:r>
                                              <m:t xml:space="preserve">(</m:t>
                                            </m:r>
                                            <m:f>
                                              <m:fPr>
                                                <m:type m:val="lin"/>
                                              </m:fPr>
                                              <m:num>
                                                <m:r>
                                                  <m:t xml:space="preserve">λ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μ</m:t>
                                                </m:r>
                                              </m:den>
                                            </m:f>
                                            <m:sSup>
                                              <m:e>
                                                <m:r>
                                                  <m:t xml:space="preserve">)</m:t>
                                                </m:r>
                                              </m:e>
                                              <m:sup>
                                                <m:r>
                                                  <m:t xml:space="preserve">n</m:t>
                                                </m:r>
                                              </m:sup>
                                            </m:sSup>
                                          </m:num>
                                          <m:den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!</m:t>
                                            </m:r>
                                          </m:den>
                                        </m:f>
                                      </m:e>
                                    </m:nary>
                                  </m:e>
                                </m:d>
                                <m:r>
                                  <m:t xml:space="preserve">+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λ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μ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c</m:t>
                                        </m:r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c</m:t>
                                            </m:r>
                                            <m:r>
                                              <m:t xml:space="preserve">!</m:t>
                                            </m:r>
                                          </m:den>
                                        </m:f>
                                      </m:e>
                                    </m:d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cμ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cμ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λ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cρ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cρ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c</m:t>
                            </m:r>
                            <m:r>
                              <m:t xml:space="preserve">!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t xml:space="preserve">cρ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ρ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L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∞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≥</m:t>
                                </m:r>
                                <m:r>
                                  <m:t xml:space="preserve">c</m:t>
                                </m:r>
                              </m:e>
                            </m:d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ρ</m:t>
                            </m:r>
                          </m:den>
                        </m:f>
                      </m:e>
                      <m:e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9BFB9-87D8-4816-B029-7AD2887EC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server Queu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of Markovian Mod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common multiserver queueing mode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/G/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general service times and c parallel server.  The parameters can be approximated from those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/M/c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∞/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/G/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∞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service times and infinite number of servers, e.g., customer is its own system, service capacity far exceeds service dem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/M/C/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service times are exponentially distributed at rate m and c servers where the total system capacity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stomer (when an arrival occurs and the system is full, that arrival is turned awa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7517-1E8B-4165-8ED1-476D1A0F07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dy-State Behavior of Finite-Population Model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he calling population is small, the presence of one or more customers in the system has a strong effect on the distribution of future arriva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sider a finite-calling population model wit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ustomers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/M/c/K/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time between the end of one service visit and the next call for service is exponentially distributed, (mean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times are also exponentially distrib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llel servers and system capacity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37B3-2117-45A3-AD62-FCD12AFA38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dy-State Behavior of Finite-Populat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of the steady-state probabilit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Object 4"/>
              <p:cNvSpPr txBox="1"/>
              <p:nvPr/>
            </p:nvSpPr>
            <p:spPr>
              <a:xfrm>
                <a:off x="1600200" y="1828800"/>
                <a:ext cx="4267080" cy="299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c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m>
                                          <m:mr>
                                            <m:e>
                                              <m:r>
                                                <m:t xml:space="preserve">K</m:t>
                                              </m:r>
                                            </m:e>
                                          </m:mr>
                                          <m:mr>
                                            <m:e>
                                              <m:r>
                                                <m:t xml:space="preserve">n</m:t>
                                              </m:r>
                                            </m:e>
                                          </m:mr>
                                        </m:m>
                                      </m:e>
                                    </m:d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λ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μ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e>
                                </m:nary>
                                <m:r>
                                  <m:t xml:space="preserve">+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c</m:t>
                                    </m:r>
                                  </m:sub>
                                  <m:sup>
                                    <m:r>
                                      <m:t xml:space="preserve">K</m:t>
                                    </m:r>
                                  </m:sup>
                                  <m:e>
                                    <m:f>
                                      <m:num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!</m:t>
                                        </m:r>
                                      </m:num>
                                      <m:den>
                                        <m:r>
                                          <m:t xml:space="preserve">(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)</m:t>
                                        </m:r>
                                        <m:r>
                                          <m:t xml:space="preserve">!</m:t>
                                        </m:r>
                                        <m:r>
                                          <m:t xml:space="preserve">c</m:t>
                                        </m:r>
                                        <m:r>
                                          <m:t xml:space="preserve">!</m:t>
                                        </m:r>
                                        <m:sSup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p>
                                            <m:r>
                                              <m:t xml:space="preserve">n</m:t>
                                            </m:r>
                                            <m:r>
                                              <m:t xml:space="preserve">−</m:t>
                                            </m:r>
                                            <m:r>
                                              <m:t xml:space="preserve">c</m:t>
                                            </m:r>
                                          </m:sup>
                                        </m:sSup>
                                      </m:den>
                                    </m:f>
                                    <m:sSup>
                                      <m:e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f>
                                              <m:num>
                                                <m:r>
                                                  <m:t xml:space="preserve">λ</m:t>
                                                </m:r>
                                              </m:num>
                                              <m:den>
                                                <m:r>
                                                  <m:t xml:space="preserve">μ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{"/>
                            <m:endChr m:val=""/>
                          </m:dPr>
                          <m:e>
                            <m:m>
                              <m:mr>
                                <m:e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m>
                                        <m:m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mr>
                                        <m:mr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</m:mr>
                                      </m:m>
                                    </m:e>
                                  </m:d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r>
                                                <m:t xml:space="preserve">λ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μ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  <m:sSub>
                                    <m:e>
                                      <m:r>
                                        <m:t xml:space="preserve">P</m:t>
                                      </m:r>
                                    </m:e>
                                    <m:sub>
                                      <m:r>
                                        <m:t xml:space="preserve">0</m:t>
                                      </m:r>
                                    </m:sub>
                                  </m:s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                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0,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e>
                              </m:mr>
                              <m:mr>
                                <m:e>
                                  <m:f>
                                    <m:num>
                                      <m:r>
                                        <m:t xml:space="preserve">K</m:t>
                                      </m:r>
                                      <m:r>
                                        <m:t xml:space="preserve">!</m:t>
                                      </m:r>
                                    </m:num>
                                    <m:den>
                                      <m:r>
                                        <m:t xml:space="preserve">(</m:t>
                                      </m:r>
                                      <m:r>
                                        <m:t xml:space="preserve">K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n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!</m:t>
                                      </m:r>
                                      <m:r>
                                        <m:t xml:space="preserve">c</m:t>
                                      </m:r>
                                      <m:r>
                                        <m:t xml:space="preserve">!</m:t>
                                      </m:r>
                                      <m:sSup>
                                        <m:e>
                                          <m:r>
                                            <m:t xml:space="preserve">c</m:t>
                                          </m:r>
                                        </m:e>
                                        <m:sup>
                                          <m:r>
                                            <m:t xml:space="preserve">n</m:t>
                                          </m:r>
                                          <m:r>
                                            <m:t xml:space="preserve">−</m:t>
                                          </m:r>
                                          <m:r>
                                            <m:t xml:space="preserve">c</m:t>
                                          </m:r>
                                        </m:sup>
                                      </m:sSup>
                                    </m:den>
                                  </m:f>
                                  <m:sSup>
                                    <m:e>
                                      <m:d>
                                        <m:dPr>
                                          <m:begChr m:val="("/>
                                          <m:endChr m:val=")"/>
                                        </m:dPr>
                                        <m:e>
                                          <m:f>
                                            <m:num>
                                              <m:r>
                                                <m:t xml:space="preserve">λ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μ</m:t>
                                              </m:r>
                                            </m:den>
                                          </m:f>
                                        </m:e>
                                      </m:d>
                                    </m:e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</m:s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     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=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,</m:t>
                                  </m:r>
                                  <m:r>
                                    <m:t xml:space="preserve">c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K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w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L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cμ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Object 12"/>
              <p:cNvSpPr txBox="1"/>
              <p:nvPr/>
            </p:nvSpPr>
            <p:spPr>
              <a:xfrm>
                <a:off x="828720" y="5100480"/>
                <a:ext cx="771696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long run effective arrival rate of customers to queue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or entering/exiting servic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sSub>
                              <m:e>
                                <m:r>
                                  <m:t xml:space="preserve">λ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FD20-2DF3-479A-AEDE-304930B04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ady-State Behavior of Finite-Populat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two workers who are responsible fo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illing machin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hines run on the average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utes, then require an averag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inute service period, both times exponentially distributed: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1/20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1/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f the performance measures depend 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, we can obtain the oth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number of machines in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 number of running machi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8"/>
              <p:cNvSpPr txBox="1"/>
              <p:nvPr/>
            </p:nvSpPr>
            <p:spPr>
              <a:xfrm>
                <a:off x="2133720" y="3433680"/>
                <a:ext cx="510516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m>
                                      <m:m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10</m:t>
                                          </m:r>
                                        </m:e>
                                      </m:mr>
                                      <m:mr>
                                        <m:e>
                                          <m:r>
                                            <m:t xml:space="preserve">n</m:t>
                                          </m:r>
                                        </m:e>
                                      </m:mr>
                                    </m:m>
                                  </m:e>
                                </m:d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5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0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nary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sup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!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!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!</m:t>
                                    </m:r>
                                    <m:sSup>
                                      <m:e>
                                        <m:r>
                                          <m:t xml:space="preserve">2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den>
                                </m:f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num>
                                            <m:r>
                                              <m:t xml:space="preserve">5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20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6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9"/>
              <p:cNvSpPr txBox="1"/>
              <p:nvPr/>
            </p:nvSpPr>
            <p:spPr>
              <a:xfrm>
                <a:off x="2743200" y="4876920"/>
                <a:ext cx="25146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P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 machin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11"/>
              <p:cNvSpPr txBox="1"/>
              <p:nvPr/>
            </p:nvSpPr>
            <p:spPr>
              <a:xfrm>
                <a:off x="2743200" y="5965920"/>
                <a:ext cx="3013200" cy="2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−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 machines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9550-BB04-4A76-932E-2F5E1F557F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Queueing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y elements of queueing syste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: refers to anything that arrives at a facility and requires service, e.g., people, machines, trucks, emai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: refers to any resource that provides the requested service, e.g., repairpersons, retrieval machines, runways at airpo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4EA5-25D1-4B15-A645-69ABF8AF28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s of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y systems are naturally modeled as networks of single queues: customers departing from one queue may be routed to anoth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following results assume a stable system with infinite calling population and no limit on system capac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d that no customers are created or destroyed in the queue, then the departure rate out of a queue is the same as the arrival rate into the queue (over the long ru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customers arrive to que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r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 fra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m are routed to queue j upon departure, then the arrival rate form que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que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over the long ru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51C8-F773-4509-985F-8144430054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s of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verall arrival rate into queue j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que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∞ parallel servers, each working at r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n the long-run utilization of each server i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(c</a:t>
            </a:r>
            <a:r>
              <a:rPr b="0" i="1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stable queu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rrivals from outside the network form a Poisson process with r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ach que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if there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u="sng" baseline="-25000">
                <a:solidFill>
                  <a:srgbClr val="000000"/>
                </a:solidFill>
                <a:uFillTx/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servers delivering exponentially distributed service times with me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n, in steady state, queu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haves like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/M/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ue with arrival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3124080" y="1828800"/>
                <a:ext cx="21337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1" name="AutoShape 6"/>
          <p:cNvSpPr/>
          <p:nvPr/>
        </p:nvSpPr>
        <p:spPr>
          <a:xfrm rot="16200000">
            <a:off x="2743200" y="2171520"/>
            <a:ext cx="723960" cy="1409400"/>
          </a:xfrm>
          <a:prstGeom prst="wedgeRoundRectCallout">
            <a:avLst>
              <a:gd name="adj1" fmla="val 82671"/>
              <a:gd name="adj2" fmla="val 38847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rival rate from outside the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7"/>
          <p:cNvSpPr/>
          <p:nvPr/>
        </p:nvSpPr>
        <p:spPr>
          <a:xfrm rot="16200000">
            <a:off x="5047920" y="1999800"/>
            <a:ext cx="723960" cy="1828800"/>
          </a:xfrm>
          <a:prstGeom prst="wedgeRoundRectCallout">
            <a:avLst>
              <a:gd name="adj1" fmla="val 89032"/>
              <a:gd name="adj2" fmla="val -27694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m of arrival rates from other queues in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Object 8"/>
              <p:cNvSpPr txBox="1"/>
              <p:nvPr/>
            </p:nvSpPr>
            <p:spPr>
              <a:xfrm>
                <a:off x="2590920" y="5894280"/>
                <a:ext cx="19047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all </m:t>
                        </m:r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D4F2-2612-4687-8E45-AD915DB43C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unt store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customers arrive at the r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hour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oose self-service. Hen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rate to service center 1 i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80(0.4) = 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rate to service center 2 i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80(0.6) = 4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h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lerks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2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stomers per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-run utilization of the clerks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48/(3*20) = 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customers must see the cashier at service center 3, the overall rate to service center 3 i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9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r hour, then the utilization of the cashier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80/90 = 0.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ABF1-06FD-466D-8A14-9CF643635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basic concepts of queueing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 how simulation, and some times mathematical analysis, can be used to estimate the performance measures of a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ly used performance measures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, 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w, w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simulating any system that evolves over time, analyst must decide whether to study transient behavior or steady-state behav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formulas exist for the steady-state behavior of some que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models can be solved mathematically, and can be useful in providing a rough estimate of a performance mea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D20F-EC5C-4926-94DB-787A427750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ing Pop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ing population: the population of potential customers, may be assumed to be finite or infin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te population model: if arrival rate depends on the number of customers being served and waiting, e.g., model of one corporate jet, if it is being repaired, the repair arrival rate becomes z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inite population model: if arrival rate is not affected by the number of customers being served and waiting, e.g., systems with large population of potential cust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C791-A69B-40DC-A8A0-584A9C58F6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Capac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ystem Capacity: a limit on the number of customers that may be in the waiting line or system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capacity, e.g., an automatic car wash only has room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rs to wait in line to enter the mechani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mited capacity, e.g., concert ticket sales with no limit on the number of people allowed to wait to purchase tic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1B8A-687B-40D4-AA4F-3E75C74581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al 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finite-population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erms of interarrival times of successive custo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arrivals: interarrival times usually characterized by a probability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st important model: Poisson arrival process (with rate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resents the interarrival time between custom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ustom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is exponentially distributed (with me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d arrivals: interarrival times can be constant or constant plus or minus a small random amount to represent early or late ar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patients to a physician or scheduled airline flight arrivals to an air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customer is assumed to always be present, so the server is never idle, e.g., sufficient raw material for a mach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4681-0E5A-4A91-BD47-DB9A232DE4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val Proces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inite-population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 is pending when the customer is outside the queueing system, e.g., machine-repair problem: a machine is “pending” when it is operating, it becomes “not pending” the instant it demands service form the repair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 of a customer is the length of time from departure from the queueing system until that customer’s next arrival to the queue, e.g., machine-repair problem, machines are customers and a runtime is time to fail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be the successive runtimes of customer i, and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corresponding successive system tim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06-2"/>
          <p:cNvPicPr/>
          <p:nvPr/>
        </p:nvPicPr>
        <p:blipFill>
          <a:blip r:embed="rId1"/>
          <a:stretch/>
        </p:blipFill>
        <p:spPr>
          <a:xfrm>
            <a:off x="2057400" y="5210280"/>
            <a:ext cx="4724280" cy="134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7B92-AC2A-4635-A077-2E88B7881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 Behavior and Queue Disciplin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haracteristics of Queueing System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ue behavior: the actions of customers while in a queue waiting for service to begin, 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lk: leave when they see that the line is too lon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ege: leave after being in the line when its moving too slow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ckey: move from one line to a shorter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ue discipline: the logical ordering of customers in a queue that determines which customer is chosen for service when a server becomes free, for exampl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-in-first-out (FI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t-in-first-out (LIF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in random order (SI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est processing time first (SP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according to priority (P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17:06Z</dcterms:created>
  <dc:creator>Gigi Yuen</dc:creator>
  <dc:description/>
  <dc:language>en-US</dc:language>
  <cp:lastModifiedBy>Bakare</cp:lastModifiedBy>
  <dcterms:modified xsi:type="dcterms:W3CDTF">2016-06-28T10:06:43Z</dcterms:modified>
  <cp:revision>3080</cp:revision>
  <dc:subject/>
  <dc:title>Chapter 8: Random-Variant Generation</dc:title>
</cp:coreProperties>
</file>