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7618-A9BE-4323-9456-C1AC8D7692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9B9E-20A7-4C52-A480-664624F73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75AD-5BB6-4544-8E28-0D31590FC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BBF2-4923-4DB8-BDD3-832EFBAFE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other good random number gen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out which one is been used by Network ope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243EE-A06D-4E09-BF6D-A18DBA7BE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4C34-C067-486C-B3F0-C16503912D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ll hypothesis, H0, reads that the numbers are distributed uniformly on the interval [0, I]. Failure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the null hypothesis means that evidence of nonuniformity has not been detected by this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4B1FB-F9A7-482F-AFCB-65AAA121B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463B-CF37-4D9E-A4A4-F6CD2E7C8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D9343-A0AC-4F80-A74F-496B53E6A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7A2E-E3B3-45C0-B59B-B304D290C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ritical value of D, obtained from Table A8 f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 0.05 and N = 5, is 0.565. Since the computed value, 0.26, is less than the tabulated critical value, 0.565,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thesis that the distribution of the generated numbers is the uniform distribution is not reject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8AA-9270-4442-876E-6FEA85F17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8809-40C5-4F3E-9554-C442607FA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correlation tests for dependence between every successive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B264E-5AB0-4A0E-9650-3C72BC9C2C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127-E8F3-4C72-9822-1AF0A03A8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, i 3 (beginning with the third number), m = 5 (every five numbers), N = 30 (30 numbers in the sequence), and M = 4 (largest integer such that 3 + (M + 1)5 ::; 30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away 0.025 from 1 = 0.975. Look up for something closer from the table = 0.975 correspond to 1.9 on z and 0.06 top to give 1.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CEAC-A5DC-453F-82D4-3F7A22A82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9DCC-5558-4D83-A249-D60E6EC9C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0606-FB08-4073-A41E-80873A3D2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Random Number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must be independently drawn from a uniform continuous distribution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ous between zero and 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bability distribution function f(x) and Expected value of R E(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B39D-6DCE-4915-BC84-C1EF5EC90B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errors or departures from randomness include the following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 generated numbers might not be uniformly distribu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generated numbers might be discrete-valued instead of continuous-valu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The mean of the generated numbers might be too high or too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The variance of the generated numbers might be too high or too l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There might be dependence. The following are 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) autocorrelation between number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) numbers successively higher or lower than adjacent numbers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) several numbers above the mean followed by several numbers below the m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1369-5E42-4791-A6A9-97CC30450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2185-8A0E-4088-ADB8-260A4BB6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itial value Xo is called the seed, a is called the multiplier, c is the increment, and m is the modulu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c not equal 0 in Equation (7 .l ), then the form is called the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ixed congruentia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. When c = 0, the form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as the multiplicative congruential method. The selection of the values for a, c, m, and X0 drastically has effect on the ineger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1EB1-6E7B-4735-9D59-671BF58BD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icrosoft Excel to demonstrate effect of large value of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DCC2-9650-4885-BD81-FCE8FE17CC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ed exampl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a = 7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6,807; m = 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31 - 1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,147,483,647 (a prime number); and c = 0. These choices satisfy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that insure a period of P = m-I (well over 2 billion). Further, specify the seed Xo = 123,45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few numbers generated are as follows:  (Use Exc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315D-CDC6-4DA0-B485-FA37FD3AEF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5D550-5A63-4E41-81AC-B814BCF49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891F3-8021-4B4D-806F-4C2F75F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50830-3D84-48B8-9BF5-AFA7958AF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294EF-A128-4F81-A89D-77870998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D18D-FF2D-42F6-9BCD-D5C4A7FE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0CFD4-4907-443C-98FE-4F620ADD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F5AE2-18AE-45DC-9CC9-BC88A36E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4862-3141-49DC-8E3F-905A1298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40C4-297D-47E7-935A-09BCE9F34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A04A-7DE6-4AEC-ACE1-76BF2E4B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487EB-F3D2-4347-98A2-D7B30BEF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6B3C1-8E66-4FF5-A0D4-22387258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C7B6C-E658-4907-A87B-51E63DE9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E3B0F-C9F1-4F43-9C7C-C818A587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C6CB-95B4-4398-B80D-55A5B4FD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FC9B-CD11-42DF-9DA4-2C96D52A6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D2A5-8D2F-4B6A-B401-40A6B2C8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AFF5B-D079-45E2-908B-E172047AF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C213-5C70-4127-B099-9A083F51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5AF7-0037-4822-B85C-35324B86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605B-B79F-4249-8777-68A44D4D1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F890-E829-4072-AED7-05D22153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6856-314D-4D37-8DE4-A272FC8D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C27AF-0785-44A3-9676-27C5B8EA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89FC-B928-4D3C-BF9B-9275797311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066680"/>
            <a:ext cx="9144000" cy="546120"/>
            <a:chOff x="0" y="106668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10666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2016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20168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106668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20168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134136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20312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133812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147636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781680" y="457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1BEB-1291-4A4E-AE55-977BB14644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pter 7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andom-Number Gene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, Carson, Nelson &amp; Ni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-Event Syst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80ED-5555-4384-BE5B-9DB2C211F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Linear Congruential Generat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chniqu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ximum possible period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4"/>
              <p:cNvSpPr txBox="1"/>
              <p:nvPr/>
            </p:nvSpPr>
            <p:spPr>
              <a:xfrm>
                <a:off x="1447920" y="2054160"/>
                <a:ext cx="35049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mod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6"/>
              <p:cNvSpPr txBox="1"/>
              <p:nvPr/>
            </p:nvSpPr>
            <p:spPr>
              <a:xfrm>
                <a:off x="5410080" y="1752480"/>
                <a:ext cx="3276720" cy="149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nce,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,      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≻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,  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8"/>
              <p:cNvSpPr txBox="1"/>
              <p:nvPr/>
            </p:nvSpPr>
            <p:spPr>
              <a:xfrm>
                <a:off x="3200400" y="4572000"/>
                <a:ext cx="304812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6" name="AutoShape 9"/>
          <p:cNvSpPr/>
          <p:nvPr/>
        </p:nvSpPr>
        <p:spPr>
          <a:xfrm>
            <a:off x="1600200" y="3124080"/>
            <a:ext cx="1905120" cy="762120"/>
          </a:xfrm>
          <a:prstGeom prst="wedgeRoundRectCallout">
            <a:avLst>
              <a:gd name="adj1" fmla="val 14000"/>
              <a:gd name="adj2" fmla="val -11541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coefficient: Performs the subtraction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15000">
                <a:solidFill>
                  <a:srgbClr val="000000"/>
                </a:solidFill>
                <a:latin typeface="Arial"/>
              </a:rPr>
              <a:t>i,1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9C35-1C6E-495C-9E29-26810C0622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Linear Congruential Generat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chniqu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For 32-bit computers, L’Ecuyer [1988] suggests combin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or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,147,483,56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40,01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,147,483,39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40,69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The algorithm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1: Select s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,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range 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,147,483,562]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,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the range [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1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,147,483,398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the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nerator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2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each individual generato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,j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0,01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,147,483,5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,j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40,69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,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,147,483,3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,j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,j+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 mo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2,147,483,56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4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5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 = j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go back to step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d generator has period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1)(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1)/2 ~ 2 x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2895480" y="4627440"/>
                <a:ext cx="31957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X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+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147,483,563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,  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147,483,562</m:t>
                                  </m:r>
                                </m:num>
                                <m:den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,147,483,563</m:t>
                                  </m:r>
                                </m:den>
                              </m:f>
                              <m:r>
                                <m:rPr>
                                  <m:lit/>
                                  <m:nor/>
                                </m:rPr>
                                <m:t xml:space="preserve">,     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8F9-2CC8-43E2-B0A7-27E3AB4D79B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-Numbers Stre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chniqu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ed for a linear congruential random-number genera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he integer valu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initializes the random-number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value in the sequence can be used to “seed” the genera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andom-number strea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s to a starting seed taken from the sequ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treams a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values apart, then strea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uld be defined by starting se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der generator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=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Newer generator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= 1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37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le random-number generator with k streams can act like k distinct virtual random-number gene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ompare two or more alternative 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vantageous to dedicate portions of the pseudo-random number sequence to the same purpose in each of the simulated syste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9"/>
              <p:cNvSpPr txBox="1"/>
              <p:nvPr/>
            </p:nvSpPr>
            <p:spPr>
              <a:xfrm>
                <a:off x="2666880" y="3359160"/>
                <a:ext cx="10670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12321-02C0-459C-A1B2-CCD24CFD66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wo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uniform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~ U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~ U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reject the null hypothesis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ans that evidence of non-uniformity has not been det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independ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 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~ independen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to reject the null hypothesis, 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means that evidence of dependence has not been det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vel of significance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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robability of rejecting 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it is tru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P(reject 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|H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is tru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124080" y="26510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3124080" y="434340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19301-F447-4A16-BC4E-D7741E425C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o use these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well-known simulation languages or random-number generators is used, it is probably unnecessary to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generator is not explicitly known or documented, e.g., spreadsheet programs, symbolic/numerical calculators, tests should be applied to many sample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s of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oretical tests: evaluate the choices of m, a, and c without actually generating any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irical tests: applied to actual sequences of numbers produced.  Our empha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8CE3-F971-4795-BBE7-35F2534B03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T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sts for R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of uniform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different metho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mogorov-Smirnov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2006-DDBE-4531-B3B3-8262E35A0A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mogorov-Smirnov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requency 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s the continuous cdf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f the uniform distribution with the empirical cdf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x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observation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ample from the RN generator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empirical cdf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the statisti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= max| F(x) -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)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ing distribution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know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functio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abulated in Table A.8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powerful test, recomm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3962520" y="2666880"/>
                <a:ext cx="19047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,   </m:t>
                    </m:r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8"/>
              <p:cNvSpPr txBox="1"/>
              <p:nvPr/>
            </p:nvSpPr>
            <p:spPr>
              <a:xfrm>
                <a:off x="3962520" y="3538440"/>
                <a:ext cx="41148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 of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which are 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7D21-EC28-4EDB-9F5C-7DF84D892D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36" descr="07-2"/>
          <p:cNvPicPr/>
          <p:nvPr/>
        </p:nvPicPr>
        <p:blipFill>
          <a:blip r:embed="rId1"/>
          <a:stretch/>
        </p:blipFill>
        <p:spPr>
          <a:xfrm>
            <a:off x="4648320" y="3917880"/>
            <a:ext cx="3504960" cy="27115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olmogorov-Smirnov 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requency 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uppos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ed numbers a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.44, 0.81, 0.14, 0.05, 0.9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762120" y="23130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762120" y="32004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685800" y="3962520"/>
            <a:ext cx="746748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3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 = max(D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) = 0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4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= 0.0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= 0.565 &gt;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nce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not rejec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368"/>
          <p:cNvSpPr/>
          <p:nvPr/>
        </p:nvSpPr>
        <p:spPr>
          <a:xfrm>
            <a:off x="6934320" y="2057400"/>
            <a:ext cx="1828800" cy="533520"/>
          </a:xfrm>
          <a:prstGeom prst="wedgeRoundRectCallout">
            <a:avLst>
              <a:gd name="adj1" fmla="val -75606"/>
              <a:gd name="adj2" fmla="val 30652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ange 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rom smallest to lar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69"/>
          <p:cNvSpPr/>
          <p:nvPr/>
        </p:nvSpPr>
        <p:spPr>
          <a:xfrm>
            <a:off x="6934320" y="2895480"/>
            <a:ext cx="2057400" cy="304920"/>
          </a:xfrm>
          <a:prstGeom prst="wedgeRoundRectCallout">
            <a:avLst>
              <a:gd name="adj1" fmla="val -71449"/>
              <a:gd name="adj2" fmla="val 4739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max {i/N – 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(i)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70"/>
          <p:cNvSpPr/>
          <p:nvPr/>
        </p:nvSpPr>
        <p:spPr>
          <a:xfrm>
            <a:off x="6858000" y="3505320"/>
            <a:ext cx="2209680" cy="304560"/>
          </a:xfrm>
          <a:prstGeom prst="wedgeRoundRectCallout">
            <a:avLst>
              <a:gd name="adj1" fmla="val -66740"/>
              <a:gd name="adj2" fmla="val -44268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= max {R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- (i-1)/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71"/>
          <p:cNvSpPr/>
          <p:nvPr/>
        </p:nvSpPr>
        <p:spPr>
          <a:xfrm>
            <a:off x="1676520" y="304812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28800" y="2286000"/>
          <a:ext cx="4724280" cy="1447920"/>
        </p:xfrm>
        <a:graphic>
          <a:graphicData uri="http://schemas.openxmlformats.org/drawingml/2006/table">
            <a:tbl>
              <a:tblPr/>
              <a:tblGrid>
                <a:gridCol w="1371600"/>
                <a:gridCol w="685800"/>
                <a:gridCol w="685800"/>
                <a:gridCol w="685800"/>
                <a:gridCol w="609480"/>
                <a:gridCol w="685800"/>
              </a:tblGrid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/N – R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i="1" lang="en-US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i)</a:t>
                      </a:r>
                      <a:r>
                        <a:rPr b="0" i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(i-1)/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8F81-6054-4E2A-8B53-B702B2D993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-square te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Frequency Tes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 uses the sample statist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ximately the chi-square distribution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grees of freedo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here the critical values are tabulated in Table A.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uniform distributi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expected number in the each clas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 only for large samples, e.g. N &gt;=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4"/>
              <p:cNvSpPr txBox="1"/>
              <p:nvPr/>
            </p:nvSpPr>
            <p:spPr>
              <a:xfrm>
                <a:off x="3284640" y="2316240"/>
                <a:ext cx="18968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5"/>
              <p:cNvSpPr txBox="1"/>
              <p:nvPr/>
            </p:nvSpPr>
            <p:spPr>
              <a:xfrm>
                <a:off x="3124080" y="4630680"/>
                <a:ext cx="403380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  where N is the total # of observatio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AutoShape 8"/>
          <p:cNvSpPr/>
          <p:nvPr/>
        </p:nvSpPr>
        <p:spPr>
          <a:xfrm>
            <a:off x="1143000" y="2057400"/>
            <a:ext cx="1981080" cy="304920"/>
          </a:xfrm>
          <a:prstGeom prst="wedgeRoundRectCallout">
            <a:avLst>
              <a:gd name="adj1" fmla="val 88462"/>
              <a:gd name="adj2" fmla="val 7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# of clas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9"/>
          <p:cNvSpPr/>
          <p:nvPr/>
        </p:nvSpPr>
        <p:spPr>
          <a:xfrm>
            <a:off x="5867280" y="2743200"/>
            <a:ext cx="1752840" cy="533520"/>
          </a:xfrm>
          <a:prstGeom prst="wedgeRoundRectCallout">
            <a:avLst>
              <a:gd name="adj1" fmla="val -128532"/>
              <a:gd name="adj2" fmla="val -70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s the observed # in the i</a:t>
            </a:r>
            <a:r>
              <a:rPr b="0" i="1" lang="en-US" sz="1400" spc="-1" strike="noStrike" baseline="2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"/>
          <p:cNvSpPr/>
          <p:nvPr/>
        </p:nvSpPr>
        <p:spPr>
          <a:xfrm>
            <a:off x="5867280" y="2057400"/>
            <a:ext cx="1752840" cy="533520"/>
          </a:xfrm>
          <a:prstGeom prst="wedgeRoundRectCallout">
            <a:avLst>
              <a:gd name="adj1" fmla="val -102990"/>
              <a:gd name="adj2" fmla="val 4106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is the expected # in the i</a:t>
            </a:r>
            <a:r>
              <a:rPr b="0" i="1" lang="en-US" sz="1400" spc="-1" strike="noStrike" baseline="2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5B98-0C8C-47BE-9FB9-1B82DA164A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Autocor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Tests for R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the autocorrelation between every m numbers (m is a.k.a. the lag), starting with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utocorrel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tween numbers: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2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(M+1)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largest integer such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values are uncorrela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arge values of M, the distribution of the estimator o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denoted        is approximately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"/>
              <p:cNvSpPr txBox="1"/>
              <p:nvPr/>
            </p:nvSpPr>
            <p:spPr>
              <a:xfrm>
                <a:off x="5181480" y="2952720"/>
                <a:ext cx="1828800" cy="3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 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 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6"/>
              <p:cNvSpPr txBox="1"/>
              <p:nvPr/>
            </p:nvSpPr>
            <p:spPr>
              <a:xfrm>
                <a:off x="2286000" y="5334120"/>
                <a:ext cx="380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8"/>
              <p:cNvSpPr txBox="1"/>
              <p:nvPr/>
            </p:nvSpPr>
            <p:spPr>
              <a:xfrm>
                <a:off x="1981080" y="3749760"/>
                <a:ext cx="4419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   </m:t>
                        </m:r>
                        <m:r>
                          <m:rPr>
                            <m:lit/>
                            <m:nor/>
                          </m:rPr>
                          <m:t xml:space="preserve"> if numbers are independent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,     </m:t>
                        </m:r>
                        <m:r>
                          <m:rPr>
                            <m:lit/>
                            <m:nor/>
                          </m:rPr>
                          <m:t xml:space="preserve">if numbers are dependent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0E72-F98A-41FC-A306-36B68B8D2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 &amp;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 the generation of random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 the subsequent testing for randomn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orrelation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DBAB-8007-459A-83E3-A2C2B321951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for Autocorre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Tests for R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tatistic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r the estim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istributed normally with mean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variance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0, the subsequence has posi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random numbers tend to be followed by high one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lt; 0, the subsequence has negative auto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 random numbers tend to be followed by high ones,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127320" y="1447920"/>
                <a:ext cx="129240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6"/>
              <p:cNvSpPr txBox="1"/>
              <p:nvPr/>
            </p:nvSpPr>
            <p:spPr>
              <a:xfrm>
                <a:off x="2362320" y="2743200"/>
                <a:ext cx="38732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m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m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k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σ</m:t>
                                </m:r>
                              </m:e>
                            </m:acc>
                          </m:e>
                          <m:sub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m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  <m:r>
                                  <m:t xml:space="preserve">M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7</m:t>
                                </m:r>
                              </m:e>
                            </m:rad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(</m:t>
                            </m:r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354B-75A6-4938-A8BA-BD4F6C0892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Test for Autocorrelatio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whe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8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1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so on, for the following output on P. 26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05, i = 3, m = 5, N = 30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M = 4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largest integer such that 3 + (M + 1)5 ::; 30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A.3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.02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.9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Hence, the hypothesis is not rej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1752480" y="3048120"/>
                <a:ext cx="6199200" cy="26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ρ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35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3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  <m:r>
                                  <m:t xml:space="preserve">)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4232-F1EF-45FD-A9A5-C9870FD1BE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com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[Test for Autocorrelation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not very sensitive for small values of M, particularly when the numbers being tests are on the low s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when “fishing” for autocorrelation by performing numerous te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05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probability of 0.05 of rejecting a true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10 independence sequences are examin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of finding no significant autocorrelation, by chance alone,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.95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10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0.6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the probability of detecting significant autocorrelation when it does not exi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A266-A98D-42FD-815C-8DE3306EDE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hapter, we describ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tion of random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 uniformity and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 with generators that have been used for years, some of which still in used, are found to be inadequ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apter provides only the ba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, even if generated numbers pass all the tests, some underlying pattern might have gone undet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A0A8-EB61-435D-B714-D66DB037C3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ies of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mportant statistical proper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form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Numb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ust be independently drawn from a uniform distribution with pd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4" descr="07-1"/>
          <p:cNvPicPr/>
          <p:nvPr/>
        </p:nvPicPr>
        <p:blipFill>
          <a:blip r:embed="rId1"/>
          <a:stretch/>
        </p:blipFill>
        <p:spPr>
          <a:xfrm>
            <a:off x="5257800" y="3352680"/>
            <a:ext cx="3581280" cy="2224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1"/>
          <p:cNvSpPr/>
          <p:nvPr/>
        </p:nvSpPr>
        <p:spPr>
          <a:xfrm>
            <a:off x="5791320" y="569916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: pdf for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26"/>
              <p:cNvSpPr txBox="1"/>
              <p:nvPr/>
            </p:nvSpPr>
            <p:spPr>
              <a:xfrm>
                <a:off x="1143000" y="3687840"/>
                <a:ext cx="281952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</m:t>
                              </m:r>
                              <m:r>
                                <m:t xml:space="preserve">0</m:t>
                              </m:r>
                              <m:r>
                                <m:t xml:space="preserve">≤</m:t>
                              </m:r>
                              <m:r>
                                <m:t xml:space="preserve">x</m:t>
                              </m:r>
                              <m:r>
                                <m:t xml:space="preserve">≤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28"/>
              <p:cNvSpPr txBox="1"/>
              <p:nvPr/>
            </p:nvSpPr>
            <p:spPr>
              <a:xfrm>
                <a:off x="1066680" y="4724280"/>
                <a:ext cx="327672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E8B-8522-4035-9C75-8ADC06872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on of Pseudo-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seudo”, because generating numbers using a known method removes the potential for true randomne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To produce a sequence of numbers in [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,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 that simulates, or imitates, the ideal properties of random numbers (R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 considerations in RN routin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able to different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sufficiently long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ly approximate the ideal statistical properties of uniformity and in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95E7-879D-4BFD-A509-DEE7E08AD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s for Generating Random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Congruential Method (LC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d Linear Congruential Generators (CLC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-Number St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7E2D9-9DCB-4136-A798-83B5850652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Congruential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chniqu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produce a sequence of integer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tween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y following a recursive relationship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election of the values f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rastically affects the statistical properties and the cycle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andom integers are being generated [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0,m-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], and to convert the integers to random numb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2362320" y="2338560"/>
                <a:ext cx="396216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mod</m:t>
                    </m:r>
                    <m:r>
                      <m:t xml:space="preserve">m</m:t>
                    </m:r>
                    <m:r>
                      <m:rPr>
                        <m:lit/>
                        <m:nor/>
                      </m:rPr>
                      <m:t xml:space="preserve">,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0,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AutoShape 12"/>
          <p:cNvSpPr/>
          <p:nvPr/>
        </p:nvSpPr>
        <p:spPr>
          <a:xfrm>
            <a:off x="1752480" y="3200400"/>
            <a:ext cx="685800" cy="6858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3"/>
          <p:cNvSpPr/>
          <p:nvPr/>
        </p:nvSpPr>
        <p:spPr>
          <a:xfrm>
            <a:off x="1752480" y="3124080"/>
            <a:ext cx="990720" cy="533520"/>
          </a:xfrm>
          <a:prstGeom prst="wedgeRoundRectCallout">
            <a:avLst>
              <a:gd name="adj1" fmla="val 98398"/>
              <a:gd name="adj2" fmla="val -12143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ultipli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4"/>
          <p:cNvSpPr/>
          <p:nvPr/>
        </p:nvSpPr>
        <p:spPr>
          <a:xfrm>
            <a:off x="3505320" y="3124080"/>
            <a:ext cx="1143000" cy="533520"/>
          </a:xfrm>
          <a:prstGeom prst="wedgeRoundRectCallout">
            <a:avLst>
              <a:gd name="adj1" fmla="val -12916"/>
              <a:gd name="adj2" fmla="val -1333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cr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5"/>
          <p:cNvSpPr/>
          <p:nvPr/>
        </p:nvSpPr>
        <p:spPr>
          <a:xfrm>
            <a:off x="5181480" y="3048120"/>
            <a:ext cx="1067040" cy="533160"/>
          </a:xfrm>
          <a:prstGeom prst="wedgeRoundRectCallout">
            <a:avLst>
              <a:gd name="adj1" fmla="val -75597"/>
              <a:gd name="adj2" fmla="val -11637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modu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8"/>
              <p:cNvSpPr txBox="1"/>
              <p:nvPr/>
            </p:nvSpPr>
            <p:spPr>
              <a:xfrm>
                <a:off x="3276720" y="5430960"/>
                <a:ext cx="205740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EDDC-F04A-49E1-B341-6098483614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LC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2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 = 1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 = 4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 =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lue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(17*27+43) mod 100 = 502 mod 100 = 2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0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(17*2+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4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mod 100 = 77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7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(17*77+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4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mod 100 = 52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5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0F77-7D79-47A9-A2E3-1B2D7AA415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a Good Gener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LC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Dens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the values assumed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i = 1,2,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leave no large gaps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[0,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Instead of continuous, eac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cr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a very large integer for modulus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roximation appears to be of little conseq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ximum Peri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hieve maximum density and avoid cyc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hieve by: proper choic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digital computers use a binary representation of numb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ed and efficiency are aided by a modulu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o be (or close to) a power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B87E-226C-4913-86B5-B303BE9460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d Linear Congruential Generat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chniqu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son: Longer period generator is needed because of the increasing complexity of simulated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: Combine two or more multiplicative congruential genera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15000">
                <a:solidFill>
                  <a:srgbClr val="000000"/>
                </a:solidFill>
                <a:latin typeface="Arial"/>
              </a:rPr>
              <a:t>i,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15000">
                <a:solidFill>
                  <a:srgbClr val="000000"/>
                </a:solidFill>
                <a:latin typeface="Arial"/>
              </a:rPr>
              <a:t>i,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15000">
                <a:solidFill>
                  <a:srgbClr val="000000"/>
                </a:solidFill>
                <a:latin typeface="Arial"/>
              </a:rPr>
              <a:t>i,k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utput fro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ifferent multiplicative congruential genera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prime modulu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-1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ltiplie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15000">
                <a:solidFill>
                  <a:srgbClr val="000000"/>
                </a:solidFill>
                <a:latin typeface="Arial"/>
              </a:rPr>
              <a:t>j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erio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 baseline="-15000">
                <a:solidFill>
                  <a:srgbClr val="000000"/>
                </a:solidFill>
                <a:latin typeface="Arial"/>
              </a:rPr>
              <a:t>j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es intege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1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pprox ~ Uniform on integers in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 m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 baseline="-15000">
                <a:solidFill>
                  <a:srgbClr val="000000"/>
                </a:solidFill>
                <a:latin typeface="Arial"/>
              </a:rPr>
              <a:t>i,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0" i="1" lang="en-US" sz="2000" spc="-1" strike="noStrike" baseline="-15000">
                <a:solidFill>
                  <a:srgbClr val="000000"/>
                </a:solidFill>
                <a:latin typeface="Arial"/>
              </a:rPr>
              <a:t>i,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pprox ~ Uniform on integers in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 m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17:06Z</dcterms:created>
  <dc:creator>Gigi Yuen</dc:creator>
  <dc:description/>
  <dc:language>en-US</dc:language>
  <cp:lastModifiedBy>Bakare</cp:lastModifiedBy>
  <dcterms:modified xsi:type="dcterms:W3CDTF">2016-07-12T08:57:26Z</dcterms:modified>
  <cp:revision>844</cp:revision>
  <dc:subject/>
  <dc:title>Chapter 8: Random-Variant Generation</dc:title>
</cp:coreProperties>
</file>