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61A-D2A8-437F-A4B0-42C5C2C97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F81E-1AD3-4A41-B763-9D1518D65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A5A1-D795-49A1-85D6-7383ED1FE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echnique to </a:t>
            </a:r>
            <a:r>
              <a:rPr b="0" lang="en-US" sz="1200" spc="-1" strike="noStrike">
                <a:solidFill>
                  <a:srgbClr val="808080"/>
                </a:solidFill>
                <a:latin typeface="Arial"/>
              </a:rPr>
              <a:t>Identifying/ selecting the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EFB9-7D93-4B73-9B31-07CC3C996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0C9B7-42A5-4A58-9978-BD83E996F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 (j-0.5)/n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ere j = 1-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n find  F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 (j-0.5)/n)  You may use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Normal distribution — inverse cumulative distribution fonction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lot data on (Colum value)  on Y axiz and data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 (j-0.5)/n)  on x axiz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ok for straight line or otherw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AC21-019B-4C62-98B8-1AC64375C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8A6C-E590-4D63-BA76-D2639DF01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840E6-26D7-493A-988E-A2A3A24A3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thing  to do after Identifying/ selecting the distributi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AE2E-EB9E-468D-87A7-58D0C1C11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263D-D4CF-4B2F-A98E-3EF02398BF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erical estimates of the distribution parameters are needed to reduce the family of distributions to a specific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tribution and to test the resulting hypothesis. Tabl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3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ains suggested estimators for distrib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ons often used in simulation, all of which were described in chapter five like exponential, normal and Poisson et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 for an adjustment to remove bias in sigm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4B2B-8FEF-4367-82EC-CA49CB44C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0E9AE-1DFE-4D6D-B8AF-FD1D0095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3B7E-7FD4-4B5E-81EA-5CD7D6D2C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D473-DBD6-4E19-97DB-0CE1FEDD4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5C82-63AF-47FB-8447-7EEE76ECD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4D59-1BCB-4C2C-8F60-3DDCB1498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3152-51EA-43B3-8995-25B866969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 value, or calculated probability, is the probability of finding the observed, or more extreme, results when the null hypothesis (H 0) of a study question is true – the definition of 'extreme' depends on how the hypothesis is being tes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-value is the probability that the observed result has nothing to do with what one is actually testing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al significance levels are 0. 1, 0.05 and 0.01  Prior to the availability of high-speed computing, ha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set of standard values made it possible to produce tables of useful critical val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wadays 0.07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4899-A53E-4296-AE3F-2149F873A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3844E-D397-4A5F-9637-FB43BE077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5139-6466-4A17-AE6F-D47872D3D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4039-A213-4B13-A0D9-0226AE08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EF3C-8793-4EED-8B69-2FDE48075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that can be used include: Expertfit, Bestf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02578-D6C1-4411-B8DB-742503E7CF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2305-D16D-4569-A3B2-EBB687603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: distribution that involves a number of random but often relate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28B6-B13A-467C-8912-AF529EB1D6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ariance: is a statistical measure of the tendency of two variables to change in conjunction with each other. It is equal to the product of their standard deviations and correlation coeffic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lation: relatedness of variables: the degree to which two or more variables are related and change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BC4B-9014-43A3-8E2C-D2F5428BB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37DB-A7D9-4F8E-8D78-50EABC00D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7D05-1C00-47AB-A135-EC9E244257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briefly 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variate Input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-Series Input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08F8-2FC7-4617-8884-86C45F2D6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B661B-3F8B-4D4E-ACB9-B948D09DE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B56-FEE5-402E-8BBE-AE51AE4AE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E1B0-4B92-4CEF-BC8D-C00440CF9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976B6-A0D6-47F6-BB53-B165D312A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sample has been selected for distribution like Exponential distribution, Uniform distribution, Weibull distribution and Triangular distribu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need to now choose/identify which distribution the sample data fit into by using Histograms or q-q plot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test if the distribution is acceptable or not by using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ness-of-fit tests (like Chi Square). Chi-square is a statistical test commonly used to compare observed data with data we would expect to obtain according to a specific hypothesis. The chi-square test is always testing what scientists call the null hypothesis, which states that there is no significant difference between the expected and observed resul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0: the random variable is Poisson distribu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1 : the random variable is not Poisson distrib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EF456-56AE-4F8E-91EA-841A13209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18E6-9DC8-42C4-BF08-E3AB83A03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991-01AF-42BA-8F6A-C73B450A6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6764-CBCF-4707-89F2-F180FEB6F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less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nowing how much time has passed gives no information about how much additional time will pas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fore the process is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B90A-90F3-420A-8C83-59729E04B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4E299-9784-40C6-A643-9424FC468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80FD0-4686-41BF-96F0-1C0B42BE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41B68-08AE-43C5-87FF-2F9F167A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8E194-CD68-42FF-9CF8-C85F7BDFE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5675-F06E-4618-8A3D-AB01DD07F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8198F-A31F-4CD2-9042-4B41852E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7A50-5446-41F3-818F-56E972FC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0D179-558D-489A-BB02-C9CAFE71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C2EE-BDC0-4C88-B5A8-489DDDFC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CACB-BB49-4197-B940-1FD7A69C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D914F-D2B1-4FD4-94A1-FBF7C25F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E5AEF-7EAA-46B8-8A19-F046C125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2EF-4F2F-4961-BCCE-955BAA1A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59E4-386F-48A3-A686-5F990D3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D3346-83F2-4C58-9774-72D73B48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B1A8-AD9A-40EF-ADF0-300711C9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4B7F-5FD0-46D6-B4BD-15DD9651B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746F5-A956-4452-A2DA-D1A8D863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5520A-8798-4CA0-9B75-B231445E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2D623-E721-4E95-9CF1-12A050F7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BFC61-1732-44FC-9BC1-BA0B62B6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E6713-11DB-4ECD-80B7-CABB42A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D8C7-0294-4CC2-B087-CA51441E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0F7F-B105-4143-B85F-D3A96821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8D9BD-252D-4015-86C7-48D2D4EC6E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066680"/>
            <a:ext cx="9144000" cy="546120"/>
            <a:chOff x="0" y="106668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10666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20168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20168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106668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20168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134136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20312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133812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147636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781680" y="4572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ACF95-C150-4BB4-BECF-F4C84F2375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pter 9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put Mode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nks, Carson, Nelson &amp; Nico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iscrete-Event System Sim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27A-6CD8-4EC4-AC2B-0516EE1E2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le-Quantile Pl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-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lot is a useful tool for evaluating distribution f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random variable with </a:t>
            </a:r>
            <a:r>
              <a:rPr b="0" lang="en-US" sz="2200" spc="-1" strike="noStrike">
                <a:solidFill>
                  <a:srgbClr val="1818ff"/>
                </a:solidFill>
                <a:latin typeface="Arial"/>
              </a:rPr>
              <a:t>cdf </a:t>
            </a:r>
            <a:r>
              <a:rPr b="0" i="1" lang="en-US" sz="2200" spc="-1" strike="noStrike">
                <a:solidFill>
                  <a:srgbClr val="1818ff"/>
                </a:solidFill>
                <a:latin typeface="Arial"/>
              </a:rPr>
              <a:t>F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hen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quantile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n invers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{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1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i = 1,2, ….,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 be a sample of data fro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{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2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j = 1,2, …, 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 be the observations  in ascending orde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ranking or order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2362320" y="2673360"/>
          <a:ext cx="480060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673360"/>
                    <a:ext cx="48006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8"/>
          <p:cNvGraphicFramePr/>
          <p:nvPr/>
        </p:nvGraphicFramePr>
        <p:xfrm>
          <a:off x="2479680" y="4876920"/>
          <a:ext cx="3421080" cy="684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79680" y="4876920"/>
                    <a:ext cx="3421080" cy="68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CEA3-0334-4A23-80DD-049127BD5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le-Quantile Pl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lo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su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 (j-0.5)/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a straight l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mber of an appropriate family of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ine has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lope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member of an appropriate family of distributions with appropriate parameter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E1F6F-663F-4A4B-9DA1-07D2B0FE9E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le-Quantile Pl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Check whether the door installation times follows a 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ations are now ordered from smallest to larg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lotted vers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 (j-0.5)/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a normal distribution with the sample me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99.99 s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sample varianc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.283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ec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8"/>
          <p:cNvGraphicFramePr/>
          <p:nvPr/>
        </p:nvGraphicFramePr>
        <p:xfrm>
          <a:off x="1600200" y="2971800"/>
          <a:ext cx="6095880" cy="1481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1800"/>
                    <a:ext cx="609588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088E-FE35-4518-A3B9-3779D0E139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2" descr="09-4"/>
          <p:cNvPicPr/>
          <p:nvPr/>
        </p:nvPicPr>
        <p:blipFill>
          <a:blip r:embed="rId1"/>
          <a:stretch/>
        </p:blipFill>
        <p:spPr>
          <a:xfrm>
            <a:off x="4038480" y="1828800"/>
            <a:ext cx="3403800" cy="4572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le-Quantile Pl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 (continued): Check whether the door installation times follow a normal distrib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1066680" y="2514600"/>
            <a:ext cx="1905120" cy="1066680"/>
          </a:xfrm>
          <a:prstGeom prst="wedgeRoundRectCallout">
            <a:avLst>
              <a:gd name="adj1" fmla="val 113416"/>
              <a:gd name="adj2" fmla="val 25000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ght line, supporting the hypothesis of a normal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838080" y="4648320"/>
            <a:ext cx="1905120" cy="1066680"/>
          </a:xfrm>
          <a:prstGeom prst="wedgeRoundRectCallout">
            <a:avLst>
              <a:gd name="adj1" fmla="val 100833"/>
              <a:gd name="adj2" fmla="val -14287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erimposed density function of the normal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1CE91-5CA5-497B-A75A-BB0395AAAE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tile-Quantile Plo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following while evaluating the linearity of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-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lo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served values never fall exactly on a straigh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rdered values are ranked and hence not independent, unlikely for the points to be scattered about th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 of the extremes is higher than the middle.  Linearity of the points in the middle of the plot is more import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-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lot can also be used to check homogene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hether a single distribution can represent both sample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ting the order values of the two data samples against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7153-3B84-4A8C-B837-AC99A6AAB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xt step after selecting a family of distrib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observations in a sample of siz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discrete or continuous), the sample mean and variance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18ff"/>
                </a:solidFill>
                <a:latin typeface="Arial"/>
              </a:rPr>
              <a:t>If the data are discrete and have been grouped in a frequency distribu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observed frequency of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2133720" y="2666880"/>
                <a:ext cx="4572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4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15"/>
              <p:cNvSpPr txBox="1"/>
              <p:nvPr/>
            </p:nvSpPr>
            <p:spPr>
              <a:xfrm>
                <a:off x="2076480" y="4159080"/>
                <a:ext cx="478152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A81-52DA-41B3-B433-5D065F2364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aw data are unavailable (data are </a:t>
            </a:r>
            <a:r>
              <a:rPr b="0" lang="en-US" sz="2200" spc="-1" strike="noStrike">
                <a:solidFill>
                  <a:srgbClr val="1818ff"/>
                </a:solidFill>
                <a:latin typeface="Arial"/>
              </a:rPr>
              <a:t>grouped into class interva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, the approximate sample mean and variance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observed frequency  in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 class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midpoint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 interval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number of class inter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arameter is an unknown constant, but an estimator is a statist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4"/>
              <p:cNvSpPr txBox="1"/>
              <p:nvPr/>
            </p:nvSpPr>
            <p:spPr>
              <a:xfrm>
                <a:off x="2133720" y="2362320"/>
                <a:ext cx="487656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61A-B920-4864-88C1-B5D5C96D21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1" descr="09-2"/>
          <p:cNvPicPr/>
          <p:nvPr/>
        </p:nvPicPr>
        <p:blipFill>
          <a:blip r:embed="rId1"/>
          <a:stretch/>
        </p:blipFill>
        <p:spPr>
          <a:xfrm>
            <a:off x="4876920" y="3191040"/>
            <a:ext cx="3124080" cy="237168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Arriv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ample (continued)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in the histogram example on slide 6 (Table 9.1 in book) can be analyzed to obta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ple mean and varianc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histogram suggest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have a Poisson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ever, note that sample mean is not equal to sample var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818ff"/>
                </a:solidFill>
                <a:latin typeface="Arial"/>
              </a:rPr>
              <a:t>Reason: each estimator is a random variable, is not per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2514600" y="2133720"/>
                <a:ext cx="38098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,  and </m:t>
                            </m:r>
                          </m:e>
                        </m:nary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8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6"/>
              <p:cNvSpPr txBox="1"/>
              <p:nvPr/>
            </p:nvSpPr>
            <p:spPr>
              <a:xfrm>
                <a:off x="1598760" y="3605040"/>
                <a:ext cx="2287440" cy="14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6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4   </m:t>
                        </m:r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0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  <m:r>
                              <m:t xml:space="preserve">∗</m:t>
                            </m:r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9</m:t>
                            </m:r>
                          </m:den>
                        </m:f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9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A9BC0-923C-4067-A1A2-A7FF1ADE38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ness-of-Fit T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duct hypothesis testing on input data distribution us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mogorov-Smirnov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single correct distribution in a real application exists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ery little data are available, it is unlikely to reject any candidate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lot of data are available, it is likely to reject all candidate distrib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6C70-9AEA-4671-AE42-34D11CF2AE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Goodness-of-Fit Test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uition: comparing the histogram of the data to the shape of the candidate density or mass fun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id for </a:t>
            </a:r>
            <a:r>
              <a:rPr b="1" lang="en-US" sz="2200" spc="-1" strike="noStrike">
                <a:solidFill>
                  <a:srgbClr val="00007d"/>
                </a:solidFill>
                <a:latin typeface="Arial"/>
              </a:rPr>
              <a:t>larg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ample sizes when parameters are estimated by maximum likelih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 arrang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bservations into a set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lass intervals or cells, the test statistics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approximate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llows the 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chi-square distribution with </a:t>
            </a:r>
            <a:r>
              <a:rPr b="0" i="1" lang="en-US" sz="1800" spc="-1" strike="noStrike">
                <a:solidFill>
                  <a:srgbClr val="00007d"/>
                </a:solidFill>
                <a:latin typeface="Arial"/>
              </a:rPr>
              <a:t>k-s-1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 degre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freedom, where s = # of parameters of the hypothesized distribution estimated by the sample statistics </a:t>
            </a:r>
            <a:r>
              <a:rPr b="0" lang="en-US" sz="1800" spc="-1" strike="noStrike">
                <a:solidFill>
                  <a:srgbClr val="1818ff"/>
                </a:solidFill>
                <a:latin typeface="Arial"/>
              </a:rPr>
              <a:t>(for Poisson #  of parameter (s) is = 1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5"/>
              <p:cNvSpPr txBox="1"/>
              <p:nvPr/>
            </p:nvSpPr>
            <p:spPr>
              <a:xfrm>
                <a:off x="3351240" y="3657600"/>
                <a:ext cx="198432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6" name="AutoShape 7"/>
          <p:cNvSpPr/>
          <p:nvPr/>
        </p:nvSpPr>
        <p:spPr>
          <a:xfrm>
            <a:off x="2209680" y="4419720"/>
            <a:ext cx="1143000" cy="609480"/>
          </a:xfrm>
          <a:prstGeom prst="wedgeRoundRectCallout">
            <a:avLst>
              <a:gd name="adj1" fmla="val 139722"/>
              <a:gd name="adj2" fmla="val -119009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served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5867280" y="3657600"/>
            <a:ext cx="2514600" cy="1447920"/>
          </a:xfrm>
          <a:prstGeom prst="wedgeRoundRectCallout">
            <a:avLst>
              <a:gd name="adj1" fmla="val -79421"/>
              <a:gd name="adj2" fmla="val -32018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 Frequ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n*p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theoretical prob. of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 interv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ggested Minimum =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7239-7F3F-4ADB-A213-44552A0E1D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&amp;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models provide the driving force for a simulation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y of the output is no better than the quality of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chapter, we will discuss the 4 steps of input model developmen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from the rea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a probability distribution to represent the inpu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oose parameters for the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 the chosen distribution and parameters for goodness of fi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CA79-F976-4A1A-8548-4688E903F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Goodness-of-Fit Test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hypothesis of a chi-square test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dom variabl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nforms to the distributiona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with the parameter(s) given by the estimate(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dom vari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con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distribution tested is discrete and combining adjacent cell is not requir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so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requirem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value of the random variable should be a class interval, unless combining is necessary,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Object 9"/>
              <p:cNvSpPr txBox="1"/>
              <p:nvPr/>
            </p:nvSpPr>
            <p:spPr>
              <a:xfrm>
                <a:off x="3048120" y="4876920"/>
                <a:ext cx="2666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7CAE-42A5-4B13-ACCF-E0C8A33A0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Goodness-of-Fit Test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distribution tested is continuo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the endpoints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lass inter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ssumed pdf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assumed cd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mmended number of class interval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Different grouping of data (i.e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n affect the hypothesis test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2209680" y="1981080"/>
                <a:ext cx="35816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AutoShape 5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8"/>
          <p:cNvGraphicFramePr/>
          <p:nvPr/>
        </p:nvGraphicFramePr>
        <p:xfrm>
          <a:off x="2057400" y="4038480"/>
          <a:ext cx="4343400" cy="149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038480"/>
                    <a:ext cx="4343400" cy="14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4C75-9223-4788-A383-A89C595D27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Goodness-of-Fit Test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hicle Arrival Example (continued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random variable is Poisson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dom variable is not Poisson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gree of freedom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-s-1 = 7-1-1 =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hence, the hypothesis is rejected a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.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vel of signifi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9"/>
              <p:cNvSpPr txBox="1"/>
              <p:nvPr/>
            </p:nvSpPr>
            <p:spPr>
              <a:xfrm>
                <a:off x="7620120" y="2590920"/>
                <a:ext cx="11430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3" name="Line 16"/>
          <p:cNvSpPr/>
          <p:nvPr/>
        </p:nvSpPr>
        <p:spPr>
          <a:xfrm flipH="1" flipV="1">
            <a:off x="5715000" y="2819520"/>
            <a:ext cx="1828800" cy="304560"/>
          </a:xfrm>
          <a:prstGeom prst="line">
            <a:avLst/>
          </a:prstGeom>
          <a:ln w="93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21"/>
          <p:cNvSpPr/>
          <p:nvPr/>
        </p:nvSpPr>
        <p:spPr>
          <a:xfrm>
            <a:off x="7162920" y="4419720"/>
            <a:ext cx="1828800" cy="549360"/>
          </a:xfrm>
          <a:prstGeom prst="rect">
            <a:avLst/>
          </a:prstGeom>
          <a:noFill/>
          <a:ln w="1908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bined because of mi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2"/>
          <p:cNvSpPr/>
          <p:nvPr/>
        </p:nvSpPr>
        <p:spPr>
          <a:xfrm flipH="1" flipV="1">
            <a:off x="5334120" y="449532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3"/>
          <p:cNvSpPr/>
          <p:nvPr/>
        </p:nvSpPr>
        <p:spPr>
          <a:xfrm flipH="1" flipV="1">
            <a:off x="5334120" y="3123720"/>
            <a:ext cx="1828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5"/>
              <p:cNvSpPr txBox="1"/>
              <p:nvPr/>
            </p:nvSpPr>
            <p:spPr>
              <a:xfrm>
                <a:off x="2590920" y="5791320"/>
                <a:ext cx="327636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28" name="Picture 21" descr=""/>
          <p:cNvPicPr/>
          <p:nvPr/>
        </p:nvPicPr>
        <p:blipFill>
          <a:blip r:embed="rId1"/>
          <a:stretch/>
        </p:blipFill>
        <p:spPr>
          <a:xfrm>
            <a:off x="1825560" y="2557440"/>
            <a:ext cx="5200560" cy="251460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"/>
          <p:cNvSpPr/>
          <p:nvPr/>
        </p:nvSpPr>
        <p:spPr>
          <a:xfrm>
            <a:off x="7467480" y="3584520"/>
            <a:ext cx="1600200" cy="67968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m the pmf for  the  Poiss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in eqn  5.1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F6B45-B9E7-4CD5-A940-24EF3E7EE3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mogorov-Smirnov Tes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Goodness-of-Fit Test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uition: formalize the idea behind examining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q-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all from Chapter 7.4.1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est compares the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continuou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f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the hypothesized distribution with the empirical cdf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)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observations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the maximum difference statistics (Tabulated in A.8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= max| F(x) -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)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ore powerful test, particularly useful wh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sizes are smal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arameters have been estimated from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parameter estimates have been mad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values in Table A.8 are biased, too lar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conservative, i.e., smaller Type I error than specifi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B8D0-47FF-4A9E-8FDE-B80DEEEF9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s and “Best Fits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Goodness-of-Fit Test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the test stat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gnificance level at which one would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just rej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given test statistic va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fit, the larger the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ood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oor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hicle Arrival Example (cont.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data is Po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tatistics:                   ,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grees of free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-value = 0.00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eaning we would rej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.0000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gnificance level, hence Poisson is a poor 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7"/>
              <p:cNvSpPr txBox="1"/>
              <p:nvPr/>
            </p:nvSpPr>
            <p:spPr>
              <a:xfrm>
                <a:off x="2995560" y="4724280"/>
                <a:ext cx="117180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475-3AF6-4CB0-AD11-03B9C84EBB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-Values and “Best Fits”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Goodness-of-Fit Test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oftware us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s the ranking measure to automatically determine the “best fit”.  Things to be cautious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may not know about the physical basis of the data, distribution families it suggests may be in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conformance to the data does not always lead to the most appropriate input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-val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es not say much about where the lack of fit occ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mmended: always inspect the automatic selection using graphical meth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00AC3-84D7-4376-A6D8-B7D1C602D5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tting a Non-stationary Poisson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tting a NSPP to arrival data is difficult, possible approach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t a very flexible model with lots of parameter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 constant arrival rate over some basic interval of time, but vary it from time interval to time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we need to model arrivals over time [0,T], our approach is the most appropriate when we ca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the time period repeatedl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arrivals / record arriva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5"/>
          <p:cNvSpPr/>
          <p:nvPr/>
        </p:nvSpPr>
        <p:spPr>
          <a:xfrm>
            <a:off x="6781680" y="2514600"/>
            <a:ext cx="1371600" cy="609480"/>
          </a:xfrm>
          <a:prstGeom prst="leftArrow">
            <a:avLst>
              <a:gd name="adj1" fmla="val 50000"/>
              <a:gd name="adj2" fmla="val 56261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r foc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BCAFE-F2BF-44C3-8081-0852956D1A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tting a Non-stationary Poisson Proce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estimated arrival rate during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 time period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 = # of observation periods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= time interva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# of arrivals during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interval 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bservation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Divide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hour business day [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8am,6p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into equal interval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 = 2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ose length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 = 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d observe over n =3 day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2971800" y="1898640"/>
                <a:ext cx="2209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Δ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2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10"/>
          <p:cNvGraphicFramePr/>
          <p:nvPr/>
        </p:nvGraphicFramePr>
        <p:xfrm>
          <a:off x="1905120" y="4743360"/>
          <a:ext cx="4952880" cy="165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743360"/>
                    <a:ext cx="495288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AutoShape 14"/>
          <p:cNvSpPr/>
          <p:nvPr/>
        </p:nvSpPr>
        <p:spPr>
          <a:xfrm>
            <a:off x="6934320" y="5105520"/>
            <a:ext cx="1981080" cy="761760"/>
          </a:xfrm>
          <a:prstGeom prst="wedgeRoundRectCallout">
            <a:avLst>
              <a:gd name="adj1" fmla="val -85495"/>
              <a:gd name="adj2" fmla="val 24375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instance, 1/3(0.5)*(23+26+3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54 arrivals/h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3DA8-4E1B-4583-A3A4-CE7EB50E14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lecting Model without Dat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data is not available, some possible sources to obtain information about the proces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data: often product or process has performance ratings provided by the manufacturer or company rules specify time or production standa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option: people who are experienced with the process or similar processes, often, they can provide optimistic, pessimistic and most-likely times, and they may know the variability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or conventional limitations: physical limits on performance, limits or bounds that narrow the range of the input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ure of the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uniform, triangular, and beta distributions are often used as input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A947-091D-4170-A7F0-1665A1BA0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ng Model witho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Production planning sim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f sales volume of various products is required, salesperson of product XYZ says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fewer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and no more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 will be sold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her experience, she believes there is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ce of selling more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,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ce of selling more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,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, and only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nce of selling more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,5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lating these information into a cumulative probability of being less than or equal to those goals for simulation input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7"/>
          <p:cNvGraphicFramePr/>
          <p:nvPr/>
        </p:nvGraphicFramePr>
        <p:xfrm>
          <a:off x="2133720" y="5257800"/>
          <a:ext cx="5181480" cy="1300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5257800"/>
                    <a:ext cx="5181480" cy="13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1C63-43C9-4D37-8F9E-4456A186D0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Col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e of the biggest tasks in solving a real problem.  GIGO – garbage-in-garbage-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ggestions that may enhance and facilitate data collecti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 ahead: begin by a practice or pre-observing session, watch for unusual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ze the data as it is being collected: check adequ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homogeneous data sets, e.g. successive time periods, during the same time period on successive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aware of data censoring: the quantity is not observed in its entirety, danger of leaving out long process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for relationship between variables, e.g. build scatter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for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 input data, not performan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1CAE-39A8-4E35-97FD-815BEF94C9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variate and Time-Series Input Mod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variat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lead time and annual demand for an inventory model, increase in demand results in lead time increase, hence variables are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-serie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time between arrivals of orders to buy and sell stocks, buy and sell orders tend to arrive in bursts, hence, times between arrivals are 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7823-1410-43BD-B548-5582470C9C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nce and Correl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Multivariate/Time Seri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model that describes relationship betwe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tatistical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gt;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nd to be above or below their means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 0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nd to be on opposite sides of their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variance betwee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    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7"/>
              <p:cNvSpPr txBox="1"/>
              <p:nvPr/>
            </p:nvSpPr>
            <p:spPr>
              <a:xfrm>
                <a:off x="2971800" y="1905120"/>
                <a:ext cx="327672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β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2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5"/>
          <p:cNvSpPr/>
          <p:nvPr/>
        </p:nvSpPr>
        <p:spPr>
          <a:xfrm>
            <a:off x="3962520" y="4952880"/>
            <a:ext cx="75960" cy="83844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6"/>
          <p:cNvSpPr/>
          <p:nvPr/>
        </p:nvSpPr>
        <p:spPr>
          <a:xfrm>
            <a:off x="6019920" y="48769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9"/>
              <p:cNvSpPr txBox="1"/>
              <p:nvPr/>
            </p:nvSpPr>
            <p:spPr>
              <a:xfrm>
                <a:off x="1752480" y="4262400"/>
                <a:ext cx="609624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[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AutoShape 11"/>
          <p:cNvSpPr/>
          <p:nvPr/>
        </p:nvSpPr>
        <p:spPr>
          <a:xfrm>
            <a:off x="6705720" y="1981080"/>
            <a:ext cx="1752480" cy="838440"/>
          </a:xfrm>
          <a:prstGeom prst="wedgeRoundRectCallout">
            <a:avLst>
              <a:gd name="adj1" fmla="val -79166"/>
              <a:gd name="adj2" fmla="val -24240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andom variable with mea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is independent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8E22-E29B-4FD7-91FA-90C6537B43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nce and Correl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Multivariate/Time Seri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rrelation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values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    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los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stronger the linear relationship is betwee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Object 4"/>
              <p:cNvSpPr txBox="1"/>
              <p:nvPr/>
            </p:nvSpPr>
            <p:spPr>
              <a:xfrm>
                <a:off x="2743200" y="1965240"/>
                <a:ext cx="32004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1" name="AutoShape 5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4038480" y="32004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1"/>
          <p:cNvSpPr/>
          <p:nvPr/>
        </p:nvSpPr>
        <p:spPr>
          <a:xfrm>
            <a:off x="6019920" y="327672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4F07-3D0C-4C29-9729-41F3786B4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variance and Correl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Multivariate/Time Seri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time series is a sequence of random variable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… , are identically distributed (same mean and variance) but depend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g-h autocovar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t+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g-h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utocovariance value depends only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not o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time series is covariance sta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0715-BC5A-4B85-80EB-2A8AFD2386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variate Input Mode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Multivariate/Time Seri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re normally distributed, dependence between them can be modeled by the bivariate normal distribution with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correlation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e “Parameter Estimation”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lide 15- 17, Section 9.3.2 in bo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uppose we have n independent and identically distributed pair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…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5"/>
              <p:cNvSpPr txBox="1"/>
              <p:nvPr/>
            </p:nvSpPr>
            <p:spPr>
              <a:xfrm>
                <a:off x="2666880" y="3962520"/>
                <a:ext cx="441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c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n</m:t>
                                </m:r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acc>
                                      <m:accPr>
                                        <m:chr m:val="^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Object 6"/>
              <p:cNvSpPr txBox="1"/>
              <p:nvPr/>
            </p:nvSpPr>
            <p:spPr>
              <a:xfrm>
                <a:off x="2666880" y="5715000"/>
                <a:ext cx="17128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4" name="AutoShape 8"/>
          <p:cNvSpPr/>
          <p:nvPr/>
        </p:nvSpPr>
        <p:spPr>
          <a:xfrm>
            <a:off x="4800600" y="6172200"/>
            <a:ext cx="1981080" cy="380880"/>
          </a:xfrm>
          <a:prstGeom prst="wedgeRoundRectCallout">
            <a:avLst>
              <a:gd name="adj1" fmla="val -91986"/>
              <a:gd name="adj2" fmla="val -39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ple devi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8F27-D7B3-49A2-B91F-4AEFFDE9F4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-Series Input Mode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Multivariate/Time Seri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a sequence of identically distributed, but dependent and covariance-stationary random variables, then we can represent the process as follow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regressive order-1 model, AR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autoregressive order-1 model, EAR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have the characteristics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ag-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utocorrelation decreases geometrically as the lag increases, hence, observations far apart in time are nearly in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Object 6"/>
              <p:cNvSpPr txBox="1"/>
              <p:nvPr/>
            </p:nvSpPr>
            <p:spPr>
              <a:xfrm>
                <a:off x="2438280" y="3751200"/>
                <a:ext cx="457200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r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   for </m:t>
                    </m:r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1849-212C-49C5-B7D7-A35B33C579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(1) Time-Series Input Mode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Multivariate/Time Seri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time-series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chosen appropriately, th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normally distribut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n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ariance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(1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imat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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Object 7"/>
              <p:cNvSpPr txBox="1"/>
              <p:nvPr/>
            </p:nvSpPr>
            <p:spPr>
              <a:xfrm>
                <a:off x="1752480" y="1943280"/>
                <a:ext cx="48006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r>
                      <m:t xml:space="preserve">φ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    for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4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10"/>
              <p:cNvSpPr txBox="1"/>
              <p:nvPr/>
            </p:nvSpPr>
            <p:spPr>
              <a:xfrm>
                <a:off x="1447920" y="2425680"/>
                <a:ext cx="72388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are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normally distributed with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and variance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Object 12"/>
              <p:cNvSpPr txBox="1"/>
              <p:nvPr/>
            </p:nvSpPr>
            <p:spPr>
              <a:xfrm>
                <a:off x="5334120" y="4800600"/>
                <a:ext cx="22096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13"/>
              <p:cNvSpPr txBox="1"/>
              <p:nvPr/>
            </p:nvSpPr>
            <p:spPr>
              <a:xfrm>
                <a:off x="3733920" y="5715000"/>
                <a:ext cx="4724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 </m:t>
                    </m:r>
                    <m:r>
                      <m:t xml:space="preserve">c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the </m:t>
                    </m:r>
                    <m:r>
                      <m:rPr>
                        <m:lit/>
                        <m:nor/>
                      </m:rPr>
                      <m:t xml:space="preserve">lag-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autocovarian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" name="Object 14"/>
              <p:cNvSpPr txBox="1"/>
              <p:nvPr/>
            </p:nvSpPr>
            <p:spPr>
              <a:xfrm>
                <a:off x="1231920" y="5027760"/>
                <a:ext cx="9907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Object 15"/>
              <p:cNvSpPr txBox="1"/>
              <p:nvPr/>
            </p:nvSpPr>
            <p:spPr>
              <a:xfrm>
                <a:off x="2679840" y="4952880"/>
                <a:ext cx="20826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φ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,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69B61-452B-4C6F-A311-8D695591E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(1) Time-Series Input Mode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Multivariate/Time Serie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the time-series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chosen appropriately, th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exponentially distributed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an 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h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only positive correlation is allow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estimat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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3" name="Object 4"/>
              <p:cNvSpPr txBox="1"/>
              <p:nvPr/>
            </p:nvSpPr>
            <p:spPr>
              <a:xfrm>
                <a:off x="1523880" y="1886040"/>
                <a:ext cx="61722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φ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       with probability  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φX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ε</m:t>
                                  </m:r>
                                </m:e>
                                <m:sub>
                                  <m:r>
                                    <m:t xml:space="preserve">t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with probability  </m:t>
                              </m:r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-φ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for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,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4" name="AutoShape 5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Object 6"/>
              <p:cNvSpPr txBox="1"/>
              <p:nvPr/>
            </p:nvSpPr>
            <p:spPr>
              <a:xfrm>
                <a:off x="1295280" y="2890800"/>
                <a:ext cx="7239240" cy="3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 are 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d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exponentially distributed with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ε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/λ</m:t>
                    </m:r>
                    <m:r>
                      <m:rPr>
                        <m:lit/>
                        <m:nor/>
                      </m:rPr>
                      <m:t xml:space="preserve">,  and 0</m:t>
                    </m:r>
                    <m:r>
                      <m:t xml:space="preserve">≤</m:t>
                    </m:r>
                    <m:r>
                      <m:t xml:space="preserve">φ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Object 7"/>
              <p:cNvSpPr txBox="1"/>
              <p:nvPr/>
            </p:nvSpPr>
            <p:spPr>
              <a:xfrm>
                <a:off x="4064040" y="4876920"/>
                <a:ext cx="271764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o</m:t>
                            </m:r>
                          </m:e>
                        </m:acc>
                        <m:r>
                          <m:t xml:space="preserve">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Object 8"/>
              <p:cNvSpPr txBox="1"/>
              <p:nvPr/>
            </p:nvSpPr>
            <p:spPr>
              <a:xfrm>
                <a:off x="3733920" y="5715000"/>
                <a:ext cx="472428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 </m:t>
                    </m:r>
                    <m:r>
                      <m:t xml:space="preserve">c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o</m:t>
                        </m:r>
                      </m:e>
                    </m:acc>
                    <m:r>
                      <m:t xml:space="preserve">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the </m:t>
                    </m:r>
                    <m:r>
                      <m:rPr>
                        <m:lit/>
                        <m:nor/>
                      </m:rPr>
                      <m:t xml:space="preserve">lag-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 autocovarianc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8" name="Object 9"/>
              <p:cNvSpPr txBox="1"/>
              <p:nvPr/>
            </p:nvSpPr>
            <p:spPr>
              <a:xfrm>
                <a:off x="1803240" y="5029200"/>
                <a:ext cx="132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den>
                    </m:f>
                    <m:r>
                      <m:rPr>
                        <m:lit/>
                        <m:nor/>
                      </m:rPr>
                      <m:t xml:space="preserve">  ,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12F-709F-4D24-BAD2-0B1E2CF68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chapter, we described the 4 steps in developing input data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ng the raw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ing the underlying statistic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the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 goodness of f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9037-28CD-422B-AD24-CAF8DA86F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ing the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st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lecting families of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ameter est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ness-of-fit te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tting a non-stationary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817D-557A-440F-90B2-4CCA245F8A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requency distribution or histogram is useful in determining the shape of a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umber of class intervals depends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umber of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ispersion of th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: the square root of the sampl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inuous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the probability density function of a theoretica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iscrete da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sponds to the probability mass fun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few data points are available: combine adjacent cells to eliminate the ragged appearance of the histo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2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270C-B814-42EC-A3E0-C47C38A38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09-1"/>
          <p:cNvPicPr/>
          <p:nvPr/>
        </p:nvPicPr>
        <p:blipFill>
          <a:blip r:embed="rId1"/>
          <a:stretch/>
        </p:blipFill>
        <p:spPr>
          <a:xfrm>
            <a:off x="4800600" y="2133720"/>
            <a:ext cx="2000160" cy="3429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 Arrival Example: # of vehicles arriving at an intersection between 7 am and 7:05 am was monitored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dom work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ample data, so the histogram may have a cell for each possible value in the data 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1371600" y="2133720"/>
          <a:ext cx="2208240" cy="3276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133720"/>
                    <a:ext cx="220824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AutoShape 10"/>
          <p:cNvSpPr/>
          <p:nvPr/>
        </p:nvSpPr>
        <p:spPr>
          <a:xfrm>
            <a:off x="7543800" y="3352680"/>
            <a:ext cx="1371600" cy="838440"/>
          </a:xfrm>
          <a:prstGeom prst="wedgeRoundRectCallout">
            <a:avLst>
              <a:gd name="adj1" fmla="val -45486"/>
              <a:gd name="adj2" fmla="val 7384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me data with different interval siz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1"/>
          <p:cNvSpPr/>
          <p:nvPr/>
        </p:nvSpPr>
        <p:spPr>
          <a:xfrm flipH="1" flipV="1">
            <a:off x="6933960" y="2971440"/>
            <a:ext cx="609480" cy="762120"/>
          </a:xfrm>
          <a:prstGeom prst="line">
            <a:avLst/>
          </a:prstGeom>
          <a:ln w="255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2"/>
          <p:cNvSpPr/>
          <p:nvPr/>
        </p:nvSpPr>
        <p:spPr>
          <a:xfrm flipH="1">
            <a:off x="6857640" y="3733920"/>
            <a:ext cx="685800" cy="0"/>
          </a:xfrm>
          <a:prstGeom prst="line">
            <a:avLst/>
          </a:prstGeom>
          <a:ln w="255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3"/>
          <p:cNvSpPr/>
          <p:nvPr/>
        </p:nvSpPr>
        <p:spPr>
          <a:xfrm flipH="1">
            <a:off x="7010280" y="3733920"/>
            <a:ext cx="533520" cy="761760"/>
          </a:xfrm>
          <a:prstGeom prst="line">
            <a:avLst/>
          </a:prstGeom>
          <a:ln w="25560">
            <a:solidFill>
              <a:srgbClr val="66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A77C-1BE7-4886-85B4-C5302110BA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Family of Distrib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family of distributions is selected based 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xt of the input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pe of the hist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equently encountered distribu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ier to analyze: exponential, normal and Poi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er to analyze: beta, gamma and Weib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EAFE-AE5F-412F-A3FE-3C3E9F80B0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Family of Distrib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the physical basis of the distribution as a guide, 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omial: # of successe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sson: # of independent events that occur in a fixed amount of time or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: dist’n of a process that is the sum of a number of component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: time between independent events, or a process time that is memory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bull: time to failure fo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e or continuous uniform: models complete uncertai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angular: a process for which only the minimum, most likely, and maximum values are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: resamples from the actual data coll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96957-61F6-45DF-9CFD-139EDC5DF1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ing the Family of Distrib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dentifying the distribu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member the physical characteristics of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process naturally discrete or continuous valu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it boun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“true” distribution for any stochastic input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obtain a good approxi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17:06Z</dcterms:created>
  <dc:creator>Gigi Yuen</dc:creator>
  <dc:description/>
  <dc:language>en-US</dc:language>
  <cp:lastModifiedBy>Bakare</cp:lastModifiedBy>
  <dcterms:modified xsi:type="dcterms:W3CDTF">2016-05-12T17:12:57Z</dcterms:modified>
  <cp:revision>1437</cp:revision>
  <dc:subject/>
  <dc:title>Chapter 8: Random-Variant Generation</dc:title>
</cp:coreProperties>
</file>