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9882-FDC4-445B-9A95-8E409674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213D-81F1-4154-8E6A-4902BE58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81BD-B5A2-4E28-BEF9-15261955A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D20F-735B-4104-AFC1-BF71F8BD8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837C-A091-4D1F-A71C-B04E00DF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49F7-6551-47E2-956A-22655265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FA9A-A7D7-4AD3-8302-B2C58C25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8903-E0FD-4B6D-B33D-DA9BB933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6A08-323C-49A6-AD7B-489EFC62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37BF-153B-4B24-99A2-CE32E8FF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5837-85E3-41EB-89F1-B7BDB7CB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7A79-8ED4-4293-A449-E0EC7AD4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AE58-4A5C-49D9-9130-4DB929E4E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iler Co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C 4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 Bakare K.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learn techniques of a modern 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fere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 – Principles, Techniques and Tools, Second Edition by Alfred V. Aho, Ravi Sethi, Jeffery D. Ull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lementary referen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 compiler construction in Java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ced Compiler Design and Implementation by Muchn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xical analysis (Scan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x Analysis (Pars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x Directed 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te Code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-time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ine Independent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4-08-01T11:42:14Z</dcterms:modified>
  <cp:revision>18</cp:revision>
  <dc:subject/>
  <dc:title>PowerPoint Presentation</dc:title>
</cp:coreProperties>
</file>