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F7B49B-7CAA-4DEB-BF14-339DDD581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encyclopedia.thefreedictionary.com/Deterministic+Finite+Automaton" TargetMode="External"/><Relationship Id="rId2" Type="http://schemas.openxmlformats.org/officeDocument/2006/relationships/hyperlink" Target="http://encyclopedia.thefreedictionary.com/Push-Down+Automata" TargetMode="External"/><Relationship Id="rId3" Type="http://schemas.openxmlformats.org/officeDocument/2006/relationships/slide" Target="../slides/slide15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84DB09-18C7-48B8-AC22-6B04478E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IL : Microsoft Intermediat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CED6E0-C0C8-43C6-80B3-E19424531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HDL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Very high-speed integrated circuit Hardware Descriptio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HS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Very High Speed Integrated Circu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BDE9EF-E35A-4ED1-8EDD-83BCFF129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6516FD-60D8-4220-9E3C-4BBAE1CA5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taken from one of Cooper’s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A 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terministic Finite Automat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Data Flow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A 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ush-Down Automata (theory of com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55931B-475D-4763-89B9-C5013082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from Cooper’s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6D7A8C-0513-498C-89E0-E38594B9F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from Cooper’s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ner or Lex­ical analyzer reads the stream of characters making up the source program and groups the characters into meaningful sequences called lex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7167BDA-25A0-4306-AB3F-56B54481F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4EEDFB-BE6B-4CC8-8F9C-AE1E42AC4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132C5A-1123-44F6-9DCC-1BF437312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plan on drawing something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DE49CF-CCC6-43F9-89AA-6E1FB3EEE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02: plan on drawing something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: Abstract Syntax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525978-C1D4-4129-880D-E90A06553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8BDA9E-3DD3-445C-BD1E-D34D05BFC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CD0-8745-4095-BFF1-AC5EB3C1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308-F9F6-401C-AF34-83ACD2A4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9A6-495D-410B-ACD0-FF7BE7F9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F72-278A-42B3-90D6-2FCA5C60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3E2C-61D4-4AF7-89BA-61548883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694D-4151-4D65-A441-BA081264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8CBE-82F0-4AFD-9D84-48C0044C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1646-E67A-4873-978A-5ADCC8AE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ED4F-57B5-41C0-B086-C3129B25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7320-A3E6-4B05-BD69-E6D8076E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F398-6627-432F-B1CF-4D58A045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7FD-D7A9-4455-A99D-FE2D4C27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737C-D249-4922-A54B-C232AA9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EC33-96CF-4E37-ABC2-CBD55907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F1FA-12F3-4BA7-9B3F-10F26E46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3A0C-AA27-454C-98C4-DBCA7DBB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D627-3C99-44B9-9424-B384460C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210-4275-4A2D-AC3D-AD2E186B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8E8-931B-472B-9D3A-F13B9CC7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4F1-43EC-4226-BE47-55D7BF51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9DC-2185-4889-B4CD-EC63C92A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436-FA51-4326-B4F5-97BBE19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BC6-A0C1-40EA-8138-C5F137F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041E-DD57-490C-92EA-9E7A6CF5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5132-C491-497A-A8E3-640C8E1BB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</a:t>
            </a:r>
            <a:fld id="{5D0549AA-ECAE-493D-9151-E569DEBC6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A9AB-4D9E-4144-AA9A-BD6DD4CD2C11}" type="datetime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-</a:t>
            </a:r>
            <a:fld id="{1298028C-241F-4A10-834B-5028CE94C444}" type="slidenum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D284-BF8E-4315-858B-924BB59E58FA}" type="datetime">
              <a:rPr b="0" lang="en-US" sz="1200" spc="-1" strike="noStrike">
                <a:solidFill>
                  <a:srgbClr val="1c1c1c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A-</a:t>
            </a:r>
            <a:fld id="{36574B52-F2DF-4BAE-8D2D-3FF317D54689}" type="slidenum">
              <a:rPr b="0" lang="en-US" sz="12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EP 501 – Compil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and Administriv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l Perk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ter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0CB2-6689-4B7C-B614-04F31E66EEE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9267617C-2F6C-47C1-8EE8-DA13972C17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TRAN, C, C++, Java, COBOL, etc.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need for optimization in many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L, Python, Ruby, awk, sed, shells, Scheme/Lisp/ML, postscript/pdf, Java 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ularly effective if interpreter overhead is low relative to execution cost of individual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B0DE-81C0-4196-B316-1D3DB6D47FE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23D80C67-5A0A-4776-B064-FB1E2614B0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ybrid approac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ll-known example: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 Java source to byte codes – Java Virtual Machine language (.class fi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 byte codes directly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some or all byte codes to native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st-In-Time compiler (JIT) – detect hot spots &amp; compile on the fly to native code – standard these d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: 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 generate MS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L compiled to native code before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D676-9796-4D50-959F-BD06734C9A5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2AF1F6A8-B1C7-430A-90B3-C32C1B36B8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Study Compilers? 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ome a better programmer(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ght into interaction between languages, compilers, and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 of implementation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ll that stuff in the debugger anywa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intuition about what your code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E163-3A4E-4AF7-B819-DD31CAFDA76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AB50FEA2-7E4C-43F5-9107-C10EFBD844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Study Compilers? 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techniques are every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ing (little languages, interpreters, X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engines, query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: domain-specific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process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/LaTex -&gt; dvi -&gt; Postscript -&gt; p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: VHDL; model-checking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s (Mathematica, Matla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98A4-78D1-4354-9FD0-7C257BD7BE4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49332176-CA0C-4E3B-A67C-0DF3EDE849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Study Compilers? 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cinating blend of theory and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applications of theory to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, scanning, 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very difficult problems (NP-hard or wo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allocation, “optimization”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come up with good-enough approximations/heur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21E4-F73E-497A-82F9-6E89FFC55CF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75BFC7CC-A48B-47A5-8187-E69D41F0C5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Study Compilers? 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from many parts of C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Greedy algorithms, heuristic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: graph algorithms, dynamic programming, approximation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ory: Grammars, DFAs and PDAs, pattern matching, fixed-point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: Allocation &amp; naming, synchronization, loc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: pipelines, instruction set use, memory hierarchy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74DF-99C7-4F8E-B25C-FE0A4FFB944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3AA652E9-30DF-4BE5-B7BC-C13925C9EE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Study Compilers? 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might even write a compiler some da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’ll almost certainly write parsers and interpreters in some context if you haven’t al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F2A1-8DBD-4442-AD21-84728324C6D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D6CFAA0E-9FFF-4E35-B92E-BF48D79253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of a Comp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approx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: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source program and understand its structure and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: syn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equivalent target languag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1447920" y="5105520"/>
            <a:ext cx="129528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Oval 5"/>
          <p:cNvSpPr/>
          <p:nvPr/>
        </p:nvSpPr>
        <p:spPr>
          <a:xfrm>
            <a:off x="6553080" y="5105520"/>
            <a:ext cx="129564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048120" y="5105520"/>
            <a:ext cx="14475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 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800600" y="5105520"/>
            <a:ext cx="14479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743200" y="5562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4495680" y="5562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6248520" y="5562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8907-FCA3-4A48-A865-EB058DE88AF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B218790B-6696-4F99-B14E-254C2E41F8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recognize legal programs (&amp; complain about illegal on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generate correct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manage storage of all variables/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agree with OS &amp; linker on targe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1447920" y="5105520"/>
            <a:ext cx="129528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6553080" y="5105520"/>
            <a:ext cx="129564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048120" y="5105520"/>
            <a:ext cx="14475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 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800600" y="5105520"/>
            <a:ext cx="14479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8"/>
          <p:cNvSpPr/>
          <p:nvPr/>
        </p:nvSpPr>
        <p:spPr>
          <a:xfrm>
            <a:off x="2743200" y="5562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4495680" y="5562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6248520" y="5562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41D5-9FED-4750-B5B4-EF2B19AECCD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37D1E022-EA86-4959-B71E-8572688E07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some sort of Intermediate Representation(s)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maps source into 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maps IR to target machin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ultiple IRs – higher level at first, lower level in later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1447920" y="5105520"/>
            <a:ext cx="129528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6553080" y="5105520"/>
            <a:ext cx="129564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048120" y="5105520"/>
            <a:ext cx="14475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 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800600" y="5105520"/>
            <a:ext cx="14479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2743200" y="5562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4495680" y="5562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6248520" y="5562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2814-636A-4917-9716-73E1727DAAF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3E03E7E9-62CA-4C18-9FA2-1DDF748733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direct ancestors of this cou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nell CS 412-3 (Teitelbaum, Perki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ce CS 412 (Cooper, Kennedy, Torcz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W CSE 401 (Chambers, Ruzzo, et 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W CSE 582 (Perki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grad compiler cour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books (Appel; Cooper/Torczon; Aho, [Lam,] Sethi, Ullman [Dragon Book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CD9B-FA81-4AE9-A713-83A08216139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A95F4F14-6115-453D-86DF-EA6E1B3003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nt 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 into two p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nner: Responsible for converting character stream to token 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strips out white space,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er: Reads token stream; generates 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of these can be generated auto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language specified by a formal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ls read the grammar and generate scanner &amp; parser (either table-driven or hard-co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7" name="Group 12"/>
          <p:cNvGrpSpPr/>
          <p:nvPr/>
        </p:nvGrpSpPr>
        <p:grpSpPr>
          <a:xfrm>
            <a:off x="4156200" y="533520"/>
            <a:ext cx="4606920" cy="838080"/>
            <a:chOff x="4156200" y="533520"/>
            <a:chExt cx="4606920" cy="838080"/>
          </a:xfrm>
        </p:grpSpPr>
        <p:sp>
          <p:nvSpPr>
            <p:cNvPr id="228" name="Rectangle 4"/>
            <p:cNvSpPr/>
            <p:nvPr/>
          </p:nvSpPr>
          <p:spPr>
            <a:xfrm>
              <a:off x="4952880" y="533520"/>
              <a:ext cx="1067040" cy="8380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ca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6858000" y="533520"/>
              <a:ext cx="1066680" cy="8380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4191120" y="990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7"/>
            <p:cNvSpPr/>
            <p:nvPr/>
          </p:nvSpPr>
          <p:spPr>
            <a:xfrm>
              <a:off x="6019920" y="990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>
              <a:off x="7924680" y="9907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Text Box 9"/>
            <p:cNvSpPr/>
            <p:nvPr/>
          </p:nvSpPr>
          <p:spPr>
            <a:xfrm>
              <a:off x="4156200" y="68580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Text Box 10"/>
            <p:cNvSpPr/>
            <p:nvPr/>
          </p:nvSpPr>
          <p:spPr>
            <a:xfrm>
              <a:off x="6062040" y="68580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Text Box 11"/>
            <p:cNvSpPr/>
            <p:nvPr/>
          </p:nvSpPr>
          <p:spPr>
            <a:xfrm>
              <a:off x="8157960" y="68580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C723-1B68-463D-A990-61149847CED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EF96B05F-3508-496F-A3BD-0386329DA0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ke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stream: Each significant lexical chunk of the program is represented by a to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ors &amp; Punctuation: {}[]!+-=*;: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words: if while return go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: id &amp; actual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s: kind &amp; value; int, floating-point character, string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4D64-2DC6-4158-B14D-D33DD2C1D71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FF0B39AF-2426-4686-8826-2404B6B3F4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n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// this statement does very litt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f (x &gt;= y) y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s: tokens are atomic items, not character strings; comments &amp; whitespace a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ken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 most langu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917000" y="4038480"/>
            <a:ext cx="377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422080" y="4038480"/>
            <a:ext cx="1028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597480" y="4038480"/>
            <a:ext cx="6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374000" y="4038480"/>
            <a:ext cx="6516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5174640" y="4038480"/>
            <a:ext cx="680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(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891800" y="4573440"/>
            <a:ext cx="1049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3115440" y="4572000"/>
            <a:ext cx="680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(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973680" y="4572000"/>
            <a:ext cx="1238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5380560" y="4572000"/>
            <a:ext cx="9579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(4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6448680" y="4572000"/>
            <a:ext cx="11012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L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9CC4-B28B-4BFE-8B4E-28193483309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ED337E0D-DAA8-4627-B0B1-44F34D2ECB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ser Output (I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fferent 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gineering tradeoffs have changed over time (e.g., memory is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lmos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ee these d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output from a parser is an abstract syntax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ential meaning of the program without the syntactic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F014-04D1-408D-A4DE-44BC8EA421A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89837EA7-20FA-4CB2-BD9E-DD12D5CE68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s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Stream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764720" y="2666880"/>
            <a:ext cx="377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2269800" y="2666880"/>
            <a:ext cx="1028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3445200" y="2666880"/>
            <a:ext cx="6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746720" y="3201840"/>
            <a:ext cx="6516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2507400" y="3201840"/>
            <a:ext cx="680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(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3307680" y="3200400"/>
            <a:ext cx="1049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813680" y="3733920"/>
            <a:ext cx="680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(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2671920" y="3733920"/>
            <a:ext cx="1238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818000" y="4267080"/>
            <a:ext cx="9579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(4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886480" y="4267080"/>
            <a:ext cx="11012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L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7" name="Group 28"/>
          <p:cNvGrpSpPr/>
          <p:nvPr/>
        </p:nvGrpSpPr>
        <p:grpSpPr>
          <a:xfrm>
            <a:off x="4724280" y="2743200"/>
            <a:ext cx="3962520" cy="1981080"/>
            <a:chOff x="4724280" y="2743200"/>
            <a:chExt cx="3962520" cy="1981080"/>
          </a:xfrm>
        </p:grpSpPr>
        <p:sp>
          <p:nvSpPr>
            <p:cNvPr id="278" name="Oval 15"/>
            <p:cNvSpPr/>
            <p:nvPr/>
          </p:nvSpPr>
          <p:spPr>
            <a:xfrm>
              <a:off x="6019920" y="274320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fStm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Oval 16"/>
            <p:cNvSpPr/>
            <p:nvPr/>
          </p:nvSpPr>
          <p:spPr>
            <a:xfrm>
              <a:off x="5105520" y="342900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=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Oval 17"/>
            <p:cNvSpPr/>
            <p:nvPr/>
          </p:nvSpPr>
          <p:spPr>
            <a:xfrm>
              <a:off x="4724280" y="426708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D(x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18"/>
            <p:cNvSpPr/>
            <p:nvPr/>
          </p:nvSpPr>
          <p:spPr>
            <a:xfrm>
              <a:off x="5715000" y="426708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D(y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Oval 19"/>
            <p:cNvSpPr/>
            <p:nvPr/>
          </p:nvSpPr>
          <p:spPr>
            <a:xfrm>
              <a:off x="7162920" y="342900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ssig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Oval 20"/>
            <p:cNvSpPr/>
            <p:nvPr/>
          </p:nvSpPr>
          <p:spPr>
            <a:xfrm>
              <a:off x="6781680" y="426708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D(y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1"/>
            <p:cNvSpPr/>
            <p:nvPr/>
          </p:nvSpPr>
          <p:spPr>
            <a:xfrm>
              <a:off x="7772400" y="426708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T(42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 flipH="1">
              <a:off x="5638680" y="3124080"/>
              <a:ext cx="4572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 flipH="1">
              <a:off x="5181120" y="3886200"/>
              <a:ext cx="2286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4"/>
            <p:cNvSpPr/>
            <p:nvPr/>
          </p:nvSpPr>
          <p:spPr>
            <a:xfrm flipH="1">
              <a:off x="7238520" y="3886200"/>
              <a:ext cx="2286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25"/>
            <p:cNvSpPr/>
            <p:nvPr/>
          </p:nvSpPr>
          <p:spPr>
            <a:xfrm>
              <a:off x="5715000" y="3886200"/>
              <a:ext cx="3808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>
              <a:off x="7772400" y="3886200"/>
              <a:ext cx="3808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Line 27"/>
            <p:cNvSpPr/>
            <p:nvPr/>
          </p:nvSpPr>
          <p:spPr>
            <a:xfrm>
              <a:off x="6858000" y="3124080"/>
              <a:ext cx="6858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3D58-897A-4C77-8FBF-105CADD5D52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129FEA03-1609-4EE5-A41B-90797B36D6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ic Semantic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ing or (more common) after par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language requirements like proper declaration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liminary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 other information needed by back end analysis and 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63AB-6EEF-4070-A38F-C0C004B7A77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DD00CA3C-1F1F-4D45-BAB0-3832CA0B4E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 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IR into target machin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produce “good”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” = fast, compact, low power consumption (pick so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use machine resources effectiv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 hierarc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07B-91AD-4FEE-B4AD-33A8779BA48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582D3211-F429-42E6-ACE5-5DC8BF1C79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 En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ly split into two major parts with sub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ation” – code impro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works on lower-level IR than parser 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 selection &amp;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6E30-A9CE-4B40-949A-1AA4FDA6CE5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1C4F2D05-B6F5-4B1E-B373-82C2C9C62F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(x &gt;= y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y = 4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   eax,[ebp+16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p   eax,[ebp-8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l        L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    [ebp-8],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17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2" name="Group 6"/>
          <p:cNvGrpSpPr/>
          <p:nvPr/>
        </p:nvGrpSpPr>
        <p:grpSpPr>
          <a:xfrm>
            <a:off x="838080" y="3809880"/>
            <a:ext cx="3962520" cy="1981080"/>
            <a:chOff x="838080" y="3809880"/>
            <a:chExt cx="3962520" cy="1981080"/>
          </a:xfrm>
        </p:grpSpPr>
        <p:sp>
          <p:nvSpPr>
            <p:cNvPr id="313" name="Oval 7"/>
            <p:cNvSpPr/>
            <p:nvPr/>
          </p:nvSpPr>
          <p:spPr>
            <a:xfrm>
              <a:off x="2133720" y="380988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fStm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Oval 8"/>
            <p:cNvSpPr/>
            <p:nvPr/>
          </p:nvSpPr>
          <p:spPr>
            <a:xfrm>
              <a:off x="1219320" y="449568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=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Oval 9"/>
            <p:cNvSpPr/>
            <p:nvPr/>
          </p:nvSpPr>
          <p:spPr>
            <a:xfrm>
              <a:off x="838080" y="533376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D(x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10"/>
            <p:cNvSpPr/>
            <p:nvPr/>
          </p:nvSpPr>
          <p:spPr>
            <a:xfrm>
              <a:off x="1828800" y="533376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D(y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11"/>
            <p:cNvSpPr/>
            <p:nvPr/>
          </p:nvSpPr>
          <p:spPr>
            <a:xfrm>
              <a:off x="3276720" y="449568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ssig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2895480" y="533376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D(y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Oval 13"/>
            <p:cNvSpPr/>
            <p:nvPr/>
          </p:nvSpPr>
          <p:spPr>
            <a:xfrm>
              <a:off x="3886200" y="5333760"/>
              <a:ext cx="914400" cy="457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T(42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Line 14"/>
            <p:cNvSpPr/>
            <p:nvPr/>
          </p:nvSpPr>
          <p:spPr>
            <a:xfrm flipH="1">
              <a:off x="1752480" y="4190760"/>
              <a:ext cx="4572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Line 15"/>
            <p:cNvSpPr/>
            <p:nvPr/>
          </p:nvSpPr>
          <p:spPr>
            <a:xfrm flipH="1">
              <a:off x="1294920" y="4952880"/>
              <a:ext cx="2286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Line 16"/>
            <p:cNvSpPr/>
            <p:nvPr/>
          </p:nvSpPr>
          <p:spPr>
            <a:xfrm flipH="1">
              <a:off x="3352320" y="4952880"/>
              <a:ext cx="2286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17"/>
            <p:cNvSpPr/>
            <p:nvPr/>
          </p:nvSpPr>
          <p:spPr>
            <a:xfrm>
              <a:off x="1828800" y="4952880"/>
              <a:ext cx="3808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Line 18"/>
            <p:cNvSpPr/>
            <p:nvPr/>
          </p:nvSpPr>
          <p:spPr>
            <a:xfrm>
              <a:off x="3886200" y="4952880"/>
              <a:ext cx="3808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19"/>
            <p:cNvSpPr/>
            <p:nvPr/>
          </p:nvSpPr>
          <p:spPr>
            <a:xfrm>
              <a:off x="2971800" y="4190760"/>
              <a:ext cx="6858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5290-22CD-4131-BE08-6CCEC7B9A97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3FC1D83E-DA8B-46CF-AE0A-DF25C50308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History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50’s.  Existence pro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TRAN I (1954) – competitive with hand-optimized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60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languages: ALGOL, LISP, COBOL, SI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l notations for syntax, esp. BN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amental implementation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frames, recursive procedure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075A-C5DD-4B97-9C75-A4245AB4F49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58711A53-3B57-48A4-AC9C-638EA1E942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’s a compil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iv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C3D7-958D-4B94-9548-249536A3501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914D5552-83F3-42FB-8092-0EE43F437E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History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70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: formal methods for producing compiler front-ends; many theor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1970’s, 1980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languages (functional; Smalltalk &amp; object-orient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architectures (RISC machines, parallel machines, memory hierarchy issu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attention to back-end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C00F-2D42-443B-AA63-0E2E5C67010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664AEE07-97DE-4733-AB2F-AB7D375E03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History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0s and bey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ation techniques appearing in many new pl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st-in-time compilers (JI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analysis, verification, 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d compilation – blurring the lines between “compile time” and “runti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machine learning techniques to control optimizations(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technology critical to effective use of new hardware (RISC, Itanium, complex memory heirarch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w 800 lb gorilla - multi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86F4-4D8C-40FA-B4FC-CD455F533A9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1353C7CD-CA60-4D07-A22C-3B7D7DA647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EP 501 Cours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way to learn about compilers is to build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EP 501 course project:  Implement an x86 compiler in Java for an object-oriented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Java subset of Java from Appel 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ludes core object-oriented parts (classes, instances, and methods, including subclasses and inheritan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control structures (if, whi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 variables and expres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0959-D055-4D44-AC7A-1778E6363EF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1D851A8E-5678-4B41-8C40-112914A6FA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ject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large enough language to be interesting; small enough to be trac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due in ph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 result is the main thing, but timeliness and quality of intermediate work counts for some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 report &amp; short conference at end of the cour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requirements, then open-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ably open to alternative projects; let’s discu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likely would be a different implementation language (C#, ML, F#, ?) or target (MIPS/SPIM, x86-64,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0BCD-1A97-41DC-AD28-F72E4BDBF12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8CF779FA-383D-49C9-89EA-41AED01079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requisi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undergrad courses 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 &amp;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s, dictionaries, trees, hash tables, &amp;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 languages &amp; autom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expressions, finite automata, context-free grammars, maybe a little par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mbly-level programming for some machine (not necessarily x8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ps can usually be filled 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be prepared to put in extra time if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7F68-05B2-44F9-B45B-B112FD07E99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884DFB78-C9E2-4E32-A8A7-0ADB096978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ject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are encouraged to work in groups of 2 or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ir programming strongly encoura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ce for CVS or SVN repositories + other shared files available on UW CSE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f desired; not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to instructor/TA if you want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9A70-A16F-414A-A313-A8447A56ADE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018E06E9-E872-47BC-A583-79204048E8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ing Environ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ever you wan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ssuming you’re using Java, your code should compile &amp; run using standard Sun javac/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ics (Java 5/6) are f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use C# or something else, you assume some risk of the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with other members of the class and pull toge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discussion list can be very helpful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’re looking for a Java IDE, try Eclip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netbeans, or &lt;name your favorit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c/java + emacs for the truly hard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ABFC-71EB-412D-87E1-CC13B20DEEB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5D36964B-F06C-444F-8F74-7F260A6F38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quirements &amp; Gr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gh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%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% individual written ho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% exam (Thur. evening, about 2/3 of the way through the cour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t is to have homework submission online with graded work returned via e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just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346A-A74B-4967-8719-EE6100A163D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C2894539-DE1F-4524-BAC7-26BC3C1EFD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E 582 Administriv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lecture per we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esday 6:30-9:20, CSE 305 + MS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pool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ice H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kins: after class, drop-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: Tue. 5-6:15, UW CSE 2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ppoin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ions for other times/loca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5435-18CF-4486-AE4E-B45BAB61CE0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3BC9F8D4-A160-4F2E-9BBE-BCF0BE7CAB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EP 501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verything is (or will be) 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ww.cs.washington.edu/csep501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ecture slides will be on the course web by mid-afternoon before each clas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inted copies available in class at UW, but you may want to read or print in adv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ive video during clas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ut do try to join us (questions, etc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rchived video and slides from class will be posted a day or two lat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F4E8-F12B-4C19-9259-CD4BC0DE48E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A0161B9E-9D23-4728-B369-F25E5B5BAF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EP 501 Perso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or: Hal Perk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E 548; perkins@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e hours: after class + drop in when you’re around + appoin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: Hao 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lv@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e hours: CSE 216, Tue 5-6:15 + appoin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3539-634C-45B3-A4ED-DF37E154AB6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E49E1145-3C1A-483C-9B8F-F330BE6140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rse web si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are automatically subscribed if you are enrol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keep this fairly low-volume; limited to things that everyone needs to 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 is on cours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linked from course we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for anything relevant to the course – let’s try to build a commun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configure to have postings sent via em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61B4-BD6E-4434-A0CA-F3AFCDC2FED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BF516DF6-0DFB-452A-A688-A6C3234C75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good boo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o, Lam, Sethi, Ullman, “Dragon Book”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d (bu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d is also fi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el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odern Compiler Implementation in Jav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per &amp; Torczon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ngineering a Comp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gon book is the “official” text, but all would work &amp; we’ll draw on all three (and mo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put these on reserve in the engineering library, would anyone notic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1"/>
          <a:stretch/>
        </p:blipFill>
        <p:spPr>
          <a:xfrm>
            <a:off x="76320" y="4183200"/>
            <a:ext cx="838080" cy="1074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838080" cy="11019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3"/>
          <a:stretch/>
        </p:blipFill>
        <p:spPr>
          <a:xfrm>
            <a:off x="104760" y="2057400"/>
            <a:ext cx="80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B1AE-3C46-46DC-8329-A98D84CC085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D5D86566-9810-4FB7-9989-58B035DDA3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ademic Integ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ant a cooperative group working together to do great stuff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ilities include bounties for first person to solve vexing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: you must never misrepresent work done by someone else as your own, without proper cre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K to share ideas &amp; help each other out, but your project should ultimately be created by your group &amp; solo homework / tests should be your 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16BC-3C72-4439-8733-D322C42D784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762C10AA-9C26-4366-8CA0-FB0EBB1325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job is to ask questions to be sure you understand what’s happening and to slow me 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, I’ll barrel on ahea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7868-8F71-4678-A818-E99F9F7B0D4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EBAB5C74-3D80-4FEC-A9AC-D38787C736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ing At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of formal gramm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xical analysis – sc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 for first part of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ed by parsing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time to read the first couple of chapters of (any of) the book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7E23-3979-4213-84D4-DB4A07EA15E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8716B5CD-8449-44D5-958B-CF503FA34A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the point is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thi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t nPo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t k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hile (k &lt; 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f (a[k]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Po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B9BB-E66A-4EE4-865D-77E64FECC1F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FFF8D8FD-255E-4D0C-88E5-14C45D5F92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reters &amp; Compil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gram that reads an source program and produces the results of executing that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gram that translates a program from one language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to another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arg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3BE8-4356-40DC-BE3C-342270A77E1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03E3EFBA-70EA-4790-BD22-9D744B5848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s and interpreters both must read the input – a stream of characters – and “understand” it;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 h i l e ( k &lt; l e n g t h ) { &lt;nl&gt; &lt;tab&gt; i f ( a [ k ] &gt;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 &lt;nl&gt; &lt;tab&gt; &lt;tab&gt;{ n P o s + + ; } &lt;nl&gt; &lt;tab&gt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52B6-24FF-47BB-A96F-91D273869DA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971E49CC-2E58-4D43-BDCC-72A14EDBC6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eng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execution interleaved with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unning =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hile (runnin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nalyze next statem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xecute that statem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need repeated analysis of statements (particularly in loops, fun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: immediate execution, good debugging &amp; inte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98C8-F614-41E3-8281-7B0229CF626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2-08 Hal Perkins &amp; 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-</a:t>
            </a:r>
            <a:fld id="{BB13A9B1-A624-447B-AE5B-72615F947F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nd analyze entire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to semantically equivalent program in another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umably easier to execute or 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“improve” the program in som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lin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off: compile time overhead (preprocessing step) vs execution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01:44:57Z</dcterms:created>
  <dc:creator>Hal Perkins</dc:creator>
  <dc:description/>
  <dc:language>en-US</dc:language>
  <cp:lastModifiedBy>USER</cp:lastModifiedBy>
  <dcterms:modified xsi:type="dcterms:W3CDTF">2014-07-12T15:31:09Z</dcterms:modified>
  <cp:revision>57</cp:revision>
  <dc:subject/>
  <dc:title>CSE 582 – Compilers</dc:title>
</cp:coreProperties>
</file>