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27240" y="-360"/>
            <a:ext cx="300492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97000" y="68220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93720" y="4313160"/>
            <a:ext cx="55468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2452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27240" y="8624520"/>
            <a:ext cx="30049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D1B36A-BA23-4F1D-8BFA-E94D4B66B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95E97A-094B-40E9-A391-AC3E295A5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7000" y="682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3720" y="4313160"/>
            <a:ext cx="55468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02: taken from one of Cooper’s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090531-0B26-47D2-BF3F-2B6741918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97000" y="682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3720" y="4313160"/>
            <a:ext cx="55468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698-B209-4298-A7DD-896A1816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EC4-2D53-40A6-ABC5-554A11F5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C2B-8F58-4A02-89F4-EC615EDF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73A-01A8-40FA-B303-C6CE4ADE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F4FA-BE28-44D6-95AB-C2C78CCD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279E-EAA5-4CC9-A0E9-B853832E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2910-84F6-4AD1-9AD4-2F5DD786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FF41-2357-4FE1-BAC7-DC792229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6B4D-CF80-4698-AAB1-E1AEB42B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C70E-2FEF-4ACB-AE82-3188767E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76DD-CDBC-4C6A-97AF-8531D71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C5A-7833-440D-BDEF-A9806E8E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81AD-D93A-4E5F-9756-478DA727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9856-D431-4959-B96E-B8F28DA0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98F1-FFEE-4941-B465-14F610E4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1CDC-5724-4739-91E4-3ECD28F3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82CD-9463-4301-BE3C-CC084727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8F0-4691-417A-868D-0CEEA2DB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38C-7B02-4F00-9F04-F900CD6F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CBB-84EA-4CBB-AF60-9DB57C22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0BE-EAB4-4F6C-BA02-08BE1911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18A-21C0-4F8F-870B-897326FB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7C5-BE33-47CE-9EED-12C83CC3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A09-7885-4F54-BC82-7B6CDE0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92F1-49A8-4C4F-A761-FD07081439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</a:t>
            </a:r>
            <a:fld id="{064C422B-A3A7-4B32-A64A-48F2FD6B8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B401-758C-4CE7-AE9F-4E543B819D01}" type="datetime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C-</a:t>
            </a:r>
            <a:fld id="{7DCED08B-A879-47EF-9F79-E2D6608EE98C}" type="slidenum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CB8B-D8F6-453B-99BC-F62086B3E4C4}" type="datetime">
              <a:rPr b="0" lang="en-US" sz="1200" spc="-1" strike="noStrike">
                <a:solidFill>
                  <a:srgbClr val="1c1c1c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ahoma"/>
              </a:rPr>
              <a:t>C-</a:t>
            </a:r>
            <a:fld id="{AF1F517A-02EF-4A1F-A5CE-9B70B7B534C1}" type="slidenum">
              <a:rPr b="0" lang="en-US" sz="12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E P 501 – Compil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sing &amp; Context-Free Gramm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l Perk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ter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34E8-DD18-4C74-89FA-AA993BB5BFD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559C1740-D3C3-4378-98C7-814D0EF240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rivation Relati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&gt;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iff  A ::=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=&gt;* w if there is a chain of productions starting with A that generates 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ve clo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6484-8674-43BD-B5E0-4548E0E0F53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EB2BF91A-937A-4D0F-A2C0-350291F48C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rivation Relat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 A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&gt;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iff A ::=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s leftm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 =&gt;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   iff A ::=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s rightm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only be interested in leftmost and rightmost derivations – not random orde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87C4-7310-4CE7-9554-7149977AE09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C9E0C317-0AFD-4246-B289-1E244B7377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) = { w | A =&gt;* w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start symbol of gramma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f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) =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B018-4C35-4DC5-BCDF-373C374E209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EA5E0F2B-B5F6-41AC-8C09-05A2DC2856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uced Gramm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mma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duc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f for every production A ::=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there is a deriv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&gt;* x A z =&gt; x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z =&gt;* xyz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, no production is us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: we will use only reduced gramm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D94D-1F51-4D86-8D30-0D03E35D4B4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16FCA12E-0165-44CB-B643-25834A7E1B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bigu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mma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nambigu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f ever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 has a unique leftmost (or rightmost) deri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t: unique leftmost or unique rightmost implies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ammar without this property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mbigu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other grammars that generate the same language may be unambigu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unambiguous grammars for par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D1C0-5BB9-4B0D-80A6-81CE0D2932C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F340C4EF-E611-4C61-AC0E-800F6CA338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: Ambiguous Grammar for Arithmetic Express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:= 0 | 1 | 2 | 3 | 4 | 5 | 6 | 7 | 8 | 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rcise: show that this is 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?  Show two different leftmost or rightmost derivations for the same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valently: show two different parse trees for the same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AF23-73B5-4F6E-B0DA-A34642113E9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1A42CA88-8A87-4B66-89F4-9F60EAEDAC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a leftmost derivation of 2+3*4 and show the parse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4419720" y="76320"/>
            <a:ext cx="47242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0 | 1 | 2 | 3 | 4 | 5 | 6 | 7 | 8 | 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2EFE-FF01-4DC0-82F9-0D4901E595A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0833F96C-7A86-4DA3-BACE-75FBF94951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a different leftmost derivation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+3*4 and show the parse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419720" y="76320"/>
            <a:ext cx="47242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0 | 1 | 2 | 3 | 4 | 5 | 6 | 7 | 8 | 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7162-9F75-4376-8DB7-C6D48DEA851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C4A0223A-8607-46F7-8882-A7B7BEF76E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two different derivations of 5+6+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4419720" y="76320"/>
            <a:ext cx="47242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0 | 1 | 2 | 3 | 4 | 5 | 6 | 7 | 8 | 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D7C9-AD13-4A17-BD65-18826538DE9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3C6E0044-3AA0-4CD9-B290-3ABFA81471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going on her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rammar has no notion of precedence or associativ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non-terminal for each level of 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late the corresponding part of the gramm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ce the parser to recognize higher precedence subexpressions 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86D8-03F3-464C-9E18-2956F740E52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C19DDB23-1D10-43D6-A66A-7AC651FC40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 for 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sing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 free gramma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biguous gramm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: Dragon book, ch.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A87C-33A5-42F1-9C97-977023D6F26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CA89DFDC-C0AA-41FA-947C-13D42248D3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ic Expression Gramm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a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a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a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0 | 1 | 2 | 3 | 4 | 5 | 6 |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4B5E-302D-4E47-93C3-F54F93A5A77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9ADCB42C-EAE3-4208-9B8C-11AF2B90B6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: Derive 2 + 3 *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373720" y="0"/>
            <a:ext cx="377028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acto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acto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acto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(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::= 0 | 1 | 2 | 3 | 4 | 5 | 6 | 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01A2-7554-4791-931D-2056806F2BA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0E5134BE-CC21-4F7E-8DE0-27FF57A45D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: Derive 5 + 6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interaction between left- vs right-recursive rules and resulting associa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5373720" y="0"/>
            <a:ext cx="377028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acto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acto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acto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(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::= 0 | 1 | 2 | 3 | 4 | 5 | 6 | 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E58A-20D2-44D4-8DDE-69E9E8B5924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4B98ACB0-9C50-4CEB-A8EF-44CCD58FB0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: Derive 5 + (6 + 7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5373720" y="0"/>
            <a:ext cx="377028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acto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acto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acto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| (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::= 0 | 1 | 2 | 3 | 4 | 5 | 6 | 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C7A5-B7C4-4116-BDF4-E000248510F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A00ED439-0DAA-4A66-9200-E6A7837F37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Classic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mmar for conditional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fStm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if 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if 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m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rcise: show that this is ambigu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C39E-C553-430B-A76F-18D339D9032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8AC65213-9F6C-4FC8-99D4-218315065F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e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 (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)    if   (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m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lse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2498760" y="102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4446720" y="12060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fStm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if (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m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if (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m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el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m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BD78-C1B6-4766-8E07-187C5DABD28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1F370D57-0DA8-4124-B202-683641B8BB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 (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)    if   (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d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m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lse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4599000" y="12060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fStm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:= if (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m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if (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m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el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m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70C2-5DEF-4F78-A319-26572657666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E697D3EC-28D3-4A37-8D87-71B197089E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ving “if” Ambigu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the grammar to separate if statements with else clause and if statements with no 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in Java reference gramm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lots of non-termi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some ad-hoc rule in par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 matches closest unpaired if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317B-FF11-4A02-9196-31B71C40949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755CF7B3-26C4-48BB-9BA6-ECB5BC5306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ser Tools and Opera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parser tools can cope with ambiguous gramm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life simpler if used with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ly one can specify operator precedence &amp; associa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impler, ambiguous grammar with fewer nonterminals as basis for generated parser, without creating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F5A4-D61A-4521-98E4-AE815C77C88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55E241ED-30AA-44E7-97E2-A148B6E65A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ser Tools and Ambiguous Gramm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sible rules for resolving other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ier productions in the grammar preferred to later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st match used if there is a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ser tools normally allow for th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be sure that what the tool does is really what you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92D2-D892-4B98-8537-24158C1493B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DE4A0888-9CFE-4D53-977F-F3984FE435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yntax of most programming languages can be specified by a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context-free gramm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CG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ing: Given a grammar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a sentence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G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raverse the derivation (parse tree)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some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standard or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do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something usefu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 each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ee might not be produced explicitly, but the control flow of a parser corresponds to a traver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FD87-FA70-47B6-AE70-9F5EABBAE3B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057F4E01-802A-437C-B572-07762B1E21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ing At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topic: LR par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e reading ch.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CD71-93E8-45A3-98D6-6E3BCBC807C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949E0D1B-F1F3-4435-83A7-E9D69A7C7A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= 1  ;   if   (   a    +    1   )      b  =  2 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876560" y="0"/>
            <a:ext cx="4188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ssignStm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fStm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ssignStm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fStm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:= if (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tm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xp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:= a | b | c | i | j | k | n | x | y | 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 ::= 0 | 1 | 2 | 3 | 4 | 5 | 6 | 7 | 8 | 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089880" y="1882800"/>
            <a:ext cx="17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300760" y="2452680"/>
            <a:ext cx="17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484280" y="3025800"/>
            <a:ext cx="18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32040" y="2797200"/>
            <a:ext cx="18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6120" y="3330720"/>
            <a:ext cx="14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fStm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954360" y="3863880"/>
            <a:ext cx="19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ssignStm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6080040" y="3635280"/>
            <a:ext cx="18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923280" y="4154400"/>
            <a:ext cx="13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6059520" y="4092480"/>
            <a:ext cx="19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ssignStm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3441600" y="4626000"/>
            <a:ext cx="22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pr         exp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6904080" y="5159520"/>
            <a:ext cx="12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3398760" y="5159520"/>
            <a:ext cx="12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6025680" y="461160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d        exp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1417680" y="5159520"/>
            <a:ext cx="12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878400" y="4626000"/>
            <a:ext cx="18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d     exp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29"/>
          <p:cNvSpPr/>
          <p:nvPr/>
        </p:nvSpPr>
        <p:spPr>
          <a:xfrm flipH="1">
            <a:off x="2514600" y="2819520"/>
            <a:ext cx="533520" cy="26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30"/>
          <p:cNvSpPr/>
          <p:nvPr/>
        </p:nvSpPr>
        <p:spPr>
          <a:xfrm flipH="1">
            <a:off x="1905120" y="339264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31"/>
          <p:cNvSpPr/>
          <p:nvPr/>
        </p:nvSpPr>
        <p:spPr>
          <a:xfrm flipH="1">
            <a:off x="1447920" y="42307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32"/>
          <p:cNvSpPr/>
          <p:nvPr/>
        </p:nvSpPr>
        <p:spPr>
          <a:xfrm flipH="1">
            <a:off x="1676160" y="4230720"/>
            <a:ext cx="15228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33"/>
          <p:cNvSpPr/>
          <p:nvPr/>
        </p:nvSpPr>
        <p:spPr>
          <a:xfrm>
            <a:off x="1828800" y="423072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35"/>
          <p:cNvSpPr/>
          <p:nvPr/>
        </p:nvSpPr>
        <p:spPr>
          <a:xfrm>
            <a:off x="1828800" y="4230720"/>
            <a:ext cx="6094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36"/>
          <p:cNvSpPr/>
          <p:nvPr/>
        </p:nvSpPr>
        <p:spPr>
          <a:xfrm>
            <a:off x="2438280" y="468792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37"/>
          <p:cNvSpPr/>
          <p:nvPr/>
        </p:nvSpPr>
        <p:spPr>
          <a:xfrm flipH="1">
            <a:off x="3429000" y="2297160"/>
            <a:ext cx="53352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38"/>
          <p:cNvSpPr/>
          <p:nvPr/>
        </p:nvSpPr>
        <p:spPr>
          <a:xfrm>
            <a:off x="3962520" y="2286000"/>
            <a:ext cx="1447560" cy="57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39"/>
          <p:cNvSpPr/>
          <p:nvPr/>
        </p:nvSpPr>
        <p:spPr>
          <a:xfrm>
            <a:off x="1371600" y="499284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40"/>
          <p:cNvSpPr/>
          <p:nvPr/>
        </p:nvSpPr>
        <p:spPr>
          <a:xfrm>
            <a:off x="1981080" y="4992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42"/>
          <p:cNvSpPr/>
          <p:nvPr/>
        </p:nvSpPr>
        <p:spPr>
          <a:xfrm>
            <a:off x="1981080" y="5450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43"/>
          <p:cNvSpPr/>
          <p:nvPr/>
        </p:nvSpPr>
        <p:spPr>
          <a:xfrm>
            <a:off x="5410080" y="3164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44"/>
          <p:cNvSpPr/>
          <p:nvPr/>
        </p:nvSpPr>
        <p:spPr>
          <a:xfrm flipH="1">
            <a:off x="2971440" y="3621240"/>
            <a:ext cx="24382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45"/>
          <p:cNvSpPr/>
          <p:nvPr/>
        </p:nvSpPr>
        <p:spPr>
          <a:xfrm flipH="1">
            <a:off x="2895480" y="4307040"/>
            <a:ext cx="7632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46"/>
          <p:cNvSpPr/>
          <p:nvPr/>
        </p:nvSpPr>
        <p:spPr>
          <a:xfrm flipH="1">
            <a:off x="3428640" y="3621240"/>
            <a:ext cx="198108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47"/>
          <p:cNvSpPr/>
          <p:nvPr/>
        </p:nvSpPr>
        <p:spPr>
          <a:xfrm>
            <a:off x="3429000" y="461160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48"/>
          <p:cNvSpPr/>
          <p:nvPr/>
        </p:nvSpPr>
        <p:spPr>
          <a:xfrm flipH="1">
            <a:off x="4648320" y="3621240"/>
            <a:ext cx="76176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49"/>
          <p:cNvSpPr/>
          <p:nvPr/>
        </p:nvSpPr>
        <p:spPr>
          <a:xfrm>
            <a:off x="5410080" y="3621240"/>
            <a:ext cx="30492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50"/>
          <p:cNvSpPr/>
          <p:nvPr/>
        </p:nvSpPr>
        <p:spPr>
          <a:xfrm>
            <a:off x="5410080" y="3621240"/>
            <a:ext cx="15242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51"/>
          <p:cNvSpPr/>
          <p:nvPr/>
        </p:nvSpPr>
        <p:spPr>
          <a:xfrm>
            <a:off x="6934320" y="3959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52"/>
          <p:cNvSpPr/>
          <p:nvPr/>
        </p:nvSpPr>
        <p:spPr>
          <a:xfrm flipH="1">
            <a:off x="6552720" y="4459320"/>
            <a:ext cx="3812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53"/>
          <p:cNvSpPr/>
          <p:nvPr/>
        </p:nvSpPr>
        <p:spPr>
          <a:xfrm>
            <a:off x="6934320" y="4459320"/>
            <a:ext cx="7596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54"/>
          <p:cNvSpPr/>
          <p:nvPr/>
        </p:nvSpPr>
        <p:spPr>
          <a:xfrm>
            <a:off x="6934320" y="445932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55"/>
          <p:cNvSpPr/>
          <p:nvPr/>
        </p:nvSpPr>
        <p:spPr>
          <a:xfrm>
            <a:off x="6934320" y="4459320"/>
            <a:ext cx="9144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56"/>
          <p:cNvSpPr/>
          <p:nvPr/>
        </p:nvSpPr>
        <p:spPr>
          <a:xfrm>
            <a:off x="7848720" y="476424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57"/>
          <p:cNvSpPr/>
          <p:nvPr/>
        </p:nvSpPr>
        <p:spPr>
          <a:xfrm>
            <a:off x="7467480" y="4992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58"/>
          <p:cNvSpPr/>
          <p:nvPr/>
        </p:nvSpPr>
        <p:spPr>
          <a:xfrm>
            <a:off x="7467480" y="55260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59"/>
          <p:cNvSpPr/>
          <p:nvPr/>
        </p:nvSpPr>
        <p:spPr>
          <a:xfrm>
            <a:off x="6553080" y="499284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60"/>
          <p:cNvSpPr/>
          <p:nvPr/>
        </p:nvSpPr>
        <p:spPr>
          <a:xfrm flipH="1">
            <a:off x="4191120" y="4459320"/>
            <a:ext cx="3808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61"/>
          <p:cNvSpPr/>
          <p:nvPr/>
        </p:nvSpPr>
        <p:spPr>
          <a:xfrm>
            <a:off x="4572000" y="445932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62"/>
          <p:cNvSpPr/>
          <p:nvPr/>
        </p:nvSpPr>
        <p:spPr>
          <a:xfrm flipH="1">
            <a:off x="3962160" y="491652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Line 63"/>
          <p:cNvSpPr/>
          <p:nvPr/>
        </p:nvSpPr>
        <p:spPr>
          <a:xfrm>
            <a:off x="3886200" y="54500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64"/>
          <p:cNvSpPr/>
          <p:nvPr/>
        </p:nvSpPr>
        <p:spPr>
          <a:xfrm>
            <a:off x="4618080" y="5159520"/>
            <a:ext cx="12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65"/>
          <p:cNvSpPr/>
          <p:nvPr/>
        </p:nvSpPr>
        <p:spPr>
          <a:xfrm>
            <a:off x="5181480" y="4992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66"/>
          <p:cNvSpPr/>
          <p:nvPr/>
        </p:nvSpPr>
        <p:spPr>
          <a:xfrm>
            <a:off x="5181480" y="55260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67"/>
          <p:cNvSpPr/>
          <p:nvPr/>
        </p:nvSpPr>
        <p:spPr>
          <a:xfrm>
            <a:off x="4572000" y="44593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68"/>
          <p:cNvSpPr/>
          <p:nvPr/>
        </p:nvSpPr>
        <p:spPr>
          <a:xfrm>
            <a:off x="4008240" y="685800"/>
            <a:ext cx="11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69"/>
          <p:cNvSpPr/>
          <p:nvPr/>
        </p:nvSpPr>
        <p:spPr>
          <a:xfrm>
            <a:off x="-6840" y="567864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70"/>
          <p:cNvSpPr/>
          <p:nvPr/>
        </p:nvSpPr>
        <p:spPr>
          <a:xfrm>
            <a:off x="762120" y="5907240"/>
            <a:ext cx="304560" cy="0"/>
          </a:xfrm>
          <a:prstGeom prst="line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71"/>
          <p:cNvSpPr/>
          <p:nvPr/>
        </p:nvSpPr>
        <p:spPr>
          <a:xfrm>
            <a:off x="4863960" y="152280"/>
            <a:ext cx="0" cy="1524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354C-F16C-460A-98B9-82290077C8F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567C1FCF-B703-47F6-97F5-D4627095AB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Order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practical reasons we want the parser to be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determinist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no backtracking), and we want to examine the source program from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left to right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.e., parse the program in linear time in the order it appears in the source fi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404D-7FED-4B47-B8F2-0FFF6394AD4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E78978A3-6051-429D-AE0C-2E1EDBECC5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Order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the 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e the parse tree depth-first, left-to-right (leftmost deriv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L(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leaves and build up to the 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ectively a rightmost derivation in reverse(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R(k) and subsets (LALR(k), SLR(k)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1255-5E6F-4A1D-8320-1AB32C6878C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09E5328F-730C-4337-8976-61AE53B690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thing Useful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point (node) in the traversal, perform so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mantic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nodes of full parse tree (ra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abstract syntax tree (comm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linear, lower-level representation (more common in later parts of a modern compil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target code on the fly (1-pass compiler; not common in production compilers – can’t generate very good code in one pass – but great if you need a quick ‘n dirty working compil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5D24-5B33-44C8-9591-D051C842FBF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B0AFB604-F625-47E4-98AD-1C4E00B058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xt-Free Gramm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lly, a gramma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is a tup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&lt;N,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P,S&gt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 finite set of non-terminal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 finite set of terminal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nite set of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ubset of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N ×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t symbol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istinguished element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 specified otherwise, this is usually assumed to be the non-terminal on the left of the first p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98DF-4BA3-4AC9-A0CA-D86C2D8D7F4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-</a:t>
            </a:r>
            <a:fld id="{F2341AE7-043C-4B51-9B08-98A7C51C45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No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, b, c   elements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, x, y, z   elements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, B, C   elements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, Y, Z   elements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elements of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)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A ::=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&lt;A,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5791320" y="3886200"/>
                <a:ext cx="4269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5897520" y="4471920"/>
                <a:ext cx="4269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0" name="Line 7"/>
          <p:cNvSpPr/>
          <p:nvPr/>
        </p:nvSpPr>
        <p:spPr>
          <a:xfrm>
            <a:off x="1947960" y="5257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01:44:57Z</dcterms:created>
  <dc:creator>Hal Perkins</dc:creator>
  <dc:description/>
  <dc:language>en-US</dc:language>
  <cp:lastModifiedBy>Bakare</cp:lastModifiedBy>
  <dcterms:modified xsi:type="dcterms:W3CDTF">2016-03-29T14:06:31Z</dcterms:modified>
  <cp:revision>66</cp:revision>
  <dc:subject/>
  <dc:title>CSE 582 – Compilers</dc:title>
</cp:coreProperties>
</file>