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97000" y="68220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2452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27240" y="862452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5ED59-310B-43B2-B89B-6CDDE8E0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ABBE7-47D7-426C-9D97-C645B7C4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taken from the drago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73133-4D29-44DF-BF52-ED39EA81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def. from the drago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70AF5-E700-4371-A932-78319582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ime: fix start state info (S’::=S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FF2D7-8EC2-4837-B088-7A78B0B5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trace through this, beginning at the start state each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392DF-C464-46F1-88B4-0F68A7AC9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DFA19-D756-4F15-9CB4-A2BDE09E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example from the drago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B67-281A-4234-8B88-EC45E27F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5BE-25FF-4880-B669-F74D12F4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AC9-D38C-4A66-B66D-3C31A80B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34C-9C8A-45B8-9CA6-26D0CB89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45CB-6581-41D8-8904-8B5E0647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81C7-9D22-458D-9B1F-232C182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96D9-6A5C-4706-B17C-1E89E38E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CCA2-A280-4EDD-8DFC-ABDB5E4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D021-0CAA-4AA6-80B5-664D37E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F86-9F06-4823-A877-65F05AD5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B831-E48B-4520-BC44-66F6C044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B3C-D3F8-458B-B586-DF46318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539B-025E-4085-947C-990A932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3515-CD9C-4D5C-9F41-EE17FFD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B13-B44B-4803-BC2C-18AC2F4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12D-67AF-4955-AD66-A03862E1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F0F-23ED-4825-A9AF-61284304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9CA-BE58-488E-9FCF-1E82B6B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D9C-FB41-4D1E-9C71-DC96236C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AC5-9DB4-426B-B4A7-B2FD147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E31-6217-48D2-8CB1-7F86829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5DC-8509-460F-88DB-ECBA990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16C-9341-40B0-B249-62982DE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3A3-FB50-4B6C-9597-D2955627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4401-ED44-4D8E-8769-2D0A2933F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</a:t>
            </a:r>
            <a:fld id="{BF810CC5-C53D-4C94-A6F5-A98DA754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1FC2-50DE-4C80-B836-4A9EEF54DD48}" type="datetime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D-</a:t>
            </a:r>
            <a:fld id="{F9DDCFE5-449F-4EF0-AB0A-E26DA599EC20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4BE9-13A5-4869-A860-35AC9D9852DC}" type="datetime">
              <a:rPr b="0" lang="en-US" sz="12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D-</a:t>
            </a:r>
            <a:fld id="{67D2069B-5F0D-47F7-820F-170906B8D789}" type="slidenum">
              <a:rPr b="0" lang="en-US" sz="12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 P 501 – Compi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R Pa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l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ter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C9A-EFD4-4705-92FA-923963E3351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52A362D3-4C76-4B94-8BBE-68698916E4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e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,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nd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right-sentential for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produ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 position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replac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duce the previous right-sentential form in the rightmost derivation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44D-697E-4B22-AC88-4BDC26FB8EB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75C56D58-4BD1-4630-861B-05A9C9611A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e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&gt; 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=&gt; 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=&gt; 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de =&gt; abbc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bcde is a right sentential form whose handl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=b at position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de is a right sentential form whose handl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 at position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some books take the left of the match as th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D11-7AF2-4CB3-B17C-0E90E89F1D2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521B11AD-1FF7-4BBE-948E-2BDCE44F1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Shift-Reduce Par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ck holding the frontier of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ring with the remaining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A1A2-D257-4AB7-89EF-4686C5991D3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5EBCE60-476E-40DB-AC79-CD552A316C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-Reduce Parser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du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if the top of the stack is the right side of a hand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op the right si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push the left sid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push the next input symbol onto the s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ce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nnounc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syntax error discov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E45C-3DC6-4FF0-A225-26BA8B012AB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68FB4E79-E9C7-4E10-9C03-5CD66FD7DE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-Reduc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tac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pu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bcd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994440" y="45576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|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559-D0F9-4A26-A487-C874BF2C700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8C09472D-CF59-4520-BDA8-53B13F5BE7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We Automate Th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able pref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a prefix of a right- sentential form that can appear on the stack of the shift-reduce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: a prefix of a right-sentential form that does not continue past the rightmost handle of that sententi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: Construct a DFA to recognize viable prefixes given the stack and remaining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reductions when we recognize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496-4AFA-4D88-8FA6-BFEA918073E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523F8B3E-76C2-43E4-BAD3-43AD66048E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A for prefixes o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248520" y="247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c |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1447920" y="348624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838080" y="379080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1981080" y="3790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16"/>
          <p:cNvSpPr/>
          <p:nvPr/>
        </p:nvSpPr>
        <p:spPr>
          <a:xfrm>
            <a:off x="2666880" y="348624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200400" y="3790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3886200" y="348624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4419720" y="3790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5105520" y="348624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638680" y="3790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22"/>
          <p:cNvSpPr/>
          <p:nvPr/>
        </p:nvSpPr>
        <p:spPr>
          <a:xfrm>
            <a:off x="6324480" y="348624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2917800" y="40194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2644920" y="462924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4159080" y="40194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3886200" y="462924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5105520" y="249552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28"/>
          <p:cNvSpPr/>
          <p:nvPr/>
        </p:nvSpPr>
        <p:spPr>
          <a:xfrm>
            <a:off x="5638680" y="28004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6324480" y="249552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45320" y="344160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1788480" y="336564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2146320" y="5194440"/>
            <a:ext cx="15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3376080" y="51958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2243160" y="411012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3531960" y="411012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36"/>
          <p:cNvSpPr/>
          <p:nvPr/>
        </p:nvSpPr>
        <p:spPr>
          <a:xfrm>
            <a:off x="3007800" y="342432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37"/>
          <p:cNvSpPr/>
          <p:nvPr/>
        </p:nvSpPr>
        <p:spPr>
          <a:xfrm>
            <a:off x="4221000" y="342432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5455440" y="3424320"/>
            <a:ext cx="9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6566040" y="3576600"/>
            <a:ext cx="17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40"/>
          <p:cNvSpPr/>
          <p:nvPr/>
        </p:nvSpPr>
        <p:spPr>
          <a:xfrm flipV="1">
            <a:off x="4343400" y="295236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4070880" y="2908440"/>
            <a:ext cx="10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5293080" y="2147760"/>
            <a:ext cx="9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6567120" y="2585880"/>
            <a:ext cx="18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44"/>
          <p:cNvSpPr/>
          <p:nvPr/>
        </p:nvSpPr>
        <p:spPr>
          <a:xfrm>
            <a:off x="1709640" y="28764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893520" y="245124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1098720" y="2984400"/>
            <a:ext cx="9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4D8-0904-450C-ACFD-0CFF7D4E03F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D07CAF3-E4A7-4739-ABFD-EA2F9626A7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bcde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324480" y="228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c |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Group 41"/>
          <p:cNvGrpSpPr/>
          <p:nvPr/>
        </p:nvGrpSpPr>
        <p:grpSpPr>
          <a:xfrm>
            <a:off x="4078080" y="2109960"/>
            <a:ext cx="5221080" cy="1930320"/>
            <a:chOff x="4078080" y="2109960"/>
            <a:chExt cx="5221080" cy="1930320"/>
          </a:xfrm>
        </p:grpSpPr>
        <p:sp>
          <p:nvSpPr>
            <p:cNvPr id="229" name="Oval 4"/>
            <p:cNvSpPr/>
            <p:nvPr/>
          </p:nvSpPr>
          <p:spPr>
            <a:xfrm>
              <a:off x="4870440" y="2778120"/>
              <a:ext cx="31932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4505400" y="296064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5189760" y="2960640"/>
              <a:ext cx="40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Oval 7"/>
            <p:cNvSpPr/>
            <p:nvPr/>
          </p:nvSpPr>
          <p:spPr>
            <a:xfrm>
              <a:off x="5599080" y="2778120"/>
              <a:ext cx="31932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>
              <a:off x="5918400" y="2960640"/>
              <a:ext cx="41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6329520" y="2778120"/>
              <a:ext cx="31896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>
              <a:off x="6648480" y="2960640"/>
              <a:ext cx="41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7059600" y="2778120"/>
              <a:ext cx="31932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7378920" y="2960640"/>
              <a:ext cx="40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7788240" y="2778120"/>
              <a:ext cx="32076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5749920" y="30970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5586480" y="3462480"/>
              <a:ext cx="31932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6492960" y="30970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6329520" y="3462480"/>
              <a:ext cx="318960" cy="318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7059600" y="2184480"/>
              <a:ext cx="319320" cy="320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7378920" y="2367000"/>
              <a:ext cx="40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7788240" y="2184480"/>
              <a:ext cx="320760" cy="320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 Box 21"/>
            <p:cNvSpPr/>
            <p:nvPr/>
          </p:nvSpPr>
          <p:spPr>
            <a:xfrm>
              <a:off x="4078080" y="2697120"/>
              <a:ext cx="11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4893120" y="266688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5090760" y="3762360"/>
              <a:ext cx="129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::= 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5826600" y="376380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::= 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5165640" y="3112920"/>
              <a:ext cx="96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5937120" y="3112920"/>
              <a:ext cx="96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5625000" y="270360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6350040" y="2703600"/>
              <a:ext cx="96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29"/>
            <p:cNvSpPr/>
            <p:nvPr/>
          </p:nvSpPr>
          <p:spPr>
            <a:xfrm>
              <a:off x="7088400" y="270360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Text Box 30"/>
            <p:cNvSpPr/>
            <p:nvPr/>
          </p:nvSpPr>
          <p:spPr>
            <a:xfrm>
              <a:off x="7770240" y="2793960"/>
              <a:ext cx="145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::=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 flipV="1">
              <a:off x="6602400" y="2459160"/>
              <a:ext cx="45720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Text Box 32"/>
            <p:cNvSpPr/>
            <p:nvPr/>
          </p:nvSpPr>
          <p:spPr>
            <a:xfrm>
              <a:off x="6260760" y="2394000"/>
              <a:ext cx="95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Text Box 33"/>
            <p:cNvSpPr/>
            <p:nvPr/>
          </p:nvSpPr>
          <p:spPr>
            <a:xfrm>
              <a:off x="7083000" y="210996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34"/>
            <p:cNvSpPr/>
            <p:nvPr/>
          </p:nvSpPr>
          <p:spPr>
            <a:xfrm>
              <a:off x="7758720" y="2200320"/>
              <a:ext cx="154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S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::= 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35"/>
            <p:cNvSpPr/>
            <p:nvPr/>
          </p:nvSpPr>
          <p:spPr>
            <a:xfrm>
              <a:off x="5026320" y="24130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Text Box 36"/>
            <p:cNvSpPr/>
            <p:nvPr/>
          </p:nvSpPr>
          <p:spPr>
            <a:xfrm>
              <a:off x="4339080" y="2133720"/>
              <a:ext cx="133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37"/>
            <p:cNvSpPr/>
            <p:nvPr/>
          </p:nvSpPr>
          <p:spPr>
            <a:xfrm>
              <a:off x="4480920" y="2554200"/>
              <a:ext cx="95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9F1-58E8-48C5-B140-2BE38C29958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172917C9-4E69-4812-89D9-19F58E6080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 too much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the parser to run in time proportional to the length of the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he heck did this DFA come from anyw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underlying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 defer construction details for 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DAF-CBC2-4870-A574-8B71EAF681F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AEC8D850-79BC-4BAC-AF54-7E3327EEB2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ing DFA Resca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: after a reduction, the contents of the stack are the same as before except for the new non-terminal on 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ing the stack will take us through the same transitions as before until the last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record state numbers on the stack, we can go directly to the appropriate state when we pop the right hand side of a production from th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22A-BB31-417B-B047-082B9CD5D3D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F7CC3E29-DF7D-4EC0-8AA7-72C02A10EC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R Pa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-driven Par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se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-Reduce and Reduce-Reduce confli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8DD-2B49-42CF-8142-E979E6F042E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18D34E5-F061-4D8D-88D1-EDF1ADAB85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the stack to contain pairs of states and symbols from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resents the accep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 always added – depends on particular presen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ation: in an actual parser, only the state numbers need to be pushed, since they implicitly contain the symbol information, but for explanations, it’s clearer to us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45E-93D1-43F7-9ED9-A1F58B45B9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BCA17CB7-35C8-46A2-8EAC-8EEE3EDF4E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coding the DFA in a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hift-reduce parser’s DFA can be encoded in two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ow for each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able encodes what to do given the current state and the next input symb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able encodes the transitions to take after a 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D4E-B586-4ABC-8733-2A80F76A116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409140F4-9D81-41F1-8DBF-81B8CDCD3E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the current state and input symbol, the main possible actions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hift the input symbol and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to the stack (i.e., shift and move to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reduce using grammar produ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duction number tells us how many &lt;symbol, state&gt; pairs to pop off th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3CCE-2AA0-48B0-8DE3-D838819793E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D75295A0-FE78-43C1-99B1-1A7C9192BD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ossib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 e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nk – no transition – syntax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R parser will detect an error as soon as possible on a left-to-right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al compiler needs to produce an error message, recover, and continue parsing when this happ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E12-BC1E-4EF5-A2E4-4DCBF032ED5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DE58F44E-1B33-497E-A00B-54BA64110C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reduction is performed, &lt;symbol, state&gt; pairs are popped from the stack revealing a stat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covered_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top of the s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to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covered_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 is the new state to push on the stack when reducing produ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fter po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finding stat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covered_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t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E0E-ADCC-429E-98DB-1686C7CDCF5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49072397-B366-41E1-B0CB-1484DEBF5C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inder: DFA f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248520" y="228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c |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1295280" y="32004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5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828800" y="3505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2514600" y="32004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048120" y="3505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3733920" y="320040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267080" y="3505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952880" y="32004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5486400" y="3505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765520" y="3733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5"/>
          <p:cNvSpPr/>
          <p:nvPr/>
        </p:nvSpPr>
        <p:spPr>
          <a:xfrm>
            <a:off x="2492280" y="43434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4006800" y="3733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17"/>
          <p:cNvSpPr/>
          <p:nvPr/>
        </p:nvSpPr>
        <p:spPr>
          <a:xfrm>
            <a:off x="3733920" y="434340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4952880" y="22096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5486400" y="25146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20"/>
          <p:cNvSpPr/>
          <p:nvPr/>
        </p:nvSpPr>
        <p:spPr>
          <a:xfrm>
            <a:off x="6172200" y="22096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293040" y="315612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1636200" y="307980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1993680" y="4908600"/>
            <a:ext cx="15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3223440" y="491004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2090520" y="382428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3379680" y="382428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855520" y="313848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068720" y="313848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5302800" y="3138480"/>
            <a:ext cx="9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6413400" y="3290760"/>
            <a:ext cx="17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31"/>
          <p:cNvSpPr/>
          <p:nvPr/>
        </p:nvSpPr>
        <p:spPr>
          <a:xfrm flipV="1">
            <a:off x="4191120" y="2666880"/>
            <a:ext cx="7617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3918600" y="2622600"/>
            <a:ext cx="10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5293080" y="2147760"/>
            <a:ext cx="9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6414840" y="2300400"/>
            <a:ext cx="18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35"/>
          <p:cNvSpPr/>
          <p:nvPr/>
        </p:nvSpPr>
        <p:spPr>
          <a:xfrm>
            <a:off x="1557360" y="2590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36"/>
          <p:cNvSpPr/>
          <p:nvPr/>
        </p:nvSpPr>
        <p:spPr>
          <a:xfrm>
            <a:off x="740880" y="216540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37"/>
          <p:cNvSpPr/>
          <p:nvPr/>
        </p:nvSpPr>
        <p:spPr>
          <a:xfrm>
            <a:off x="946440" y="2698920"/>
            <a:ext cx="9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5C0-7EDE-4F2C-ABE8-772AD106CB3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B5044D9-E0C8-433F-B6F4-75EE1086B9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R Parse Table f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019920" y="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143000" y="2057400"/>
          <a:ext cx="7023240" cy="4022640"/>
        </p:xfrm>
        <a:graphic>
          <a:graphicData uri="http://schemas.openxmlformats.org/drawingml/2006/table">
            <a:tbl>
              <a:tblPr/>
              <a:tblGrid>
                <a:gridCol w="762120"/>
                <a:gridCol w="672840"/>
                <a:gridCol w="700200"/>
                <a:gridCol w="698400"/>
                <a:gridCol w="696960"/>
                <a:gridCol w="698760"/>
                <a:gridCol w="699840"/>
                <a:gridCol w="696960"/>
                <a:gridCol w="698400"/>
                <a:gridCol w="69876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B4B-2F0D-4331-843F-98C8E40C351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15A1BC7-118C-44BA-8C46-A6BF8E356A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R Parsing Algorithm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d = scanner.getToke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top of stac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action[s, word] = s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sh word; pus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(st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d = scanner.getToke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else if (action[s, word] = r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 2 * length of right side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io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2*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covered_s = top of stac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sh left sid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productio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sh state goto[uncovered_s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4952880" y="2023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else if (action[s, word] = accept 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no entry in actio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ort syntax err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t or attempt recover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724280" y="205740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DDDB-5408-4A95-8E7E-27D60FB0E9A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8E6D7EEB-D2B4-453F-ABC3-A396565D9D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abbcde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12"/>
          <p:cNvSpPr/>
          <p:nvPr/>
        </p:nvSpPr>
        <p:spPr>
          <a:xfrm>
            <a:off x="5867280" y="763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145120" y="2017800"/>
          <a:ext cx="3846600" cy="4114800"/>
        </p:xfrm>
        <a:graphic>
          <a:graphicData uri="http://schemas.openxmlformats.org/drawingml/2006/table">
            <a:tbl>
              <a:tblPr/>
              <a:tblGrid>
                <a:gridCol w="398520"/>
                <a:gridCol w="369720"/>
                <a:gridCol w="385920"/>
                <a:gridCol w="401400"/>
                <a:gridCol w="366840"/>
                <a:gridCol w="385920"/>
                <a:gridCol w="384120"/>
                <a:gridCol w="384120"/>
                <a:gridCol w="384120"/>
                <a:gridCol w="385920"/>
              </a:tblGrid>
              <a:tr h="319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A60-9298-4BC3-B136-68F5AC46FB7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3F0C29C4-C733-4BA2-8D52-5704438895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R St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 is that each state en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t of all possible productions that we could be looking at, given the current state of the parse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e are in the right hand side of each of those prod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6DDD-FE92-455C-8B83-BD171AA3B68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10F8534D-6AD6-4062-8C5E-2B74E8E645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R(1) Par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ll look at LR(1) par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t to right sca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htmost derivation, 1 symbol looka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all practical programming languages have an LR(1)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LR(1), SLR(1), etc. – subsets of LR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LR(1) can parse most real languages, is more compact, and is used by YACC/Bison/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096-8BA6-417E-BD0F-4F49E7607BB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77005A92-CFE0-4182-B21E-D2816127E9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production with a dot in the right hand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Items for produ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.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.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The dot represents a position in the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2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A6A8-A5AD-4091-A372-7F47A52CCD2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E069EA31-FE65-4564-BA6A-F237B0AC24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A f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29000" y="228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c |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::= 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932760" y="2759040"/>
            <a:ext cx="1938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34200" y="3643200"/>
            <a:ext cx="19386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a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1077480" y="5106960"/>
            <a:ext cx="1568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685800" y="29718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2590920" y="29718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2684160" y="274320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397600" y="2622600"/>
            <a:ext cx="9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82880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179000" y="315612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1828800" y="4572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173240" y="460368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844000" y="3657600"/>
            <a:ext cx="19386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2590920" y="409716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2320920" y="3747960"/>
            <a:ext cx="10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77920" y="5106960"/>
            <a:ext cx="1577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21"/>
          <p:cNvSpPr/>
          <p:nvPr/>
        </p:nvSpPr>
        <p:spPr>
          <a:xfrm>
            <a:off x="3733920" y="4572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3078000" y="460368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4495680" y="40971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4228920" y="373392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4741200" y="3887640"/>
            <a:ext cx="1806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824000" y="4802040"/>
            <a:ext cx="1806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7"/>
          <p:cNvSpPr/>
          <p:nvPr/>
        </p:nvSpPr>
        <p:spPr>
          <a:xfrm>
            <a:off x="557388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4933080" y="4299120"/>
            <a:ext cx="9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29"/>
          <p:cNvSpPr/>
          <p:nvPr/>
        </p:nvSpPr>
        <p:spPr>
          <a:xfrm flipV="1">
            <a:off x="4495680" y="2954160"/>
            <a:ext cx="515880" cy="7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4147200" y="297180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1"/>
          <p:cNvSpPr/>
          <p:nvPr/>
        </p:nvSpPr>
        <p:spPr>
          <a:xfrm>
            <a:off x="4725000" y="2744640"/>
            <a:ext cx="1938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33"/>
          <p:cNvSpPr/>
          <p:nvPr/>
        </p:nvSpPr>
        <p:spPr>
          <a:xfrm>
            <a:off x="6131160" y="2666880"/>
            <a:ext cx="9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34"/>
          <p:cNvSpPr/>
          <p:nvPr/>
        </p:nvSpPr>
        <p:spPr>
          <a:xfrm>
            <a:off x="6647760" y="2730600"/>
            <a:ext cx="1938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Oval 35"/>
          <p:cNvSpPr/>
          <p:nvPr/>
        </p:nvSpPr>
        <p:spPr>
          <a:xfrm>
            <a:off x="914400" y="24382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36"/>
          <p:cNvSpPr/>
          <p:nvPr/>
        </p:nvSpPr>
        <p:spPr>
          <a:xfrm>
            <a:off x="914400" y="33526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Oval 37"/>
          <p:cNvSpPr/>
          <p:nvPr/>
        </p:nvSpPr>
        <p:spPr>
          <a:xfrm>
            <a:off x="1066680" y="48006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Oval 38"/>
          <p:cNvSpPr/>
          <p:nvPr/>
        </p:nvSpPr>
        <p:spPr>
          <a:xfrm>
            <a:off x="2819520" y="335268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39"/>
          <p:cNvSpPr/>
          <p:nvPr/>
        </p:nvSpPr>
        <p:spPr>
          <a:xfrm>
            <a:off x="2971800" y="48006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Oval 40"/>
          <p:cNvSpPr/>
          <p:nvPr/>
        </p:nvSpPr>
        <p:spPr>
          <a:xfrm>
            <a:off x="4724280" y="35812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Oval 41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Oval 42"/>
          <p:cNvSpPr/>
          <p:nvPr/>
        </p:nvSpPr>
        <p:spPr>
          <a:xfrm>
            <a:off x="4724280" y="24382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val 43"/>
          <p:cNvSpPr/>
          <p:nvPr/>
        </p:nvSpPr>
        <p:spPr>
          <a:xfrm>
            <a:off x="6647040" y="243828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44"/>
          <p:cNvSpPr/>
          <p:nvPr/>
        </p:nvSpPr>
        <p:spPr>
          <a:xfrm>
            <a:off x="6400800" y="29718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C49-83AD-47C7-A4C6-1BB4260CB9C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4E49859A-EBA7-4707-8C89-AF86ACD966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s with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mmars can cause to problems when constructing a LR par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-reduce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-reduce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620-A412-46C7-BE19-79B027F577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DF50244C-8B02-41E4-9375-CAEFDB57EF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-Reduce Confli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uation: both a shift and a reduce are possible at a given point in the parse (equivalently: in a particular state of the D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example: if-else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ifthe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| ifthe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E0D-B918-4616-B745-B98C9763124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6D0CA692-B6EF-40ED-B1A9-82D0187A39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States f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3 has a shift-reduce 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hift past else into state 4 (s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duce (r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:= ift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e: oth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:= .ifthen items not included in states 2-4 to save spa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211720" y="711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ifthe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 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:= ifthe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else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649880" y="1981080"/>
            <a:ext cx="2947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if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if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297180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1841400" y="2604960"/>
            <a:ext cx="15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val 11"/>
          <p:cNvSpPr/>
          <p:nvPr/>
        </p:nvSpPr>
        <p:spPr>
          <a:xfrm>
            <a:off x="1523880" y="2057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1649880" y="3048120"/>
            <a:ext cx="2947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then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then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297180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2299320" y="3672000"/>
            <a:ext cx="10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Oval 16"/>
          <p:cNvSpPr/>
          <p:nvPr/>
        </p:nvSpPr>
        <p:spPr>
          <a:xfrm>
            <a:off x="1523880" y="31240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1649880" y="4114800"/>
            <a:ext cx="2947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.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297180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2092680" y="4738680"/>
            <a:ext cx="14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20"/>
          <p:cNvSpPr/>
          <p:nvPr/>
        </p:nvSpPr>
        <p:spPr>
          <a:xfrm>
            <a:off x="1523880" y="4191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1649880" y="5183280"/>
            <a:ext cx="2947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lse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22"/>
          <p:cNvSpPr/>
          <p:nvPr/>
        </p:nvSpPr>
        <p:spPr>
          <a:xfrm>
            <a:off x="1523880" y="52135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DD7-48DD-43B5-9941-8DFE7D7D8A5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BDFCC97A-0BB6-4151-87F0-D1D4488BCD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Shift-Reduce Confli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in Java reference grammar,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parse tool with a “longest match” rule – i.e., if there is a conflict, choose to shift instead of redu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exactly what we want for if-else c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line: a few shift-reduce conflicts are fine, but be sure they do what you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BE0-2793-4FCE-BFF2-333326544E8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89C668B9-4871-4A94-BBF0-8BA6417CF9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uce-Reduce Confli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uation: two different reductions are possible in a give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ived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276-E157-464F-B2AE-7DEC8BB3FC4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FE94DF7A-6EBA-4D7B-BDD9-1B79DB3425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States f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343040" y="2017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2 has a reduce-reduce conflict (r3, r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483160" y="65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655280" y="1981080"/>
            <a:ext cx="1616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.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2438280" y="3186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1864800" y="3124080"/>
            <a:ext cx="9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Oval 8"/>
          <p:cNvSpPr/>
          <p:nvPr/>
        </p:nvSpPr>
        <p:spPr>
          <a:xfrm>
            <a:off x="1523880" y="2057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1666080" y="3581280"/>
            <a:ext cx="1557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1523880" y="33526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6260400" y="230040"/>
            <a:ext cx="192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213-E93D-4279-9B01-4135208944B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E522DC1A-76D9-47ED-8008-C59355A329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Reduce-Reduce Confli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normally indicate a serious problem with the grammar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different kind of parser generator that takes lookahead information into account when constructing the states (LR(1) instead of SLR(1) for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actical tools use thi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 the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F8D7-41C0-45F8-AD42-B9CF63DB8B7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BC743F60-AF1A-462C-AEB6-A086CDD8A9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Reduce-Reduce Confli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e grammar separates arithmetic and boolean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ex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x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ex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ex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x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x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&amp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ill create a reduce-reduce confl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FD6A-6D1C-49BC-9616-2558A95661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221078E4-0D31-4371-AC35-0A34E7A3A4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ttom-Up Par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Read the input left to righ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ever we’ve matched the right hand side of a production, reduce it to the appropriate non-terminal and add that non-terminal to the pars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pper edge of this partial parse tree is known as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ont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D612-9278-454A-A9DA-38BDBB8381E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24567BCA-588F-4235-9067-EC6458E87B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vering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lution is to mer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i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i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 single non-terminal (or 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pl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i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i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erywhere they appe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vering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some programs that are not generated by the original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type checker or other static semantic analysis to weed out illegal programs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AC6-53E7-4B28-810A-32F62AFFD2E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512DC7CA-B5C2-499D-957B-B2E4B7A898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ing At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ing LR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 present a simple version (SLR(0)) in lecture, then talk about extending it to LR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L parsers and recursive desc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reading ch.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5C97-4D5B-4D8B-A97B-D36A67C0E73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C74600FA-E545-49F0-9C8E-EA3C79A974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 |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::=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 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   b    b    c    d   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4BB2-A1EC-41E9-8AF3-41F3C0F1208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279B1FBB-1ADD-4BDF-AE5E-0DC6A030DB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ottom-up parser reconstructs a reverse rightmost der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the rightmost der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…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ser will first disc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 terminates wh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duced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start symbol, success)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match can be found (syntax err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EA1-A305-42D4-9D8B-A8DC8B873C3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553E9278-9723-43A8-8575-201A6F7C1B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We Parse with Th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: given what we’ve already seen and the next input symbol, decide what to do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k ahead fur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du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both of these hol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tep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ightmost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ift-redu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3AB-C2BF-4EAD-B367-9BC7B28ED74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7DDF2AB6-C8AE-48FA-866E-DDC06B63F3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tial 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*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st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ntential 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of the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erivatio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…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f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entential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ntential form in a rightmost derivation is called a right-sentential form (similarly for leftmost and left-senten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D78-369F-40C8-B077-26052B54BD4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-</a:t>
            </a:r>
            <a:fld id="{0FB964E5-2227-48F1-92D4-D6D918631C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ly, a substring of the tree frontier that matches the right side of a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produc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handle only if it matches the frontier at a point 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s used in the der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ppear in many other places in the frontier without being a handle for that particular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1:44:57Z</dcterms:created>
  <dc:creator>Hal Perkins</dc:creator>
  <dc:description/>
  <dc:language>en-US</dc:language>
  <cp:lastModifiedBy>Fred Videon</cp:lastModifiedBy>
  <dcterms:modified xsi:type="dcterms:W3CDTF">2008-01-15T21:00:20Z</dcterms:modified>
  <cp:revision>104</cp:revision>
  <dc:subject/>
  <dc:title>CSE 582 – Compilers</dc:title>
</cp:coreProperties>
</file>