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927240" y="-360"/>
            <a:ext cx="30049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62452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927240" y="8624520"/>
            <a:ext cx="30049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E3E7C2-586A-4F28-B99E-E82EFD40C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83C06D-32A7-4DFE-B75A-565C131F5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02: taken from CSE 401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76508F-DCB2-47E9-A792-2917356F7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0D269F-54C1-41A5-BAAF-FAB3DDC5F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02: from CSE401 Sp02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FE2927-7810-4EBC-8D01-77A97DBD7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02: from CSE 401 Sp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A50F-35E6-4CA8-B0FD-79DF8A51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752-524F-4D29-8426-87A0FB9D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17E-6A46-4714-AB26-D9FE263D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578-BCC8-4A62-B8AA-9CDDE621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4C29-B7DA-4CA6-8989-09B66F90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10DC-329C-4AFD-B9CD-87E4F3DF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7636-CD30-442A-927F-B408AC80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AD31-86B2-46F6-A1EB-3AE2C72C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18B5-7311-4432-B574-A4792E86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8047-70DB-4AEF-BF72-36895B33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77D6-2B0C-442F-B006-60ED95FC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43A-8F42-4ED5-9143-98781F7A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D0C4-E372-4BF1-B1E5-D2D7FCAA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9228-8FB2-4BB0-903A-692665E7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A79D-8027-47F5-916A-B92AC3EB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2887-B339-483F-8E40-2C46D640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D4E7-D853-4513-9EAB-7645C063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3DD9-7732-49B7-A220-A0131AD1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DD94-8484-4064-915C-ED143938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897-43CB-4396-916A-CFA6A01A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1B9-53AD-4E25-B187-9FE11AA4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5B4-2F2B-40B4-9DED-A68D615A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84C-E612-486E-BC99-400CDD78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4A1-0C7A-442C-B8FE-9AE55EA0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7288-DA1F-4E36-A6EA-D095536501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</a:t>
            </a:r>
            <a:fld id="{BDF9DC92-0D02-4F98-AB7C-0C74C44F6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9894-740D-4E90-B91F-07287930B851}" type="datetime"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B-</a:t>
            </a:r>
            <a:fld id="{1E6830F3-1552-44D6-95FF-2C677FA92B8E}" type="slidenum"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4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D7AE-830D-43FB-81AE-056CE865981A}" type="datetime">
              <a:rPr b="0" lang="en-US" sz="1200" spc="-1" strike="noStrike">
                <a:solidFill>
                  <a:srgbClr val="1c1c1c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ahoma"/>
              </a:rPr>
              <a:t>B-</a:t>
            </a:r>
            <a:fld id="{404D1218-6FD3-4866-9491-116AEB392D8F}" type="slidenum">
              <a:rPr b="0" lang="en-US" sz="12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EP 501 – Compil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, Automata, Regular Expressions &amp; Scan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 Perk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ter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A496-3EFB-4921-BF7D-B64F71D433C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8DA5779B-31B4-4993-961C-A97CE0CB8D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racters vs Tokens (review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 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// this statement does very litt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(x &gt;= y) y = 4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Str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917000" y="4267080"/>
            <a:ext cx="377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422080" y="4267080"/>
            <a:ext cx="1028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PA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597480" y="4267080"/>
            <a:ext cx="683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(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374000" y="4267080"/>
            <a:ext cx="6516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5174640" y="4267080"/>
            <a:ext cx="680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(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1891800" y="4802040"/>
            <a:ext cx="1049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A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3115440" y="4800600"/>
            <a:ext cx="680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(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3973680" y="4800600"/>
            <a:ext cx="1238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380560" y="4800600"/>
            <a:ext cx="9579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(4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448680" y="4800600"/>
            <a:ext cx="11012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L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B345-E680-4DEB-A056-F8E9787639E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9C22FA09-BB10-41BF-A032-C9F6315C37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Separate the Scanner and Pars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icity &amp;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ner hides details from parser (comments, whitespace, input files,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ser is easier to build; has simpler input stream (toke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ner can use simpler, faster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ut still often consumes a surprising amount of the compiler’s total execution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C427-4D47-4017-ABAD-387B4F33D06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28DD598D-3496-4ED7-A2C3-4E9D065CC8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ke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: we want a distinct token kind (lexical class) for each distinct terminal symbol in the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ine the grammar to find the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tokens may have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 integer constant token will have the actual integer (17, 42, …) as an attribute; identifiers will have a string with the actual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9DFD-334C-4BB3-8347-875186E3FC4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8D1E90F1-60AE-4763-8116-186F0106DB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ical Tokens in Programming 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s &amp; Punct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- * / ( ) { } [ ] ; : :: &lt; &lt;= == = != !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f these is a distinct lexical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 while  for  goto  return  switch  void 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f these is also a distinct lexical class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str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ignle ID lexical class, but parameterized by actual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er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ingle INT lexical class, but parameterized by int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onstant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3247-CE12-45E0-9A5E-27B22F3EBBC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9F28C011-B319-4941-92A9-A5F1572FDE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ciple of Longest Ma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most languages, the scanner should pick the longest possible string to make up the next token if there is a 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maybe != iff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recognized as 5 tok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, != is one token, not two, “iffy” is an ID, not IF followed by ID(f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" name="Group 1"/>
          <p:cNvGrpSpPr/>
          <p:nvPr/>
        </p:nvGrpSpPr>
        <p:grpSpPr>
          <a:xfrm>
            <a:off x="2126160" y="4724280"/>
            <a:ext cx="5595120" cy="368280"/>
            <a:chOff x="2126160" y="4724280"/>
            <a:chExt cx="5595120" cy="368280"/>
          </a:xfrm>
        </p:grpSpPr>
        <p:sp>
          <p:nvSpPr>
            <p:cNvPr id="196" name="Text Box 4"/>
            <p:cNvSpPr/>
            <p:nvPr/>
          </p:nvSpPr>
          <p:spPr>
            <a:xfrm>
              <a:off x="2126160" y="4724280"/>
              <a:ext cx="10584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TUR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Text Box 5"/>
            <p:cNvSpPr/>
            <p:nvPr/>
          </p:nvSpPr>
          <p:spPr>
            <a:xfrm>
              <a:off x="3337920" y="4724280"/>
              <a:ext cx="129168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D(maybe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Text Box 6"/>
            <p:cNvSpPr/>
            <p:nvPr/>
          </p:nvSpPr>
          <p:spPr>
            <a:xfrm>
              <a:off x="4760640" y="4724280"/>
              <a:ext cx="65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Q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5570280" y="4724280"/>
              <a:ext cx="89712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D(iffy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6620040" y="4724280"/>
              <a:ext cx="11012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COL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C04D-D3A1-4471-B703-56433E81134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DCBDAA05-4E9C-42CF-8224-BEF760C065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ormal Languages &amp; Automata Theory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(a review in one slid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phabet: a finite set of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: a finite, possibly empty sequence of symbols from an 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guage: a set, often infinite, of str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pecifications of (possibly infinite)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on – a recognizer; a machine that accepts all strings in a language (and rejects all other strin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mmar – a generator; a system for producing all strings in the language (and no other strin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rticular language may be specified by many different grammars and autom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mmar or automaton specifies only on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AF61-349A-4CB5-9563-725C211F50F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91E31BA3-4B7E-4BD7-962C-D425AB221B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gular Expressions and F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exical grammar (structure) of most programming languages can be specified with regular expre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ometimes a little cheating is nee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s can be recognized by a deterministic finite automat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ither table-driven or built by hand based on lexical gramm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CAF9-1537-4380-A08C-A9D4A9D4D76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10F829EF-0E76-4BDE-B6E5-41B0CA68C7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gular Expres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over some alphabet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programming languages, alphabet is usually ASCII or Uni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regular expression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s the language (set of strings) generat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EC67-8C79-4B3A-9350-158487FEC07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8EF7CC4A-B464-49EF-B05C-098A6EA318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damental 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32"/>
              <p:cNvSpPr txBox="1"/>
              <p:nvPr/>
            </p:nvSpPr>
            <p:spPr>
              <a:xfrm>
                <a:off x="1143000" y="4419720"/>
                <a:ext cx="423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1" name=""/>
          <p:cNvGraphicFramePr/>
          <p:nvPr/>
        </p:nvGraphicFramePr>
        <p:xfrm>
          <a:off x="1066680" y="2246400"/>
          <a:ext cx="7275600" cy="2859120"/>
        </p:xfrm>
        <a:graphic>
          <a:graphicData uri="http://schemas.openxmlformats.org/drawingml/2006/table">
            <a:tbl>
              <a:tblPr/>
              <a:tblGrid>
                <a:gridCol w="874800"/>
                <a:gridCol w="1447920"/>
                <a:gridCol w="495288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 a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ton set, for each a in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ε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pty st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pty 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3EED-7B79-4063-9B8E-365D1F8C5BC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F70221AF-C697-4427-B323-087046A1F8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rations on 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322360"/>
            <a:ext cx="77724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: * (highest), concatenation, | (lowe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entheses can be used to group REs a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66680" y="2133720"/>
          <a:ext cx="7772400" cy="2886120"/>
        </p:xfrm>
        <a:graphic>
          <a:graphicData uri="http://schemas.openxmlformats.org/drawingml/2006/table">
            <a:tbl>
              <a:tblPr/>
              <a:tblGrid>
                <a:gridCol w="762120"/>
                <a:gridCol w="2057400"/>
                <a:gridCol w="4952880"/>
              </a:tblGrid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(r)L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ate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|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(r)    L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ation (un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(r)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or more occurrences (Kleene closu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8" name="Object 26"/>
              <p:cNvSpPr txBox="1"/>
              <p:nvPr/>
            </p:nvSpPr>
            <p:spPr>
              <a:xfrm>
                <a:off x="2514600" y="3657600"/>
                <a:ext cx="4237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0E33-1153-4518-821B-9B587FF1700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65952883-1F9A-49F8-98EF-FE27351466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concepts of formal grammars (revie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xical specification of 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finite automata to recognize regular expre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nners and Tok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BA08-3431-485F-BB32-EE14CFD5834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6A8B0228-00B2-40ED-B346-4333A5A27A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brevi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asic operations generate all possible regular expressions, but there are common abbreviations used for convenience.  Typical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14400" y="3276720"/>
          <a:ext cx="7315200" cy="2971800"/>
        </p:xfrm>
        <a:graphic>
          <a:graphicData uri="http://schemas.openxmlformats.org/drawingml/2006/table">
            <a:tbl>
              <a:tblPr/>
              <a:tblGrid>
                <a:gridCol w="1219320"/>
                <a:gridCol w="1981080"/>
                <a:gridCol w="411480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b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rr*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or more occurr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r |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or 1 occur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[a-z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a|b|…|z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character in given 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[abxyz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a|b|x|y|z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of the given charact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CA1C-025E-4895-A2FE-D22C74B3BC5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00F24E01-6F8A-495B-B51D-E510D54574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182600" y="2017800"/>
          <a:ext cx="7772400" cy="3290760"/>
        </p:xfrm>
        <a:graphic>
          <a:graphicData uri="http://schemas.openxmlformats.org/drawingml/2006/table">
            <a:tbl>
              <a:tblPr/>
              <a:tblGrid>
                <a:gridCol w="2551320"/>
                <a:gridCol w="522108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+ charac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! charac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= charac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!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character sequ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character sequ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yzz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character sequ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1070-84C4-4885-A2AF-750B24DD4BD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A7ED32EA-872F-4EFE-93D9-A59697C299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762120" y="2170080"/>
          <a:ext cx="8076960" cy="4070520"/>
        </p:xfrm>
        <a:graphic>
          <a:graphicData uri="http://schemas.openxmlformats.org/drawingml/2006/table">
            <a:tbl>
              <a:tblPr/>
              <a:tblGrid>
                <a:gridCol w="3230280"/>
                <a:gridCol w="484668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[abc]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[abc]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[0-9]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[1-9][0-9]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[a-zA-Z][a-zA-Z0-9_]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05F5-727A-466B-949F-2B2321B2D0E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25368049-9EB0-4A70-8BF3-95788371C6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brevi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systems allow abbreviations to make writing and reading definitions or specifications eas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::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ion: abbreviations may not be circular (recursive) either directly or indirectly (else would be non-regul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3225-3DBF-4241-90A8-1907943333F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12F3378D-B4C9-42BC-A8B8-08617BE343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sible syntax for numeric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igi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:= [0-9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igi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ig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um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igi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(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igi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 [eE] (+ | -)? digits )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9C17-9C4D-4A3C-BD4F-897E14F44D9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D2521021-61F1-49BD-A947-856E1E8602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gnizing 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automata can be used to recognize strings generated by regular expre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uild by hand or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totally straightforward, but can be done syste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ls like Lex, Flex, Jlex et seq do this automatically, given a set of 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1C18-2DBA-4EC5-AF83-B207845D828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A2322BEF-3CF0-4387-9543-049AFEF42A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te State Automat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finite set of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 marked as initial 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 or more marked as final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 sometimes labeled or numb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et of transitions from state to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labeled with symbol from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or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e by reading input symbols (usually characte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ition can be taken if labeled with current symb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transition can be taken at any 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 when final state reached &amp; no more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anner uses a FSA as a subroutine – accept longest match each time called, even if more input; i.e., run the FSA from the current location in the input each time the scanner is call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ject if no transition possible, or no more input and not in final state (DF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2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E897-ADE6-4B2A-AE1B-A29FED0C9B7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5B16041F-9955-4D11-8529-9AA68AA818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FSA for “cat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Oval 4"/>
          <p:cNvSpPr/>
          <p:nvPr/>
        </p:nvSpPr>
        <p:spPr>
          <a:xfrm>
            <a:off x="1905120" y="28954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Oval 6"/>
          <p:cNvSpPr/>
          <p:nvPr/>
        </p:nvSpPr>
        <p:spPr>
          <a:xfrm>
            <a:off x="3352680" y="28954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Oval 7"/>
          <p:cNvSpPr/>
          <p:nvPr/>
        </p:nvSpPr>
        <p:spPr>
          <a:xfrm>
            <a:off x="4800600" y="28954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2" name="Group 10"/>
          <p:cNvGrpSpPr/>
          <p:nvPr/>
        </p:nvGrpSpPr>
        <p:grpSpPr>
          <a:xfrm>
            <a:off x="6248520" y="2895480"/>
            <a:ext cx="685800" cy="685800"/>
            <a:chOff x="6248520" y="2895480"/>
            <a:chExt cx="685800" cy="685800"/>
          </a:xfrm>
        </p:grpSpPr>
        <p:sp>
          <p:nvSpPr>
            <p:cNvPr id="273" name="Oval 8"/>
            <p:cNvSpPr/>
            <p:nvPr/>
          </p:nvSpPr>
          <p:spPr>
            <a:xfrm>
              <a:off x="6248520" y="289548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Oval 9"/>
            <p:cNvSpPr/>
            <p:nvPr/>
          </p:nvSpPr>
          <p:spPr>
            <a:xfrm>
              <a:off x="6324480" y="29718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Line 11"/>
          <p:cNvSpPr/>
          <p:nvPr/>
        </p:nvSpPr>
        <p:spPr>
          <a:xfrm>
            <a:off x="2590920" y="32767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12"/>
          <p:cNvSpPr/>
          <p:nvPr/>
        </p:nvSpPr>
        <p:spPr>
          <a:xfrm>
            <a:off x="4038480" y="3276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13"/>
          <p:cNvSpPr/>
          <p:nvPr/>
        </p:nvSpPr>
        <p:spPr>
          <a:xfrm>
            <a:off x="5486400" y="3276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1143000" y="3276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204800" y="2819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5637600" y="281952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20"/>
          <p:cNvSpPr/>
          <p:nvPr/>
        </p:nvSpPr>
        <p:spPr>
          <a:xfrm>
            <a:off x="2818800" y="28195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0B22-D6FF-43A9-99E2-4DC960B1EA6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2F0DD84A-D99A-4FCB-97DE-99E58CEC00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A vs NF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istic Finite Automata (DF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hoice of which transition to take under any cond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deterministic Finite Automata (NF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ice of transition in at least one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f some way to reach final state on given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ject if no possible way to final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9CC1-B68C-404C-AD04-7629CA0643F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FC4D7BF2-1FAC-44FA-912D-F5E9023A35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 in Scann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nt DFA for speed (no backtrack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ion from regular expressions to NFA is ea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well-defined procedure for converting a NFA to an equivalent DF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C93B-772B-4DC9-85B2-8DDD701AD22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D1CE1031-95D9-49E2-A0BE-3A84A396D5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ming Language Spe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ce the 1960s, the syntax of every significant programming language has been specified by a formal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done in 1959 with BNF (Backus-Naur Form or Backus-Normal Form) used to specify the syntax of ALGOL 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rrowed from the linguistics community (Chomsk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3FD9-BBD0-4252-B0FB-5862A21613B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1F6F79B1-7707-4B6D-940E-A405F8EC6D6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RE to NFA: base c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Oval 4"/>
          <p:cNvSpPr/>
          <p:nvPr/>
        </p:nvSpPr>
        <p:spPr>
          <a:xfrm>
            <a:off x="3581280" y="28954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Group 5"/>
          <p:cNvGrpSpPr/>
          <p:nvPr/>
        </p:nvGrpSpPr>
        <p:grpSpPr>
          <a:xfrm>
            <a:off x="5029200" y="2895480"/>
            <a:ext cx="685800" cy="685800"/>
            <a:chOff x="5029200" y="2895480"/>
            <a:chExt cx="685800" cy="685800"/>
          </a:xfrm>
        </p:grpSpPr>
        <p:sp>
          <p:nvSpPr>
            <p:cNvPr id="298" name="Oval 6"/>
            <p:cNvSpPr/>
            <p:nvPr/>
          </p:nvSpPr>
          <p:spPr>
            <a:xfrm>
              <a:off x="5029200" y="289548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Oval 7"/>
            <p:cNvSpPr/>
            <p:nvPr/>
          </p:nvSpPr>
          <p:spPr>
            <a:xfrm>
              <a:off x="5105160" y="29718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0" name="Line 8"/>
          <p:cNvSpPr/>
          <p:nvPr/>
        </p:nvSpPr>
        <p:spPr>
          <a:xfrm>
            <a:off x="2819520" y="32767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9"/>
          <p:cNvSpPr/>
          <p:nvPr/>
        </p:nvSpPr>
        <p:spPr>
          <a:xfrm>
            <a:off x="4267080" y="3276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4417560" y="2819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Oval 12"/>
          <p:cNvSpPr/>
          <p:nvPr/>
        </p:nvSpPr>
        <p:spPr>
          <a:xfrm>
            <a:off x="3581280" y="419112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4" name="Group 13"/>
          <p:cNvGrpSpPr/>
          <p:nvPr/>
        </p:nvGrpSpPr>
        <p:grpSpPr>
          <a:xfrm>
            <a:off x="5029200" y="4191120"/>
            <a:ext cx="685800" cy="685800"/>
            <a:chOff x="5029200" y="4191120"/>
            <a:chExt cx="685800" cy="685800"/>
          </a:xfrm>
        </p:grpSpPr>
        <p:sp>
          <p:nvSpPr>
            <p:cNvPr id="305" name="Oval 14"/>
            <p:cNvSpPr/>
            <p:nvPr/>
          </p:nvSpPr>
          <p:spPr>
            <a:xfrm>
              <a:off x="5029200" y="41911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Oval 15"/>
            <p:cNvSpPr/>
            <p:nvPr/>
          </p:nvSpPr>
          <p:spPr>
            <a:xfrm>
              <a:off x="5105160" y="426744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7" name="Line 16"/>
          <p:cNvSpPr/>
          <p:nvPr/>
        </p:nvSpPr>
        <p:spPr>
          <a:xfrm>
            <a:off x="28195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426708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4421880" y="411480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D55D-F5E8-4AB2-979C-255A638E8EA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A73249AC-5C75-4979-AF4B-F121777FBD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2057400" y="28954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3505320" y="2895480"/>
            <a:ext cx="685800" cy="685800"/>
            <a:chOff x="3505320" y="2895480"/>
            <a:chExt cx="685800" cy="685800"/>
          </a:xfrm>
        </p:grpSpPr>
        <p:sp>
          <p:nvSpPr>
            <p:cNvPr id="316" name="Oval 6"/>
            <p:cNvSpPr/>
            <p:nvPr/>
          </p:nvSpPr>
          <p:spPr>
            <a:xfrm>
              <a:off x="3505320" y="289548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Oval 7"/>
            <p:cNvSpPr/>
            <p:nvPr/>
          </p:nvSpPr>
          <p:spPr>
            <a:xfrm>
              <a:off x="3581280" y="29718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8" name="Line 8"/>
          <p:cNvSpPr/>
          <p:nvPr/>
        </p:nvSpPr>
        <p:spPr>
          <a:xfrm>
            <a:off x="1295280" y="3276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2895480" y="2819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Oval 12"/>
          <p:cNvSpPr/>
          <p:nvPr/>
        </p:nvSpPr>
        <p:spPr>
          <a:xfrm>
            <a:off x="1752480" y="2590920"/>
            <a:ext cx="274320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Oval 13"/>
          <p:cNvSpPr/>
          <p:nvPr/>
        </p:nvSpPr>
        <p:spPr>
          <a:xfrm>
            <a:off x="5257800" y="28954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2" name="Group 14"/>
          <p:cNvGrpSpPr/>
          <p:nvPr/>
        </p:nvGrpSpPr>
        <p:grpSpPr>
          <a:xfrm>
            <a:off x="6705720" y="2895480"/>
            <a:ext cx="685800" cy="685800"/>
            <a:chOff x="6705720" y="2895480"/>
            <a:chExt cx="685800" cy="685800"/>
          </a:xfrm>
        </p:grpSpPr>
        <p:sp>
          <p:nvSpPr>
            <p:cNvPr id="323" name="Oval 15"/>
            <p:cNvSpPr/>
            <p:nvPr/>
          </p:nvSpPr>
          <p:spPr>
            <a:xfrm>
              <a:off x="6705720" y="289548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Oval 16"/>
            <p:cNvSpPr/>
            <p:nvPr/>
          </p:nvSpPr>
          <p:spPr>
            <a:xfrm>
              <a:off x="6781680" y="29718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5" name="Line 17"/>
          <p:cNvSpPr/>
          <p:nvPr/>
        </p:nvSpPr>
        <p:spPr>
          <a:xfrm>
            <a:off x="449568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6095880" y="2819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Oval 19"/>
          <p:cNvSpPr/>
          <p:nvPr/>
        </p:nvSpPr>
        <p:spPr>
          <a:xfrm>
            <a:off x="4952880" y="2590920"/>
            <a:ext cx="274320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4572000" y="2819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4B3A-7946-42EB-9A66-E1816C566A4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0A89FB3B-820D-488C-A7B5-F0F88E73BF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r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|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 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Oval 3"/>
          <p:cNvSpPr/>
          <p:nvPr/>
        </p:nvSpPr>
        <p:spPr>
          <a:xfrm>
            <a:off x="3200400" y="26668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4" name="Group 4"/>
          <p:cNvGrpSpPr/>
          <p:nvPr/>
        </p:nvGrpSpPr>
        <p:grpSpPr>
          <a:xfrm>
            <a:off x="4648320" y="2666880"/>
            <a:ext cx="685800" cy="685800"/>
            <a:chOff x="4648320" y="2666880"/>
            <a:chExt cx="685800" cy="685800"/>
          </a:xfrm>
        </p:grpSpPr>
        <p:sp>
          <p:nvSpPr>
            <p:cNvPr id="335" name="Oval 5"/>
            <p:cNvSpPr/>
            <p:nvPr/>
          </p:nvSpPr>
          <p:spPr>
            <a:xfrm>
              <a:off x="4648320" y="266688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Oval 6"/>
            <p:cNvSpPr/>
            <p:nvPr/>
          </p:nvSpPr>
          <p:spPr>
            <a:xfrm>
              <a:off x="4724280" y="27432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7" name="Text Box 8"/>
          <p:cNvSpPr/>
          <p:nvPr/>
        </p:nvSpPr>
        <p:spPr>
          <a:xfrm>
            <a:off x="4038480" y="2590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2895480" y="2362320"/>
            <a:ext cx="274320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3276720" y="457200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0" name="Group 11"/>
          <p:cNvGrpSpPr/>
          <p:nvPr/>
        </p:nvGrpSpPr>
        <p:grpSpPr>
          <a:xfrm>
            <a:off x="4724280" y="4572000"/>
            <a:ext cx="685800" cy="685800"/>
            <a:chOff x="4724280" y="4572000"/>
            <a:chExt cx="685800" cy="685800"/>
          </a:xfrm>
        </p:grpSpPr>
        <p:sp>
          <p:nvSpPr>
            <p:cNvPr id="341" name="Oval 12"/>
            <p:cNvSpPr/>
            <p:nvPr/>
          </p:nvSpPr>
          <p:spPr>
            <a:xfrm>
              <a:off x="4724280" y="457200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Oval 13"/>
            <p:cNvSpPr/>
            <p:nvPr/>
          </p:nvSpPr>
          <p:spPr>
            <a:xfrm>
              <a:off x="4800240" y="464832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3" name="Text Box 15"/>
          <p:cNvSpPr/>
          <p:nvPr/>
        </p:nvSpPr>
        <p:spPr>
          <a:xfrm>
            <a:off x="4114800" y="4495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Oval 16"/>
          <p:cNvSpPr/>
          <p:nvPr/>
        </p:nvSpPr>
        <p:spPr>
          <a:xfrm>
            <a:off x="2971800" y="4267080"/>
            <a:ext cx="274320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2286000" y="4495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6172200" y="4495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7" name="Group 19"/>
          <p:cNvGrpSpPr/>
          <p:nvPr/>
        </p:nvGrpSpPr>
        <p:grpSpPr>
          <a:xfrm>
            <a:off x="6553080" y="3657600"/>
            <a:ext cx="685800" cy="685800"/>
            <a:chOff x="6553080" y="3657600"/>
            <a:chExt cx="685800" cy="685800"/>
          </a:xfrm>
        </p:grpSpPr>
        <p:sp>
          <p:nvSpPr>
            <p:cNvPr id="348" name="Oval 20"/>
            <p:cNvSpPr/>
            <p:nvPr/>
          </p:nvSpPr>
          <p:spPr>
            <a:xfrm>
              <a:off x="6553080" y="365760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>
              <a:off x="6629040" y="373392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0" name="Oval 22"/>
          <p:cNvSpPr/>
          <p:nvPr/>
        </p:nvSpPr>
        <p:spPr>
          <a:xfrm>
            <a:off x="1371600" y="367992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23"/>
          <p:cNvSpPr/>
          <p:nvPr/>
        </p:nvSpPr>
        <p:spPr>
          <a:xfrm flipV="1">
            <a:off x="2057400" y="31240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24"/>
          <p:cNvSpPr/>
          <p:nvPr/>
        </p:nvSpPr>
        <p:spPr>
          <a:xfrm>
            <a:off x="2057400" y="40384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25"/>
          <p:cNvSpPr/>
          <p:nvPr/>
        </p:nvSpPr>
        <p:spPr>
          <a:xfrm flipV="1">
            <a:off x="5715000" y="40384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Line 26"/>
          <p:cNvSpPr/>
          <p:nvPr/>
        </p:nvSpPr>
        <p:spPr>
          <a:xfrm>
            <a:off x="5638680" y="31240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286000" y="3214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60958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29"/>
          <p:cNvSpPr/>
          <p:nvPr/>
        </p:nvSpPr>
        <p:spPr>
          <a:xfrm>
            <a:off x="60948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5AB5-0FC9-4C7B-876B-D261830864E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4AA33266-6F54-4E08-B5F0-38E31F2C86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r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*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Oval 3"/>
          <p:cNvSpPr/>
          <p:nvPr/>
        </p:nvSpPr>
        <p:spPr>
          <a:xfrm>
            <a:off x="3048120" y="26668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495680" y="2666880"/>
            <a:ext cx="685800" cy="685800"/>
            <a:chOff x="4495680" y="2666880"/>
            <a:chExt cx="685800" cy="685800"/>
          </a:xfrm>
        </p:grpSpPr>
        <p:sp>
          <p:nvSpPr>
            <p:cNvPr id="364" name="Oval 5"/>
            <p:cNvSpPr/>
            <p:nvPr/>
          </p:nvSpPr>
          <p:spPr>
            <a:xfrm>
              <a:off x="4495680" y="266688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Oval 6"/>
            <p:cNvSpPr/>
            <p:nvPr/>
          </p:nvSpPr>
          <p:spPr>
            <a:xfrm>
              <a:off x="4571640" y="27432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6" name="Text Box 7"/>
          <p:cNvSpPr/>
          <p:nvPr/>
        </p:nvSpPr>
        <p:spPr>
          <a:xfrm>
            <a:off x="3886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Oval 8"/>
          <p:cNvSpPr/>
          <p:nvPr/>
        </p:nvSpPr>
        <p:spPr>
          <a:xfrm>
            <a:off x="2743200" y="2362320"/>
            <a:ext cx="274320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5410080" y="4724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9" name="Group 17"/>
          <p:cNvGrpSpPr/>
          <p:nvPr/>
        </p:nvGrpSpPr>
        <p:grpSpPr>
          <a:xfrm>
            <a:off x="6477120" y="4648320"/>
            <a:ext cx="685800" cy="685800"/>
            <a:chOff x="6477120" y="4648320"/>
            <a:chExt cx="685800" cy="685800"/>
          </a:xfrm>
        </p:grpSpPr>
        <p:sp>
          <p:nvSpPr>
            <p:cNvPr id="370" name="Oval 18"/>
            <p:cNvSpPr/>
            <p:nvPr/>
          </p:nvSpPr>
          <p:spPr>
            <a:xfrm>
              <a:off x="6477120" y="46483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Oval 19"/>
            <p:cNvSpPr/>
            <p:nvPr/>
          </p:nvSpPr>
          <p:spPr>
            <a:xfrm>
              <a:off x="6553080" y="472464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2" name="Oval 20"/>
          <p:cNvSpPr/>
          <p:nvPr/>
        </p:nvSpPr>
        <p:spPr>
          <a:xfrm>
            <a:off x="3809880" y="464832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21"/>
          <p:cNvSpPr/>
          <p:nvPr/>
        </p:nvSpPr>
        <p:spPr>
          <a:xfrm flipH="1" flipV="1">
            <a:off x="2819160" y="3276360"/>
            <a:ext cx="10666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24"/>
          <p:cNvSpPr/>
          <p:nvPr/>
        </p:nvSpPr>
        <p:spPr>
          <a:xfrm flipH="1">
            <a:off x="4419360" y="3276720"/>
            <a:ext cx="9903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25"/>
          <p:cNvSpPr/>
          <p:nvPr/>
        </p:nvSpPr>
        <p:spPr>
          <a:xfrm>
            <a:off x="2971800" y="38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26"/>
          <p:cNvSpPr/>
          <p:nvPr/>
        </p:nvSpPr>
        <p:spPr>
          <a:xfrm>
            <a:off x="4952880" y="3809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27"/>
          <p:cNvSpPr/>
          <p:nvPr/>
        </p:nvSpPr>
        <p:spPr>
          <a:xfrm>
            <a:off x="3048120" y="5029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8"/>
          <p:cNvSpPr/>
          <p:nvPr/>
        </p:nvSpPr>
        <p:spPr>
          <a:xfrm>
            <a:off x="4495680" y="50292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A529-BE84-47BE-A836-A979D367E2A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9ED759D8-DCC7-49F1-8C78-538B71896D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NFA to DF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a DFA from the NFA, where each DFA state represents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NFA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id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ate of the DFA after reading some input is the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states the NFA could have reached after reading the same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: example of a fixed-point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FA h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s, DFA has at most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&gt; DFA is finite, can construct in finite # ste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ing DFA may have more states than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books for construction and minimization detai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22FC-CDC2-4D3D-A3F1-03DF706F803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470061E8-2FCA-4B0C-A087-4F53DBE5A0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DFA for hand-written scan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: show a hand-written DFA for some typical programming language constru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use to construct hand-written scan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ting: Scanner is called whenever the parser needs a new to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nner stores current position in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ing there, use a DFA to recognize the longest possible input sequence that makes up a token and return tha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0933-F079-453B-B120-6C6519F8A0C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D15F6A14-3F8D-42CA-BBB4-CC950BA591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ner DFA Example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Oval 4"/>
          <p:cNvSpPr/>
          <p:nvPr/>
        </p:nvSpPr>
        <p:spPr>
          <a:xfrm>
            <a:off x="1905120" y="236232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1143000" y="2743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Freeform 11"/>
          <p:cNvSpPr/>
          <p:nvPr/>
        </p:nvSpPr>
        <p:spPr>
          <a:xfrm>
            <a:off x="2514600" y="21337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696" h="768">
                <a:moveTo>
                  <a:pt x="48" y="576"/>
                </a:moveTo>
                <a:cubicBezTo>
                  <a:pt x="188" y="672"/>
                  <a:pt x="328" y="768"/>
                  <a:pt x="432" y="720"/>
                </a:cubicBezTo>
                <a:cubicBezTo>
                  <a:pt x="536" y="672"/>
                  <a:pt x="696" y="408"/>
                  <a:pt x="672" y="288"/>
                </a:cubicBezTo>
                <a:cubicBezTo>
                  <a:pt x="648" y="168"/>
                  <a:pt x="400" y="0"/>
                  <a:pt x="288" y="0"/>
                </a:cubicBezTo>
                <a:cubicBezTo>
                  <a:pt x="176" y="0"/>
                  <a:pt x="48" y="240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5162040" y="4092480"/>
            <a:ext cx="144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ept LPA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Line 15"/>
          <p:cNvSpPr/>
          <p:nvPr/>
        </p:nvSpPr>
        <p:spPr>
          <a:xfrm>
            <a:off x="2209680" y="30481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2209680" y="42451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3119040" y="3895560"/>
            <a:ext cx="2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0" name="Group 22"/>
          <p:cNvGrpSpPr/>
          <p:nvPr/>
        </p:nvGrpSpPr>
        <p:grpSpPr>
          <a:xfrm>
            <a:off x="4419720" y="3940200"/>
            <a:ext cx="685800" cy="685800"/>
            <a:chOff x="4419720" y="3940200"/>
            <a:chExt cx="685800" cy="685800"/>
          </a:xfrm>
        </p:grpSpPr>
        <p:sp>
          <p:nvSpPr>
            <p:cNvPr id="401" name="Oval 19"/>
            <p:cNvSpPr/>
            <p:nvPr/>
          </p:nvSpPr>
          <p:spPr>
            <a:xfrm>
              <a:off x="4419720" y="394020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Oval 20"/>
            <p:cNvSpPr/>
            <p:nvPr/>
          </p:nvSpPr>
          <p:spPr>
            <a:xfrm>
              <a:off x="4495680" y="401616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3" name="Text Box 23"/>
          <p:cNvSpPr/>
          <p:nvPr/>
        </p:nvSpPr>
        <p:spPr>
          <a:xfrm>
            <a:off x="5164200" y="486576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ept RPA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24"/>
          <p:cNvSpPr/>
          <p:nvPr/>
        </p:nvSpPr>
        <p:spPr>
          <a:xfrm>
            <a:off x="2209680" y="501804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25"/>
          <p:cNvSpPr/>
          <p:nvPr/>
        </p:nvSpPr>
        <p:spPr>
          <a:xfrm>
            <a:off x="3119040" y="4668840"/>
            <a:ext cx="2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6" name="Group 26"/>
          <p:cNvGrpSpPr/>
          <p:nvPr/>
        </p:nvGrpSpPr>
        <p:grpSpPr>
          <a:xfrm>
            <a:off x="4419720" y="4713120"/>
            <a:ext cx="685800" cy="685800"/>
            <a:chOff x="4419720" y="4713120"/>
            <a:chExt cx="685800" cy="685800"/>
          </a:xfrm>
        </p:grpSpPr>
        <p:sp>
          <p:nvSpPr>
            <p:cNvPr id="407" name="Oval 27"/>
            <p:cNvSpPr/>
            <p:nvPr/>
          </p:nvSpPr>
          <p:spPr>
            <a:xfrm>
              <a:off x="4419720" y="47131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Oval 28"/>
            <p:cNvSpPr/>
            <p:nvPr/>
          </p:nvSpPr>
          <p:spPr>
            <a:xfrm>
              <a:off x="4495680" y="47890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9" name="Text Box 29"/>
          <p:cNvSpPr/>
          <p:nvPr/>
        </p:nvSpPr>
        <p:spPr>
          <a:xfrm>
            <a:off x="3157920" y="1828800"/>
            <a:ext cx="129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hitespa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 com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5154480" y="563868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ept SCOL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Line 31"/>
          <p:cNvSpPr/>
          <p:nvPr/>
        </p:nvSpPr>
        <p:spPr>
          <a:xfrm>
            <a:off x="2209680" y="5791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Text Box 32"/>
          <p:cNvSpPr/>
          <p:nvPr/>
        </p:nvSpPr>
        <p:spPr>
          <a:xfrm>
            <a:off x="3120120" y="54421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3" name="Group 33"/>
          <p:cNvGrpSpPr/>
          <p:nvPr/>
        </p:nvGrpSpPr>
        <p:grpSpPr>
          <a:xfrm>
            <a:off x="4419720" y="5486400"/>
            <a:ext cx="685800" cy="685800"/>
            <a:chOff x="4419720" y="5486400"/>
            <a:chExt cx="685800" cy="685800"/>
          </a:xfrm>
        </p:grpSpPr>
        <p:sp>
          <p:nvSpPr>
            <p:cNvPr id="414" name="Oval 34"/>
            <p:cNvSpPr/>
            <p:nvPr/>
          </p:nvSpPr>
          <p:spPr>
            <a:xfrm>
              <a:off x="4419720" y="548640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Oval 35"/>
            <p:cNvSpPr/>
            <p:nvPr/>
          </p:nvSpPr>
          <p:spPr>
            <a:xfrm>
              <a:off x="4495680" y="556236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6" name="Text Box 36"/>
          <p:cNvSpPr/>
          <p:nvPr/>
        </p:nvSpPr>
        <p:spPr>
          <a:xfrm>
            <a:off x="5174280" y="327672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ept EO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Line 37"/>
          <p:cNvSpPr/>
          <p:nvPr/>
        </p:nvSpPr>
        <p:spPr>
          <a:xfrm>
            <a:off x="2209680" y="34290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Text Box 38"/>
          <p:cNvSpPr/>
          <p:nvPr/>
        </p:nvSpPr>
        <p:spPr>
          <a:xfrm>
            <a:off x="2547720" y="307980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d of in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9" name="Group 39"/>
          <p:cNvGrpSpPr/>
          <p:nvPr/>
        </p:nvGrpSpPr>
        <p:grpSpPr>
          <a:xfrm>
            <a:off x="4419720" y="3124080"/>
            <a:ext cx="685800" cy="685800"/>
            <a:chOff x="4419720" y="3124080"/>
            <a:chExt cx="685800" cy="685800"/>
          </a:xfrm>
        </p:grpSpPr>
        <p:sp>
          <p:nvSpPr>
            <p:cNvPr id="420" name="Oval 40"/>
            <p:cNvSpPr/>
            <p:nvPr/>
          </p:nvSpPr>
          <p:spPr>
            <a:xfrm>
              <a:off x="4419720" y="312408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Oval 41"/>
            <p:cNvSpPr/>
            <p:nvPr/>
          </p:nvSpPr>
          <p:spPr>
            <a:xfrm>
              <a:off x="4495680" y="320004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6E49-9632-4036-80C6-B5C41706763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81410F84-31C3-4F8D-9E43-FE6C63FA54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ner DFA Exampl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5307840" y="274320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ept NEQ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1143000" y="22860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Line 6"/>
          <p:cNvSpPr/>
          <p:nvPr/>
        </p:nvSpPr>
        <p:spPr>
          <a:xfrm>
            <a:off x="114300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806480" y="25462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" name="Group 8"/>
          <p:cNvGrpSpPr/>
          <p:nvPr/>
        </p:nvGrpSpPr>
        <p:grpSpPr>
          <a:xfrm>
            <a:off x="4572000" y="2514600"/>
            <a:ext cx="685800" cy="685800"/>
            <a:chOff x="4572000" y="2514600"/>
            <a:chExt cx="685800" cy="685800"/>
          </a:xfrm>
        </p:grpSpPr>
        <p:sp>
          <p:nvSpPr>
            <p:cNvPr id="431" name="Oval 9"/>
            <p:cNvSpPr/>
            <p:nvPr/>
          </p:nvSpPr>
          <p:spPr>
            <a:xfrm>
              <a:off x="4572000" y="251460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Oval 10"/>
            <p:cNvSpPr/>
            <p:nvPr/>
          </p:nvSpPr>
          <p:spPr>
            <a:xfrm>
              <a:off x="4647960" y="259056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3" name="Text Box 11"/>
          <p:cNvSpPr/>
          <p:nvPr/>
        </p:nvSpPr>
        <p:spPr>
          <a:xfrm>
            <a:off x="5320440" y="358128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ept NO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4" name="Group 14"/>
          <p:cNvGrpSpPr/>
          <p:nvPr/>
        </p:nvGrpSpPr>
        <p:grpSpPr>
          <a:xfrm>
            <a:off x="4572000" y="3429000"/>
            <a:ext cx="685800" cy="685800"/>
            <a:chOff x="4572000" y="3429000"/>
            <a:chExt cx="685800" cy="685800"/>
          </a:xfrm>
        </p:grpSpPr>
        <p:sp>
          <p:nvSpPr>
            <p:cNvPr id="435" name="Oval 15"/>
            <p:cNvSpPr/>
            <p:nvPr/>
          </p:nvSpPr>
          <p:spPr>
            <a:xfrm>
              <a:off x="4572000" y="342900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Oval 16"/>
            <p:cNvSpPr/>
            <p:nvPr/>
          </p:nvSpPr>
          <p:spPr>
            <a:xfrm>
              <a:off x="4647960" y="350496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7" name="Oval 23"/>
          <p:cNvSpPr/>
          <p:nvPr/>
        </p:nvSpPr>
        <p:spPr>
          <a:xfrm>
            <a:off x="2514600" y="251460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Line 24"/>
          <p:cNvSpPr/>
          <p:nvPr/>
        </p:nvSpPr>
        <p:spPr>
          <a:xfrm>
            <a:off x="281952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25"/>
          <p:cNvSpPr/>
          <p:nvPr/>
        </p:nvSpPr>
        <p:spPr>
          <a:xfrm>
            <a:off x="3677040" y="2536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Line 26"/>
          <p:cNvSpPr/>
          <p:nvPr/>
        </p:nvSpPr>
        <p:spPr>
          <a:xfrm>
            <a:off x="281952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Line 27"/>
          <p:cNvSpPr/>
          <p:nvPr/>
        </p:nvSpPr>
        <p:spPr>
          <a:xfrm>
            <a:off x="320040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Text Box 28"/>
          <p:cNvSpPr/>
          <p:nvPr/>
        </p:nvSpPr>
        <p:spPr>
          <a:xfrm>
            <a:off x="3447360" y="3429000"/>
            <a:ext cx="9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ther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9"/>
          <p:cNvSpPr/>
          <p:nvPr/>
        </p:nvSpPr>
        <p:spPr>
          <a:xfrm>
            <a:off x="5313960" y="464832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ept LEQ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30"/>
          <p:cNvSpPr/>
          <p:nvPr/>
        </p:nvSpPr>
        <p:spPr>
          <a:xfrm>
            <a:off x="1143000" y="48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31"/>
          <p:cNvSpPr/>
          <p:nvPr/>
        </p:nvSpPr>
        <p:spPr>
          <a:xfrm>
            <a:off x="1816560" y="4451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6" name="Group 32"/>
          <p:cNvGrpSpPr/>
          <p:nvPr/>
        </p:nvGrpSpPr>
        <p:grpSpPr>
          <a:xfrm>
            <a:off x="4572000" y="4419720"/>
            <a:ext cx="685800" cy="685800"/>
            <a:chOff x="4572000" y="4419720"/>
            <a:chExt cx="685800" cy="685800"/>
          </a:xfrm>
        </p:grpSpPr>
        <p:sp>
          <p:nvSpPr>
            <p:cNvPr id="447" name="Oval 33"/>
            <p:cNvSpPr/>
            <p:nvPr/>
          </p:nvSpPr>
          <p:spPr>
            <a:xfrm>
              <a:off x="4572000" y="44197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Oval 34"/>
            <p:cNvSpPr/>
            <p:nvPr/>
          </p:nvSpPr>
          <p:spPr>
            <a:xfrm>
              <a:off x="4647960" y="44956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9" name="Text Box 35"/>
          <p:cNvSpPr/>
          <p:nvPr/>
        </p:nvSpPr>
        <p:spPr>
          <a:xfrm>
            <a:off x="5332680" y="54864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ept LE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0" name="Group 36"/>
          <p:cNvGrpSpPr/>
          <p:nvPr/>
        </p:nvGrpSpPr>
        <p:grpSpPr>
          <a:xfrm>
            <a:off x="4572000" y="5334120"/>
            <a:ext cx="685800" cy="685800"/>
            <a:chOff x="4572000" y="5334120"/>
            <a:chExt cx="685800" cy="685800"/>
          </a:xfrm>
        </p:grpSpPr>
        <p:sp>
          <p:nvSpPr>
            <p:cNvPr id="451" name="Oval 37"/>
            <p:cNvSpPr/>
            <p:nvPr/>
          </p:nvSpPr>
          <p:spPr>
            <a:xfrm>
              <a:off x="4572000" y="53341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Oval 38"/>
            <p:cNvSpPr/>
            <p:nvPr/>
          </p:nvSpPr>
          <p:spPr>
            <a:xfrm>
              <a:off x="4647960" y="54100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3" name="Oval 39"/>
          <p:cNvSpPr/>
          <p:nvPr/>
        </p:nvSpPr>
        <p:spPr>
          <a:xfrm>
            <a:off x="2514600" y="441972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40"/>
          <p:cNvSpPr/>
          <p:nvPr/>
        </p:nvSpPr>
        <p:spPr>
          <a:xfrm>
            <a:off x="2819520" y="5715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41"/>
          <p:cNvSpPr/>
          <p:nvPr/>
        </p:nvSpPr>
        <p:spPr>
          <a:xfrm>
            <a:off x="3677040" y="4441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Line 42"/>
          <p:cNvSpPr/>
          <p:nvPr/>
        </p:nvSpPr>
        <p:spPr>
          <a:xfrm>
            <a:off x="2819520" y="5105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43"/>
          <p:cNvSpPr/>
          <p:nvPr/>
        </p:nvSpPr>
        <p:spPr>
          <a:xfrm>
            <a:off x="3200400" y="48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44"/>
          <p:cNvSpPr/>
          <p:nvPr/>
        </p:nvSpPr>
        <p:spPr>
          <a:xfrm>
            <a:off x="3447000" y="533412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th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0548-2DF3-4E67-8899-443F334DCFA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5191DFB5-2891-48DD-B04E-907244ED5A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ner DFA Exampl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Line 4"/>
          <p:cNvSpPr/>
          <p:nvPr/>
        </p:nvSpPr>
        <p:spPr>
          <a:xfrm>
            <a:off x="1143000" y="22860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5"/>
          <p:cNvSpPr/>
          <p:nvPr/>
        </p:nvSpPr>
        <p:spPr>
          <a:xfrm>
            <a:off x="114300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1461240" y="254628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5330160" y="358128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ept I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7" name="Group 11"/>
          <p:cNvGrpSpPr/>
          <p:nvPr/>
        </p:nvGrpSpPr>
        <p:grpSpPr>
          <a:xfrm>
            <a:off x="4572000" y="3429000"/>
            <a:ext cx="685800" cy="685800"/>
            <a:chOff x="4572000" y="3429000"/>
            <a:chExt cx="685800" cy="685800"/>
          </a:xfrm>
        </p:grpSpPr>
        <p:sp>
          <p:nvSpPr>
            <p:cNvPr id="468" name="Oval 12"/>
            <p:cNvSpPr/>
            <p:nvPr/>
          </p:nvSpPr>
          <p:spPr>
            <a:xfrm>
              <a:off x="4572000" y="342900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Oval 13"/>
            <p:cNvSpPr/>
            <p:nvPr/>
          </p:nvSpPr>
          <p:spPr>
            <a:xfrm>
              <a:off x="4647960" y="350496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0" name="Oval 14"/>
          <p:cNvSpPr/>
          <p:nvPr/>
        </p:nvSpPr>
        <p:spPr>
          <a:xfrm>
            <a:off x="2514600" y="251460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15"/>
          <p:cNvSpPr/>
          <p:nvPr/>
        </p:nvSpPr>
        <p:spPr>
          <a:xfrm>
            <a:off x="281952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Line 17"/>
          <p:cNvSpPr/>
          <p:nvPr/>
        </p:nvSpPr>
        <p:spPr>
          <a:xfrm>
            <a:off x="281952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Text Box 19"/>
          <p:cNvSpPr/>
          <p:nvPr/>
        </p:nvSpPr>
        <p:spPr>
          <a:xfrm>
            <a:off x="3447000" y="34290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th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Freeform 36"/>
          <p:cNvSpPr/>
          <p:nvPr/>
        </p:nvSpPr>
        <p:spPr>
          <a:xfrm>
            <a:off x="3135240" y="22860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696" h="768">
                <a:moveTo>
                  <a:pt x="48" y="576"/>
                </a:moveTo>
                <a:cubicBezTo>
                  <a:pt x="188" y="672"/>
                  <a:pt x="328" y="768"/>
                  <a:pt x="432" y="720"/>
                </a:cubicBezTo>
                <a:cubicBezTo>
                  <a:pt x="536" y="672"/>
                  <a:pt x="696" y="408"/>
                  <a:pt x="672" y="288"/>
                </a:cubicBezTo>
                <a:cubicBezTo>
                  <a:pt x="648" y="168"/>
                  <a:pt x="400" y="0"/>
                  <a:pt x="288" y="0"/>
                </a:cubicBezTo>
                <a:cubicBezTo>
                  <a:pt x="176" y="0"/>
                  <a:pt x="48" y="240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37"/>
          <p:cNvSpPr/>
          <p:nvPr/>
        </p:nvSpPr>
        <p:spPr>
          <a:xfrm>
            <a:off x="3975840" y="243828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4C36-CD92-46D0-8121-1B648451B87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229FAE55-B2E9-424E-8B33-6F6CA34E49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ategies for handling identifiers vs key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nd-written scanner: look up identifier-like things in table of keywords to classify (good application of perfect hashi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hine-generated scanner: generate DFA will appropriate transitions to recognize keyw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ts ’o states, but efficient (no extra lookup step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ner DFA Example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Line 3"/>
          <p:cNvSpPr/>
          <p:nvPr/>
        </p:nvSpPr>
        <p:spPr>
          <a:xfrm>
            <a:off x="114300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4"/>
          <p:cNvSpPr/>
          <p:nvPr/>
        </p:nvSpPr>
        <p:spPr>
          <a:xfrm>
            <a:off x="114300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1305720" y="254628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a-zA-Z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5303160" y="358128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ept ID or keywor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5" name="Group 7"/>
          <p:cNvGrpSpPr/>
          <p:nvPr/>
        </p:nvGrpSpPr>
        <p:grpSpPr>
          <a:xfrm>
            <a:off x="4572000" y="3429000"/>
            <a:ext cx="685800" cy="685800"/>
            <a:chOff x="4572000" y="3429000"/>
            <a:chExt cx="685800" cy="685800"/>
          </a:xfrm>
        </p:grpSpPr>
        <p:sp>
          <p:nvSpPr>
            <p:cNvPr id="486" name="Oval 8"/>
            <p:cNvSpPr/>
            <p:nvPr/>
          </p:nvSpPr>
          <p:spPr>
            <a:xfrm>
              <a:off x="4572000" y="342900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Oval 9"/>
            <p:cNvSpPr/>
            <p:nvPr/>
          </p:nvSpPr>
          <p:spPr>
            <a:xfrm>
              <a:off x="4647960" y="350496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8" name="Oval 10"/>
          <p:cNvSpPr/>
          <p:nvPr/>
        </p:nvSpPr>
        <p:spPr>
          <a:xfrm>
            <a:off x="2514600" y="251460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Line 11"/>
          <p:cNvSpPr/>
          <p:nvPr/>
        </p:nvSpPr>
        <p:spPr>
          <a:xfrm>
            <a:off x="281952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281952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ext Box 13"/>
          <p:cNvSpPr/>
          <p:nvPr/>
        </p:nvSpPr>
        <p:spPr>
          <a:xfrm>
            <a:off x="3447000" y="34290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th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Freeform 14"/>
          <p:cNvSpPr/>
          <p:nvPr/>
        </p:nvSpPr>
        <p:spPr>
          <a:xfrm>
            <a:off x="3135240" y="22860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696" h="768">
                <a:moveTo>
                  <a:pt x="48" y="576"/>
                </a:moveTo>
                <a:cubicBezTo>
                  <a:pt x="188" y="672"/>
                  <a:pt x="328" y="768"/>
                  <a:pt x="432" y="720"/>
                </a:cubicBezTo>
                <a:cubicBezTo>
                  <a:pt x="536" y="672"/>
                  <a:pt x="696" y="408"/>
                  <a:pt x="672" y="288"/>
                </a:cubicBezTo>
                <a:cubicBezTo>
                  <a:pt x="648" y="168"/>
                  <a:pt x="400" y="0"/>
                  <a:pt x="288" y="0"/>
                </a:cubicBezTo>
                <a:cubicBezTo>
                  <a:pt x="176" y="0"/>
                  <a:pt x="48" y="240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15"/>
          <p:cNvSpPr/>
          <p:nvPr/>
        </p:nvSpPr>
        <p:spPr>
          <a:xfrm>
            <a:off x="3983760" y="243828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a-zA-Z0-9_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4886-AE29-41B9-8533-9CE064C2639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1E6174BA-6D0E-4609-8F33-BDC5022F28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mmar for a Tiny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ssignStm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fSt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ssignStm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fStm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if (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a | b | c | i | j | k | n | x | y |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0 | 1 | 2 | 3 | 4 | 5 | 6 | 7 | 8 |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6824-305C-46D5-96F3-4C3ACC4D8AD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A25D545E-38EE-4930-984F-58CF566014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a Scanner by Hand – Token Re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oken is a simple, tagged 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class Toke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int kind;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token’s lexical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int intVal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integer value if class =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String id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actual identifier if class = 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lexical clas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static final int EOF = 0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“end of file” tok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static final int ID   = 1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identifier, not keywo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static final int INT = 2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integ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static final int LPAREN = 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static final int SCOLN   = 5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static final int WHILE   = 6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etc. etc. etc.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D327-FA80-43B9-90FF-55804C39BE4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3BEC0961-586B-4E89-82F2-67DFB57982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ple Scann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global state and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c char nextch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next unprocessed input charac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advance to next input ch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id getch() { …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skip whitespace and com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id skipWhitespace() { …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7CC8-28B1-464D-8F90-D5C59DFD8BF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FCCA0F3D-15B3-427C-956D-FBA471499C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ner getToken()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return next input tok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Token getToken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ke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kipWhiteSpac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(no more inpu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 = new Token(Token.EOF); 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(nextch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e '(': result = new Token(Token.LPAREN); getch(); return resul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e ‘)': result = new Token(Token.RPAREN); getch(); 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e ‘;': result = new Token(Token.SCOLON); getch(); 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etc.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D113-A643-4961-89C3-54605AA3584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0AFCB3EC-9E6B-4AA5-9BB1-C613AC4D1B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tToken()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e '!': // ! or !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ch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(nextch == '='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 = new Token(Token.NEQ); getch(); 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 = new Token(Token.NOT); 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e '&lt;': // &lt; or &lt;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ch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(nextch == '='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 = new Token(Token.LEQ); getch(); 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 = new Token(Token.LESS); 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etc.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88B3-DF53-4021-BEBB-AB4919B5D0D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3287F251-FC62-45ED-BC41-92A46C69C4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tToken()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e '0': case '1': case '2': case '3': case '4'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e '5': case '6': case '7': case '8': case '9'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integer const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ing num = nextc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ch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le (nextch is a digi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 = num + nextch; getch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 = new Token(Token.INT, Integer(num).intValu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5724-3F48-4064-B6E1-8133ABE2F65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247FB540-2262-4938-8D52-CCFEB634D2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tToken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'a': … case 'z'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'A': … case 'Z':  // id or keywo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ng s = nextch; getch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le (nextch is a letter, digit, or underscor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= s + nextch; getch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(s is a keyword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 = new Token(keywordTable.getKind(s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 = new Token(Token.ID,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D659-9F07-4F5E-B6D7-ABDA09FDE0C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33B874E2-2B3A-428F-8054-E7033BC4AF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ject No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the course project, use a lexical analyzer gen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ggestion: JFlex a Java Lex-looka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Works with CUP – a Java yacc/bison implemen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A544-1BC1-461D-B034-B927B2FA025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4716A90F-5D82-4390-A1A7-84981B9D75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ing Attr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ework this week: paper exercises on regular expression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week: first part of the compiler assignment – the 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the project from Ch. 2 of Appel’s b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topic: par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do LR parsing first – suggest using this for the project (thus CUP (YACC-like) instead of JavaCC or ANTL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time to start reading chs. 3 &amp; 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834C-338E-4521-8CC3-4B10BAABD7D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DC8DEEA3-6766-481E-8184-AF345EAFC2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d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ules of a grammar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les cont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terminal symbols: grammar variables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gram, statement, id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l symbols: concrete syntax that appears in programs (a, b, c, 0, 1, if, (, )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ing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nterm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:= &lt;sequence of terminals and nonterminal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 derivation, an instance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nterm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be replaced by the sequence of terminals and nonterminals on the right of the prod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, there are two or more productions for one nonterminal – use any in different part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D7E4-9AD6-481A-B600-F6F97729525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82F51E2F-75C0-4837-A9F4-E81750C15D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ve No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several syntax notations for productions in common use; all mean the same 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fStm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:= if (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fStm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if (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ifStmt&gt; ::= if ( &lt;expr&gt; ) &lt;stm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281952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43BA-E41A-4068-A27D-A49D981F725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F3A8BAA4-0E36-4F09-A7E4-21CC3163AF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= 1  ;   if   (   a    +    1   )      b  =  2 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876560" y="0"/>
            <a:ext cx="4188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tat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ssignStm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fStm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ssignStm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fStm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::= if (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)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tm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exp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exp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::= a | b | c | i | j | k | n | x | y | 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 ::= 0 | 1 | 2 | 3 | 4 | 5 | 6 | 7 | 8 | 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4F0F-3E25-4760-B110-CFB6D00D391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47947DB9-39A5-4ADD-9E7C-8CC5A51F5E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sing: reconstruct the derivation (syntactic structure) of a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inciple, a single recognizer could work directly from a concrete, character-by-character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 this is never d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DDE5-CF71-4CEB-A2DA-5BE55B0B037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-</a:t>
            </a:r>
            <a:fld id="{327BFAA1-56F4-488E-B51A-72A970DE51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sing &amp; Scan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real compilers the recognizer is split into two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nner: translate input characters to tok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, report lexical errors like illegal characters and illegal symb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er: read token stream and reconstruct the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2860560" y="5105520"/>
            <a:ext cx="3768840" cy="838080"/>
            <a:chOff x="2860560" y="5105520"/>
            <a:chExt cx="3768840" cy="838080"/>
          </a:xfrm>
        </p:grpSpPr>
        <p:sp>
          <p:nvSpPr>
            <p:cNvPr id="154" name="Rectangle 5"/>
            <p:cNvSpPr/>
            <p:nvPr/>
          </p:nvSpPr>
          <p:spPr>
            <a:xfrm>
              <a:off x="3657600" y="5105520"/>
              <a:ext cx="1066680" cy="8380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ca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Rectangle 6"/>
            <p:cNvSpPr/>
            <p:nvPr/>
          </p:nvSpPr>
          <p:spPr>
            <a:xfrm>
              <a:off x="5562360" y="5105520"/>
              <a:ext cx="1067040" cy="8380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ars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>
              <a:off x="2895480" y="55623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4724280" y="55623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2860560" y="5257800"/>
              <a:ext cx="7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4766400" y="5257800"/>
              <a:ext cx="7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01:44:57Z</dcterms:created>
  <dc:creator>Hal Perkins</dc:creator>
  <dc:description/>
  <dc:language>en-US</dc:language>
  <cp:lastModifiedBy>Bakare</cp:lastModifiedBy>
  <dcterms:modified xsi:type="dcterms:W3CDTF">2015-08-17T10:13:35Z</dcterms:modified>
  <cp:revision>51</cp:revision>
  <dc:subject/>
  <dc:title>CSE 582 – Compilers</dc:title>
</cp:coreProperties>
</file>